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0A7-8C5E-4E69-BB2E-24E4D49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51B-204D-4C5B-AD1E-D396FEC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548-6873-4007-AF7F-9870A390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CD0-E9C8-45CB-A05B-C82CFA6B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F5-82D6-4FD2-AF69-E21B853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2B8-2532-48C5-8FC7-F262CFA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CC9-3D0E-4423-BEF1-BBA0D96B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221-0E5A-4C22-AE5A-E40CE218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97C-617E-4A14-8D7B-F7281E8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1BB-9A8D-4406-BE79-FF98961A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CE6-397C-4C27-8CD6-476AFA8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A88-BEBD-4954-BBB2-B4212A0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05D-F6CE-44A4-AC57-698C386B70D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26828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MESS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44640"/>
            <a:ext cx="8569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a CRISI alla CONSAPEVOL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nostra FRAGILITA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FINE della convinzione che il/ i saperi ci avrebbero portato felicità e dominio del mon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FINE del MITO DELLE TECNOLOGIE al servizio dell’Uom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l’Io da padrone delle tecnologie ne è diventato un POSSES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iò non può non aver generato effetti sull’Io, sulla sua DISGREGAZIONE, alla base di una nuova SOGGETTIVITA’ STRAN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6473880" y="4664880"/>
            <a:ext cx="2321280" cy="1939320"/>
            <a:chOff x="6473880" y="4664880"/>
            <a:chExt cx="2321280" cy="1939320"/>
          </a:xfrm>
        </p:grpSpPr>
        <p:sp>
          <p:nvSpPr>
            <p:cNvPr id="133" name="_s13317"/>
            <p:cNvSpPr/>
            <p:nvPr/>
          </p:nvSpPr>
          <p:spPr>
            <a:xfrm>
              <a:off x="6912360" y="4664880"/>
              <a:ext cx="1444680" cy="1348920"/>
            </a:xfrm>
            <a:custGeom>
              <a:avLst/>
              <a:gdLst>
                <a:gd name="textAreaLeft" fmla="*/ 0 w 1444680"/>
                <a:gd name="textAreaRight" fmla="*/ 1444680 w 1444680"/>
                <a:gd name="textAreaTop" fmla="*/ 0 h 1348920"/>
                <a:gd name="textAreaBottom" fmla="*/ 134928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3318"/>
            <p:cNvSpPr/>
            <p:nvPr/>
          </p:nvSpPr>
          <p:spPr>
            <a:xfrm rot="7200000">
              <a:off x="715788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3319"/>
            <p:cNvSpPr/>
            <p:nvPr/>
          </p:nvSpPr>
          <p:spPr>
            <a:xfrm rot="14400000">
              <a:off x="676224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3320"/>
            <p:cNvSpPr/>
            <p:nvPr/>
          </p:nvSpPr>
          <p:spPr>
            <a:xfrm>
              <a:off x="8030160" y="491184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3321"/>
            <p:cNvSpPr/>
            <p:nvPr/>
          </p:nvSpPr>
          <p:spPr>
            <a:xfrm>
              <a:off x="7345800" y="6021360"/>
              <a:ext cx="5792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migl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322"/>
            <p:cNvSpPr/>
            <p:nvPr/>
          </p:nvSpPr>
          <p:spPr>
            <a:xfrm>
              <a:off x="6658920" y="491256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c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093080" y="5950080"/>
            <a:ext cx="1152360" cy="71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205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5 in condotta … un’opportunità da non far cad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famiglie, un’incogni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sano solo i risultati dei figli, anche in aperto conflitto con i doc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hé partecipano poco alla vita della scuo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473880" y="4664880"/>
            <a:ext cx="2321280" cy="1939320"/>
            <a:chOff x="6473880" y="4664880"/>
            <a:chExt cx="2321280" cy="1939320"/>
          </a:xfrm>
        </p:grpSpPr>
        <p:sp>
          <p:nvSpPr>
            <p:cNvPr id="144" name="_s14341"/>
            <p:cNvSpPr/>
            <p:nvPr/>
          </p:nvSpPr>
          <p:spPr>
            <a:xfrm>
              <a:off x="6912360" y="4664880"/>
              <a:ext cx="1444680" cy="1348920"/>
            </a:xfrm>
            <a:custGeom>
              <a:avLst/>
              <a:gdLst>
                <a:gd name="textAreaLeft" fmla="*/ 0 w 1444680"/>
                <a:gd name="textAreaRight" fmla="*/ 1444680 w 1444680"/>
                <a:gd name="textAreaTop" fmla="*/ 0 h 1348920"/>
                <a:gd name="textAreaBottom" fmla="*/ 134928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4342"/>
            <p:cNvSpPr/>
            <p:nvPr/>
          </p:nvSpPr>
          <p:spPr>
            <a:xfrm rot="7200000">
              <a:off x="715788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4343"/>
            <p:cNvSpPr/>
            <p:nvPr/>
          </p:nvSpPr>
          <p:spPr>
            <a:xfrm rot="14400000">
              <a:off x="676224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344"/>
            <p:cNvSpPr/>
            <p:nvPr/>
          </p:nvSpPr>
          <p:spPr>
            <a:xfrm>
              <a:off x="8030160" y="491184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345"/>
            <p:cNvSpPr/>
            <p:nvPr/>
          </p:nvSpPr>
          <p:spPr>
            <a:xfrm>
              <a:off x="7345800" y="6021360"/>
              <a:ext cx="5792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migl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346"/>
            <p:cNvSpPr/>
            <p:nvPr/>
          </p:nvSpPr>
          <p:spPr>
            <a:xfrm>
              <a:off x="6658920" y="491256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c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667640" y="4869000"/>
            <a:ext cx="1152360" cy="71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151000"/>
            <a:ext cx="81356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nostri ragazzi, portatori di BISOG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insegnanti capaci dal punto di vista discipli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insegnanti che sappiano coniugare disciplina e relazione, che sappiano vedere, ascoltare, rapporta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insegnanti che operino in trasparenza per diventare consapevoli delle proprie azioni, delle conseguenza, del merito e del demerito, delle regole da stabilire e appl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la consapevolezza del proprio ruolo centrale nella rifondazione della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la possibilità di diventare parte attiva nella pe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2621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T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1960" y="2019600"/>
            <a:ext cx="8197560" cy="4187520"/>
            <a:chOff x="381960" y="2019600"/>
            <a:chExt cx="8197560" cy="4187520"/>
          </a:xfrm>
        </p:grpSpPr>
        <p:sp>
          <p:nvSpPr>
            <p:cNvPr id="156" name="_s15376"/>
            <p:cNvSpPr/>
            <p:nvPr/>
          </p:nvSpPr>
          <p:spPr>
            <a:xfrm>
              <a:off x="3120120" y="2614680"/>
              <a:ext cx="2720520" cy="1701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5377"/>
            <p:cNvSpPr/>
            <p:nvPr/>
          </p:nvSpPr>
          <p:spPr>
            <a:xfrm>
              <a:off x="3764880" y="2019600"/>
              <a:ext cx="1431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IG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isi cont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zione bisog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oste di relazion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zione di raccor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5382"/>
            <p:cNvSpPr/>
            <p:nvPr/>
          </p:nvSpPr>
          <p:spPr>
            <a:xfrm>
              <a:off x="4155840" y="3262320"/>
              <a:ext cx="2720520" cy="1702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5383"/>
            <p:cNvSpPr/>
            <p:nvPr/>
          </p:nvSpPr>
          <p:spPr>
            <a:xfrm>
              <a:off x="7148160" y="3900600"/>
              <a:ext cx="1431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peri disciplin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etenze relazion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spare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apevol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ole chiar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 condividere con ge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 stud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5384"/>
            <p:cNvSpPr/>
            <p:nvPr/>
          </p:nvSpPr>
          <p:spPr>
            <a:xfrm>
              <a:off x="3120120" y="3909960"/>
              <a:ext cx="2720520" cy="1702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5385"/>
            <p:cNvSpPr/>
            <p:nvPr/>
          </p:nvSpPr>
          <p:spPr>
            <a:xfrm>
              <a:off x="3764880" y="5781960"/>
              <a:ext cx="1431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MIGL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apevolezza, partecipazione, ascolto e collaborazione, recupero capacità educative, gruppi mutuo aiu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5386"/>
            <p:cNvSpPr/>
            <p:nvPr/>
          </p:nvSpPr>
          <p:spPr>
            <a:xfrm>
              <a:off x="2084760" y="3262320"/>
              <a:ext cx="2720520" cy="17020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5387"/>
            <p:cNvSpPr/>
            <p:nvPr/>
          </p:nvSpPr>
          <p:spPr>
            <a:xfrm>
              <a:off x="381960" y="3900600"/>
              <a:ext cx="1431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ALLIEVI / STUD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ndivisione rego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Uso consapevole tecn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inalità sap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gestione problem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Peer 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Peer med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Esperienze formative in / fuor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dalla scuo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987640" y="357336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UNITA’ 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13800" cy="446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421000"/>
            <a:ext cx="849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APEVOLEZ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aiuterà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Z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ARCA nel MARE IN TEMPES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empesta in cui si trova chi vive in un profondo disa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26828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MESS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PROCCIO SISTEM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23200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165096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20318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IOV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989000"/>
            <a:ext cx="576360" cy="4032360"/>
          </a:xfrm>
          <a:custGeom>
            <a:avLst/>
            <a:gdLst>
              <a:gd name="textAreaLeft" fmla="*/ 0 w 576360"/>
              <a:gd name="textAreaRight" fmla="*/ 208080 w 57636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94200" y="2565360"/>
            <a:ext cx="3781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luralità di “ATTORI” accanto ai giova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loud"/>
          <p:cNvSpPr/>
          <p:nvPr/>
        </p:nvSpPr>
        <p:spPr>
          <a:xfrm>
            <a:off x="539640" y="1916280"/>
            <a:ext cx="7272360" cy="4033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55040" y="1818360"/>
            <a:ext cx="4416120" cy="4194000"/>
            <a:chOff x="2255040" y="1818360"/>
            <a:chExt cx="4416120" cy="4194000"/>
          </a:xfrm>
        </p:grpSpPr>
        <p:sp>
          <p:nvSpPr>
            <p:cNvPr id="60" name="_s6161"/>
            <p:cNvSpPr/>
            <p:nvPr/>
          </p:nvSpPr>
          <p:spPr>
            <a:xfrm flipH="1" flipV="1">
              <a:off x="3370320" y="3727080"/>
              <a:ext cx="54828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0"/>
            <p:cNvSpPr/>
            <p:nvPr/>
          </p:nvSpPr>
          <p:spPr>
            <a:xfrm>
              <a:off x="2255040" y="2987640"/>
              <a:ext cx="1145520" cy="112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 flipH="1">
              <a:off x="3789360" y="4530960"/>
              <a:ext cx="3369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158"/>
            <p:cNvSpPr/>
            <p:nvPr/>
          </p:nvSpPr>
          <p:spPr>
            <a:xfrm>
              <a:off x="2879640" y="4883400"/>
              <a:ext cx="1145520" cy="112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or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7"/>
            <p:cNvSpPr/>
            <p:nvPr/>
          </p:nvSpPr>
          <p:spPr>
            <a:xfrm>
              <a:off x="4798440" y="4530960"/>
              <a:ext cx="33876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156"/>
            <p:cNvSpPr/>
            <p:nvPr/>
          </p:nvSpPr>
          <p:spPr>
            <a:xfrm>
              <a:off x="4901400" y="4883400"/>
              <a:ext cx="1145520" cy="112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ntri giov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55"/>
            <p:cNvSpPr/>
            <p:nvPr/>
          </p:nvSpPr>
          <p:spPr>
            <a:xfrm flipV="1">
              <a:off x="5005800" y="3725640"/>
              <a:ext cx="546840" cy="17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54"/>
            <p:cNvSpPr/>
            <p:nvPr/>
          </p:nvSpPr>
          <p:spPr>
            <a:xfrm>
              <a:off x="5525640" y="2989080"/>
              <a:ext cx="1145520" cy="112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ituzi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53"/>
            <p:cNvSpPr/>
            <p:nvPr/>
          </p:nvSpPr>
          <p:spPr>
            <a:xfrm flipV="1">
              <a:off x="4462560" y="294552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52"/>
            <p:cNvSpPr/>
            <p:nvPr/>
          </p:nvSpPr>
          <p:spPr>
            <a:xfrm>
              <a:off x="3890160" y="1818360"/>
              <a:ext cx="1145520" cy="112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migl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151"/>
            <p:cNvSpPr/>
            <p:nvPr/>
          </p:nvSpPr>
          <p:spPr>
            <a:xfrm>
              <a:off x="3890160" y="3512880"/>
              <a:ext cx="1145520" cy="1128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CUOL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71640" y="45752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IOV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301840"/>
            <a:ext cx="8496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CUOLA, luogo deputato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RUIRE, EDUCARE, FORMARE, PREVEN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CUOLA, luogo eletto per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izzazione e scenario di relazioni complesse e relazioni diffici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zioni all’interno del gruppo dei pari, fra gruppi di pari, fra pari e adulti di riferimento, fra adulti con ruoli e funzioni 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zioni in quanto Istituzione con altre Istituzioni, Enti, realtà presenti sul territorio a livello locale e nazion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060640"/>
            <a:ext cx="849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messa metodolog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azione di contrasto alla violenza giovanile si colloca all’interno di un processo di promozione alla salute e al benessere che genera meccanismi adattivi e modific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episodi di violenza e bullismo così come le azioni di contrasto nascono all’interno dei meccanismi adattivi e modific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720" y="48751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punto di partenza non può prescindere dall’APPROCCIO EDUCATIVO, che consente di promuovere cambiamenti significativi nel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4365720"/>
            <a:ext cx="936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84464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proccio pedagogico glob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ttolinea l’educabilità dei soggetti e attiva un processo di maturazione e cambiamento del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57360" y="3509640"/>
            <a:ext cx="3077280" cy="2502000"/>
            <a:chOff x="657360" y="3509640"/>
            <a:chExt cx="3077280" cy="2502000"/>
          </a:xfrm>
        </p:grpSpPr>
        <p:sp>
          <p:nvSpPr>
            <p:cNvPr id="84" name="_s9239"/>
            <p:cNvSpPr/>
            <p:nvPr/>
          </p:nvSpPr>
          <p:spPr>
            <a:xfrm flipH="1">
              <a:off x="1453320" y="5240520"/>
              <a:ext cx="372600" cy="19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9238"/>
            <p:cNvSpPr/>
            <p:nvPr/>
          </p:nvSpPr>
          <p:spPr>
            <a:xfrm>
              <a:off x="657360" y="5241960"/>
              <a:ext cx="85500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vilupp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l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sor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9237"/>
            <p:cNvSpPr/>
            <p:nvPr/>
          </p:nvSpPr>
          <p:spPr>
            <a:xfrm>
              <a:off x="2564640" y="5240520"/>
              <a:ext cx="37152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9236"/>
            <p:cNvSpPr/>
            <p:nvPr/>
          </p:nvSpPr>
          <p:spPr>
            <a:xfrm>
              <a:off x="2879280" y="524196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tenzialit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9235"/>
            <p:cNvSpPr/>
            <p:nvPr/>
          </p:nvSpPr>
          <p:spPr>
            <a:xfrm flipV="1">
              <a:off x="2195640" y="4277880"/>
              <a:ext cx="0" cy="3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9234"/>
            <p:cNvSpPr/>
            <p:nvPr/>
          </p:nvSpPr>
          <p:spPr>
            <a:xfrm>
              <a:off x="1768320" y="3509640"/>
              <a:ext cx="85500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Progettualit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9233"/>
            <p:cNvSpPr/>
            <p:nvPr/>
          </p:nvSpPr>
          <p:spPr>
            <a:xfrm>
              <a:off x="1768320" y="4664520"/>
              <a:ext cx="855000" cy="769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rogettazi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sistenzi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780000" y="4076640"/>
            <a:ext cx="576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78440" y="3509640"/>
            <a:ext cx="3077640" cy="3077640"/>
            <a:chOff x="4978440" y="3509640"/>
            <a:chExt cx="3077640" cy="3077640"/>
          </a:xfrm>
        </p:grpSpPr>
        <p:sp>
          <p:nvSpPr>
            <p:cNvPr id="93" name="_s9256"/>
            <p:cNvSpPr/>
            <p:nvPr/>
          </p:nvSpPr>
          <p:spPr>
            <a:xfrm flipH="1" flipV="1">
              <a:off x="5774400" y="4663800"/>
              <a:ext cx="37260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55"/>
            <p:cNvSpPr/>
            <p:nvPr/>
          </p:nvSpPr>
          <p:spPr>
            <a:xfrm>
              <a:off x="4978440" y="408744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venz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9254"/>
            <p:cNvSpPr/>
            <p:nvPr/>
          </p:nvSpPr>
          <p:spPr>
            <a:xfrm flipH="1">
              <a:off x="5775480" y="5240520"/>
              <a:ext cx="37260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9253"/>
            <p:cNvSpPr/>
            <p:nvPr/>
          </p:nvSpPr>
          <p:spPr>
            <a:xfrm>
              <a:off x="4979520" y="524196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mazi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9252"/>
            <p:cNvSpPr/>
            <p:nvPr/>
          </p:nvSpPr>
          <p:spPr>
            <a:xfrm>
              <a:off x="6517800" y="5430960"/>
              <a:ext cx="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9251"/>
            <p:cNvSpPr/>
            <p:nvPr/>
          </p:nvSpPr>
          <p:spPr>
            <a:xfrm>
              <a:off x="6090840" y="581760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azione c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tri sape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9244"/>
            <p:cNvSpPr/>
            <p:nvPr/>
          </p:nvSpPr>
          <p:spPr>
            <a:xfrm>
              <a:off x="6885720" y="5239440"/>
              <a:ext cx="372600" cy="1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9245"/>
            <p:cNvSpPr/>
            <p:nvPr/>
          </p:nvSpPr>
          <p:spPr>
            <a:xfrm>
              <a:off x="7200720" y="524052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vilupp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l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sor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9246"/>
            <p:cNvSpPr/>
            <p:nvPr/>
          </p:nvSpPr>
          <p:spPr>
            <a:xfrm flipV="1">
              <a:off x="6885720" y="4662360"/>
              <a:ext cx="37152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47"/>
            <p:cNvSpPr/>
            <p:nvPr/>
          </p:nvSpPr>
          <p:spPr>
            <a:xfrm>
              <a:off x="7200720" y="408636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tenzialit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48"/>
            <p:cNvSpPr/>
            <p:nvPr/>
          </p:nvSpPr>
          <p:spPr>
            <a:xfrm flipV="1">
              <a:off x="6516720" y="4277880"/>
              <a:ext cx="0" cy="3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49"/>
            <p:cNvSpPr/>
            <p:nvPr/>
          </p:nvSpPr>
          <p:spPr>
            <a:xfrm>
              <a:off x="6089760" y="3509640"/>
              <a:ext cx="855360" cy="76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Progettualit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50"/>
            <p:cNvSpPr/>
            <p:nvPr/>
          </p:nvSpPr>
          <p:spPr>
            <a:xfrm>
              <a:off x="6089760" y="4664520"/>
              <a:ext cx="855360" cy="769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rogettazi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sistenzi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95280" y="2990880"/>
            <a:ext cx="8353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l’approccio pedagogico globale alla progettazione e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64500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645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e coll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09800"/>
            <a:ext cx="8280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MODELLO PREVENTIVO INTEG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volgere i diversi aspetti dell’edu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olgersi ai diversi protagonisti dell’edu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rsi sull’Uomo portatore di bisogni moltep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ire attraverso la progettazione e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30280" y="4177080"/>
            <a:ext cx="2759400" cy="2179800"/>
            <a:chOff x="5930280" y="4177080"/>
            <a:chExt cx="2759400" cy="2179800"/>
          </a:xfrm>
        </p:grpSpPr>
        <p:sp>
          <p:nvSpPr>
            <p:cNvPr id="113" name="_s10250"/>
            <p:cNvSpPr/>
            <p:nvPr/>
          </p:nvSpPr>
          <p:spPr>
            <a:xfrm>
              <a:off x="6425280" y="4177080"/>
              <a:ext cx="1769760" cy="148464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1484640"/>
                <a:gd name="textAreaBottom" fmla="*/ 1485000 h 148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251"/>
            <p:cNvSpPr/>
            <p:nvPr/>
          </p:nvSpPr>
          <p:spPr>
            <a:xfrm rot="7200000">
              <a:off x="6810120" y="4386600"/>
              <a:ext cx="1484280" cy="176976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53"/>
            <p:cNvSpPr/>
            <p:nvPr/>
          </p:nvSpPr>
          <p:spPr>
            <a:xfrm rot="14400000">
              <a:off x="6325200" y="4386240"/>
              <a:ext cx="1484280" cy="176976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48"/>
            <p:cNvSpPr/>
            <p:nvPr/>
          </p:nvSpPr>
          <p:spPr>
            <a:xfrm>
              <a:off x="7794360" y="4448880"/>
              <a:ext cx="7099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49"/>
            <p:cNvSpPr/>
            <p:nvPr/>
          </p:nvSpPr>
          <p:spPr>
            <a:xfrm>
              <a:off x="6955920" y="5670000"/>
              <a:ext cx="7099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migl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252"/>
            <p:cNvSpPr/>
            <p:nvPr/>
          </p:nvSpPr>
          <p:spPr>
            <a:xfrm>
              <a:off x="6114600" y="4449600"/>
              <a:ext cx="7099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11280" y="5013360"/>
            <a:ext cx="31687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riangolo delle Bermu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6473880" y="4664880"/>
            <a:ext cx="2321280" cy="1939320"/>
            <a:chOff x="6473880" y="4664880"/>
            <a:chExt cx="2321280" cy="1939320"/>
          </a:xfrm>
        </p:grpSpPr>
        <p:sp>
          <p:nvSpPr>
            <p:cNvPr id="122" name="_s11270"/>
            <p:cNvSpPr/>
            <p:nvPr/>
          </p:nvSpPr>
          <p:spPr>
            <a:xfrm>
              <a:off x="6912360" y="4664880"/>
              <a:ext cx="1444680" cy="1348920"/>
            </a:xfrm>
            <a:custGeom>
              <a:avLst/>
              <a:gdLst>
                <a:gd name="textAreaLeft" fmla="*/ 0 w 1444680"/>
                <a:gd name="textAreaRight" fmla="*/ 1444680 w 1444680"/>
                <a:gd name="textAreaTop" fmla="*/ 0 h 1348920"/>
                <a:gd name="textAreaBottom" fmla="*/ 134928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1271"/>
            <p:cNvSpPr/>
            <p:nvPr/>
          </p:nvSpPr>
          <p:spPr>
            <a:xfrm rot="7200000">
              <a:off x="715788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272"/>
            <p:cNvSpPr/>
            <p:nvPr/>
          </p:nvSpPr>
          <p:spPr>
            <a:xfrm rot="14400000">
              <a:off x="6762240" y="4936680"/>
              <a:ext cx="1348560" cy="14446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444680"/>
                <a:gd name="textAreaBottom" fmla="*/ 1444680 h 14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1273"/>
            <p:cNvSpPr/>
            <p:nvPr/>
          </p:nvSpPr>
          <p:spPr>
            <a:xfrm>
              <a:off x="8030160" y="491184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1274"/>
            <p:cNvSpPr/>
            <p:nvPr/>
          </p:nvSpPr>
          <p:spPr>
            <a:xfrm>
              <a:off x="7345800" y="6021360"/>
              <a:ext cx="5792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migl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275"/>
            <p:cNvSpPr/>
            <p:nvPr/>
          </p:nvSpPr>
          <p:spPr>
            <a:xfrm>
              <a:off x="6658920" y="4912560"/>
              <a:ext cx="579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cent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372360" y="4870440"/>
            <a:ext cx="1152360" cy="719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341360"/>
            <a:ext cx="878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)fondiamo il “gioco delle parti” nelle relazioni educative in adolesc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205000"/>
            <a:ext cx="813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dattica è la RISORSA in pi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parenza e consapevolez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ono diventare la molla che può far crescere la motivazione loro e dei loro allievi, quel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zione che agevola la relazione e la comunic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 gli altri soggetti della scuola, prima di tutto con i loro alli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tt.ssa Mariagrazia Zanaboni, april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13:46Z</dcterms:created>
  <dc:creator>.</dc:creator>
  <dc:description/>
  <dc:language>en-US</dc:language>
  <cp:lastModifiedBy>Zana</cp:lastModifiedBy>
  <dcterms:modified xsi:type="dcterms:W3CDTF">2009-03-30T11:46:38Z</dcterms:modified>
  <cp:revision>24</cp:revision>
  <dc:subject/>
  <dc:title>Diapositiva 1</dc:title>
</cp:coreProperties>
</file>