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562-F331-44FC-A294-EFC921FF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D0A-7C82-455C-B527-BFA1F45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1CD-E80E-4477-9A47-7315FB19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4E8-44B8-4775-B829-BFC58E0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49E-2CE3-4E60-B8D3-3F889926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CA9-6033-49A1-9C74-867F5B9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0DF-A986-453A-B04D-7A44B84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8E3-7373-488D-8343-4E7C418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805-2F2B-4C72-94DE-3C80DD3B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B0C-41F5-4854-8F6A-DD8A4DC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4BF-9DA8-4C64-B6BE-B5CE9C7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F6C-CAC6-431B-89FE-6512142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A57-0919-4668-B2F8-814F54504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montailbullo.i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oc%20Import%20Angelo/Questionari%20Bullismo%203b/QUESTIONARIO%20Gruppi%20di%20supporto3.doc" TargetMode="External"/><Relationship Id="rId2" Type="http://schemas.openxmlformats.org/officeDocument/2006/relationships/hyperlink" Target="file:///Doc%20Import%20Angelo/Questionari%20Bullismo%203b/questionario%20Studenti3.doc" TargetMode="External"/><Relationship Id="rId3" Type="http://schemas.openxmlformats.org/officeDocument/2006/relationships/hyperlink" Target="file:///Doc%20Import%20Angelo/Questionari%20Bullismo%203b/Guida%20compilaz%20questionari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 ricerca regionale sul fenomeno del Bullismo nelle scuole di 1° e 2° grado della regione BASILIC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tti metodologic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ra del Prof. Angelo BERI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838080"/>
            <a:ext cx="693396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o dell’Istruzione , dell’Università e della Ricer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Scolastico Regionale per la Basilic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zione Gene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servatorio Regionale Permanente sul Bul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51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73332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71424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685800"/>
            <a:ext cx="8382240" cy="545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</a:t>
            </a:r>
            <a:r>
              <a:rPr b="1" i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LESSIV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a Sec. di 1° grad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E CHE HANNO PARTECIPATO ALLA RICERCA. n°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5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OTENZ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TER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05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8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O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838080"/>
            <a:ext cx="8305920" cy="48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a Sec. di 1° grado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E CHE HANNO PARTECIPATO ALLA RICERCA. n°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38080"/>
            <a:ext cx="8305920" cy="32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a Sec. di 1° grado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E CHE HANNO PARTECIPATO ALLA RICERCA. n°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65040"/>
            <a:ext cx="8305920" cy="59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</a:t>
            </a:r>
            <a:r>
              <a:rPr b="1" i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LESSIV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uola Sec. di 2°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it-IT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CUOLE CHE HANNO PARTECIPATO ALLA RICERCA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n°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7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ui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 </a:t>
            </a:r>
            <a:r>
              <a:rPr b="1" lang="it-IT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OTENZ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 MATERA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   </a:t>
            </a:r>
            <a:r>
              <a:rPr b="1" lang="it-IT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01</a:t>
            </a:r>
            <a:r>
              <a:rPr b="1" lang="it-IT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1 </a:t>
            </a:r>
            <a:r>
              <a:rPr b="1" lang="it-IT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O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0 M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64771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143000"/>
            <a:ext cx="8305920" cy="38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uola Sec. di 2° grado di PO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E CHE HANNO PARTECIPATO ALLA RICERCA. n°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: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143000"/>
            <a:ext cx="8458200" cy="365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RUPPI DI SUPPORT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uola Sec. di 2° grado di M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OLE CHE HANNO PARTECIPATO ALLA RICERCA.  n°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HEDE COMPILATE  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685800"/>
            <a:ext cx="85341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cune considerazioni di carattere “metodolo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appare dalle istruzioni, la compilazione del questionario non poneva particolari difficoltà, tuttavia la verifica dei questionari restituiti dai Gruppi di Supporto e dagli studenti ha messo in luce alcune criticità dovute, probabilmente, alla non chiara comunicazione tra l’USR e le singole scuole, per cui si sono riscontrat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olteplici modalità di compil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i questionari che hanno reso alquanto “faticoso” il lavoro di interpretazione e  tabulazione dei d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 termine del lavoro di tabulazione si è provveduto ad una prima analisi dei dati emersi dai questionari distinti per provincia (PZ e MT), per Gruppi di Supporto e per Studenti  delle scuole di 1° e 2°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ta inteso che dopo una prima analisi dei dati di seguito esposta, una più approfondita analisi e riflessione sugli stessi sarà effettuata nei prossimi mesi e i  risultati saranno messi a disposizione delle singole Scuole ed Istitu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 R A Z 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ttuazione della Campagna Nazionale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“Smonta il Bullo”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ssa dal precedente Ministro della Pubblica Istruzione Fioroni, e confermata dall’attuale Ministro Gelmini, l’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servatorio Regionale Permanente sul Bullism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Regionale di Basilicata ha promosso  la prima ricerca sul fenomeno del bullismo nelle scuole di 1° e 2° grado  per verificarne la reale incidenza nella nostra reg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realizzazione della stessa l’Ufficio Scolastico Regionale si è avvalso, oltre che della collaborazione della Task Force sul bullismo appositamente costituita lo scorso anno, anche  della collaborazione di varie figure professionali, tra cui insegnanti, psicologi, sociologi, criminologi e avvoc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762120"/>
            <a:ext cx="82296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 punto di vista metodologico si è proceduto elaborando due format di question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rim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mposto da 19 domande da sottoporre ai Gruppi di Supporto presenti presso le  scuole secondarie di 1° e 2° gr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secon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mposto da 8 domande da somministrare direttamente agli stud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sono stati entrambi inviati alle scuole accompagnati da una lettera dell’Ufficio Scolastico Regionale contenente sia le finalità dell’indagine sia l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modalità di compilazio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olta pervenuti tutti i questionari si è provveduto alla tabulazione dei dati mediante le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RIGLI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 in preced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533520"/>
            <a:ext cx="8686800" cy="548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 BULLISMO NELLE SCUOLE DI BASILIC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</a:t>
            </a:r>
            <a:r>
              <a:rPr b="1" i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LESSIV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 </a:t>
            </a:r>
            <a:r>
              <a:rPr b="1" lang="it-IT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Alunni 1° Grado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E SCUOLE CHE HANNO PARTECIPATO ALLA RICERCA.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°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6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32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TENZ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ER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1035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i cui         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536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CHI    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99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   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1035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761</a:t>
            </a:r>
            <a:r>
              <a:rPr b="1" lang="it-IT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TENZA      M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98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74</a:t>
            </a:r>
            <a:r>
              <a:rPr b="1" lang="it-IT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ERA        M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38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42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 QUESTIONARIO </a:t>
            </a:r>
            <a:r>
              <a:rPr b="1" lang="it-IT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Alunni 1° Grad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uole della provincia di PO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E SCUOLE CHE HANNO PARTECIPATO ALLA RICERC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°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32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761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761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   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8 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CHI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3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1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609480"/>
            <a:ext cx="8305920" cy="38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Alunni 1° Grad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uole della provincia di M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TALE SCUOLE CHE HANNO PARTECIPATO ALLA RICERC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° 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4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74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74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cu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8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SCHI    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6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153280" cy="545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LESSIVI</a:t>
            </a:r>
            <a:r>
              <a:rPr b="1" lang="it-IT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TIONARIO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unni 2° Grad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UOLE CHE HANNO PARTECIPATO ALLA RICERCA. n°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4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OTENZA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2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A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935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i cu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3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OT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935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i cui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51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SCHI   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4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838080"/>
            <a:ext cx="8076960" cy="43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lunni 2°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uole della provincia di </a:t>
            </a:r>
            <a:r>
              <a:rPr b="1" lang="it-IT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O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UOLE CHE HANNO PARTECIPATO ALLA RICERCA. n°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2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513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513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i cui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4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SCHI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9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229600" cy="43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RICERCA SUL BULLISMO NELLE SCUOLE DI BASIL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QUESTIONARIO </a:t>
            </a:r>
            <a:r>
              <a:rPr b="1" lang="it-IT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lunni 2°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uole della provincia di </a:t>
            </a:r>
            <a:r>
              <a:rPr b="1" lang="it-IT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SCUOLE CHE HANNO PARTECIPATO ALLA RICERCA. n°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2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QUESTIONARI COMPILATI 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22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ALUNNI  </a:t>
            </a:r>
            <a:r>
              <a:rPr b="1" lang="it-IT" sz="2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422</a:t>
            </a:r>
            <a:r>
              <a:rPr b="1" lang="it-IT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 cui  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7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SCHI      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40080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R 2009  Ricerca Bull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35:38Z</dcterms:created>
  <dc:creator>mery</dc:creator>
  <dc:description/>
  <dc:language>en-US</dc:language>
  <cp:lastModifiedBy>mery</cp:lastModifiedBy>
  <dcterms:modified xsi:type="dcterms:W3CDTF">2009-04-27T23:05:37Z</dcterms:modified>
  <cp:revision>51</cp:revision>
  <dc:subject/>
  <dc:title>Prima ricerca regionale sul    fenomeno del bullismo nelle scuole di 1° e 2° grado della regione BASILICATA  Aspetti metodologici</dc:title>
</cp:coreProperties>
</file>