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4FE-7225-4621-A713-FACD2879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A20-3AAA-4CB5-A53A-D09F5CDC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1B4-C39A-41FA-828D-3A34B679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5CB-9A4F-4AD5-B634-6ED362DA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AA5-5A71-4BEB-8677-600399F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642-1224-4DA6-AA83-611A45C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832-4499-4051-93D8-DC22B0D8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170-BE23-4CA0-BBD6-54F64CBF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B5F-D55D-4ED9-A696-B97D38C9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399-C4D0-4957-A677-AACA3E04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D1E-FF89-40D5-85D2-960CD0C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045-D7D8-415D-B054-AC1C63E4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9B2E-14D6-48E3-96D3-A18AC397406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A PROFESSIONALITA’ DOC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SILICATA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 AN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definisc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le regol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e l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rispetta per pr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comprender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l’ecc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on chiude la p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 ANCH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lui che non si accontenta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di dare nu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lui che sa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valutare il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lui che sa suscitar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urios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lui che sa suscitar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iac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lui che sa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essere rispettat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non come atto dov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 ANCH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teragisc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 gli altri protagonisti del Sistema Scuola all’interno e all’es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on è amico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degli stu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motivare la fami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non si nasconde mai, ma è sempr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 prima li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MA ANCH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 interagire con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ltri saper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che specialis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 “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are siste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 comprendere la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compless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 avvale di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rasparenz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er attivar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onsapevol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FESSIONALITA’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OC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a capacità di svolgere la propria attività con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ompetenza ed effici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ll’ambito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ell’inse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365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333399"/>
                </a:solidFill>
                <a:latin typeface="Arial"/>
              </a:rPr>
              <a:t>BINOMIO INSCINDIBILE</a:t>
            </a:r>
            <a:br>
              <a:rPr sz="4000"/>
            </a:br>
            <a:r>
              <a:rPr b="1" lang="it-IT" sz="4000" spc="-1" strike="noStrike">
                <a:solidFill>
                  <a:srgbClr val="333399"/>
                </a:solidFill>
                <a:latin typeface="Arial"/>
              </a:rPr>
              <a:t>nel sistema educativo-pedago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OCENTE E’ COLUI 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,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legge,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tu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cosa trasmet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come trasmetter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COLUI CH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adeguar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il suo sapere ai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oggetti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 cui interagisce e al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ontesto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in cui inse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i chiede: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erché insegno?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(motiv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COLUI CH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program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“tagli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fare dell’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rror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un momento fondamentale dell’azione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COLUI CH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isurare e valu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opera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 sintonia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con gli altri do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predisporr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verifich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sare metodologi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diverse con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onsapevolez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COLUI CH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connotare il proprio ruolo anche di trasgressività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trasformare l’ambito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urocratic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 in una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riso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sa che la professionalità docent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on è solo q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 AN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vedere e guard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ascol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lui c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a dialo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8:48:59Z</dcterms:created>
  <dc:creator>Mariagrazia</dc:creator>
  <dc:description/>
  <dc:language>en-US</dc:language>
  <cp:lastModifiedBy>Mariagrazia</cp:lastModifiedBy>
  <dcterms:modified xsi:type="dcterms:W3CDTF">2009-04-26T14:20:50Z</dcterms:modified>
  <cp:revision>4</cp:revision>
  <dc:subject/>
  <dc:title> LA PROFESSIONALITA’ DOCENTE</dc:title>
</cp:coreProperties>
</file>