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wmf" ContentType="image/x-wmf"/>
  <Override PartName="/ppt/media/image12.png" ContentType="image/png"/>
  <Override PartName="/ppt/media/image8.png" ContentType="image/png"/>
  <Override PartName="/ppt/media/image16.wmf" ContentType="image/x-wmf"/>
  <Override PartName="/ppt/media/image11.jpeg" ContentType="image/jpeg"/>
  <Override PartName="/ppt/media/image13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2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7.jpeg" ContentType="image/jpeg"/>
  <Override PartName="/ppt/media/image26.png" ContentType="image/png"/>
  <Override PartName="/ppt/media/image20.png" ContentType="image/png"/>
  <Override PartName="/ppt/media/image23.wmf" ContentType="image/x-wmf"/>
  <Override PartName="/ppt/media/image28.jpeg" ContentType="image/jpeg"/>
  <Override PartName="/ppt/media/image19.png" ContentType="image/png"/>
  <Override PartName="/ppt/media/image18.png" ContentType="image/png"/>
  <Override PartName="/ppt/media/image25.gif" ContentType="image/gif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1DE-D371-4E31-B759-586743B98B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402-5416-47BE-A162-B68C5A2AAF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300320" y="803160"/>
            <a:ext cx="4259160" cy="319428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5AD4-FD2D-4E76-9263-7191EC82F3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578-D9B0-4EEB-B4B4-61B731C9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222-9777-4285-AD83-A2F5254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39BDE-EA89-47AD-9A54-AAFFA08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79837-9726-4ED3-937B-5A61673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2A9CC-F50E-472A-88A9-66185C61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8B40C-A25F-4AC2-B596-ECCB949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85226-DD30-4350-8125-5CF6D1A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A6859-4692-4EEF-B81B-3F0555B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36EE6-C54B-4A55-BB98-E33BC08D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38975-D1F1-45C2-9D67-8CA34696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90F79-01E4-409A-A0E5-B07FF6B4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7BE78-A950-4EC7-B2CF-CAA84EA6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2A7-6AB3-4F43-8778-AD97332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B4C81-0146-4D6B-90BD-E16A76F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7A24F-9447-4892-AB6E-59D2E9F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C1EBE-F27C-4BF2-8142-85CD01C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27B78-68DA-4E21-8035-0FB57B01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58666-F197-4875-8E63-3CAA2FD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05B1-879A-49D0-8979-6927B640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72D19-42FD-4072-A608-4563C1B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A33D2-162D-4694-88E2-1D38D7C3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223C9-55F5-4CC8-8024-EC7FBF4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758F-C943-4EC9-83C2-65766BA2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253-2B69-4218-9437-E4BE434A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45F89-E84A-4FBF-AF3E-ABAA2720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F3F08-90D9-4A2D-A387-D7AEA08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22CDA-761B-44BE-BA0E-2D2C096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461DC-A997-467B-9B49-AED6BB3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BCD34-21CB-4F87-BF34-3810295B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0D77B-26E8-4877-8E5E-FF0EB0A2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57EC6-F381-4F0F-AE21-FEDD9EC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7624C-5BC0-498A-A2F4-654AB11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6E3AE-70DD-488C-B069-5FECA64A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2AB5C-A3F2-4D3D-8B91-5516FF2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B0B-6490-4241-807E-FA618F36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34534-6EC9-4129-BB7F-E6F2595E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43D1E-69D5-4ACE-8242-CC2B3C28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DBB65-2E0C-4C55-A54C-F413E92D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45F0E-1841-4F2E-A294-EF33BCCE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ADC5B-0755-4C85-9E86-00A5A73E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7FF82-B53C-4DD2-9069-4C379743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CAA3C-C896-4D09-8A27-124AD22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97332-F867-4A05-B524-AABD8C7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703C2-CEB0-4C94-8827-F7266B6C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A921-819D-4035-853D-A2AF895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D2B-67D7-412C-885A-5CFEB84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B658A-7552-4673-966E-AC5F850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7DBF9-B61F-4665-9A72-B2FDE9DE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A6A53-AA54-4E88-B5CE-9E33A86A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FF5C4-54FC-429D-90C2-5A596229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A26CD-1D9D-401E-89F9-2086966E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D67BB-A7B9-4690-BEED-2AE17D2C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DF5B1-D971-4A98-A410-CA76A3E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9573B-493B-41D8-81AB-EE2936E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0B232-D41B-4CBA-84E4-8CAD965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D861-06E5-4149-B7A3-1901915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A416-6ADA-4F31-9E3B-8DCA6D88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0769E-51DC-47AA-87E1-52EAFFB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09993-2EE9-41F3-A7E5-C70E5FD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E0C0F-8EA7-4B27-8A79-C2B4D89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859B7-EA00-4316-ACD6-3F60AAFA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FFE26-B0A3-4C02-9898-A19481BF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9B32D-9C41-434F-85ED-25B9422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CD11B-1BAE-4DE6-9865-05D0355E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D0B80-7C2F-42E0-BCA2-CFB4D7A9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DCB6C-BCE4-49C5-A767-498E5081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C93CB-EBF6-468E-9F95-4913DB56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6E88-2682-45F1-BEBD-1E525109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276DD-7C6C-47B1-9C1A-1BC8878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C4192-7160-42A3-A198-E295AEDD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4BA4F-DDF0-4FB1-86C9-07F8052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EC74C-396C-44CB-937F-D0CA737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E7EEA-3E8D-4FBD-A2B0-0D0068B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C1304-1D50-4564-A8ED-E06BD65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AD391-975A-4F1D-9383-62AA676F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F6736-B702-44F0-BA7F-6A770890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A1801-EC50-4BFF-9AA2-3D8A8474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17831-F4BF-486B-9D71-68DCAA4C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CF32-3FF1-412D-95C9-328780F5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2B340-0D97-425A-A72B-36F14F3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EC1CE-1661-44AE-A560-5985251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E446C-A6B3-469A-BE32-AC7ED9EF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692C3-2A20-43C8-9FD6-F690B3B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3928B-8CE1-45A6-B6BB-BF6A3610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A506C-7A3F-4695-9A20-BA5885F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FB670-942E-46F1-86BA-5117B118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B9F0E-7601-46F5-9DE3-04889D5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D10C6-F5EB-4B8D-9279-87B1698C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5A7FC-6EDA-4CC5-80C6-1CAB8F90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FBA-8AC0-4EA9-BB41-420C6E46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68AB1-0295-447D-AB98-352ABF69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6B8E2-E8D9-4911-AABF-16EF7CEC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C5A49-3378-45A2-876D-09A1C4B0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8E9E8-DD41-4430-9615-591454B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887FF8-D046-4016-A52D-A15BEC6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2D165-13AD-4E81-9B78-CB7CC6E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A3954-62D9-43D2-B478-AEE292A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EA01A-20D3-4648-8ACD-B4919DE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73B85-0AF6-48A2-95E5-5737C25A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95490-9D70-49E4-B589-FD1E72F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A096-FB4A-4CE6-A0A2-B11C6CC6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79530-9205-4834-A0AA-A558358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04C920-9568-4C04-A718-2B91F2D2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28391-E9E9-4C37-9073-941E186B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4A587-7981-4218-9EC3-EADE0EF4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27255-CC4A-4B73-8E3D-2770177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33EFB-300A-4165-9BE4-062A1337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A7D4D-72D1-4F81-8DB5-01C4038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882DA-1654-48CD-8E19-32362B07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6CA17-52CA-42F0-BB7F-7F4F41F0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97485-7E00-48E5-A31A-3332130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2ED-1814-4DE6-8F1A-837C417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DE07-0D8C-4965-8A7B-D1CFEFA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5F374-06E6-4324-B799-43FBF3D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C7FF8-A74B-4377-AC9B-F3EC7712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55084-755B-4253-864D-B0733BE7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4BA33-232C-4E96-A502-1E7CAB07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F1BFD-3959-4C1E-A0EB-A4216332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E1306-EA6E-4218-A976-64BB2606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20EA2-FF7D-4BB6-B46E-6198B417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C6818-A1F4-466E-BFCB-655E051D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41DAA-181C-4449-B145-EF3ADE21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B8DC7-E0FF-4EF5-B8F0-98032DFA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05DF-0153-4902-BB25-2884612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FEE34-2A70-410F-97E2-91A34A5C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CF838-32B8-4EF2-8792-D5AF86D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A8EFF-7AC4-4867-9182-556BF5D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AAB02-505A-48F6-B5F4-A941DF2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0D5FF-AC13-436C-8876-9ED11E6D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281C5-808E-4D5B-BF69-6F5B3CA8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BBCA5-65FF-46C4-98F1-57FC52C1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D5EF5-166B-4706-8B5A-09D59B6C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A26FB-EA62-4553-B1C7-9D1903F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2D340-2AC4-45C3-B182-1CCDB05E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A26-44C6-4A95-AE30-BB7B171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04DDF-05C4-420A-873E-9078026B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DB41B-13B5-4298-81BE-79E05E03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2AD4B-8EE1-4276-AF99-631A1EB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0497C-22F3-40D9-89C9-C6509A8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DF33F-681D-4097-A400-54D9F26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A2EE0-5D83-4A99-9435-9E79D4C2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FBD03-5308-4518-A577-30BD6BB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065B3-46A6-460D-8261-46EED4FA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7E6EA-31FD-446E-9FF0-40844DF5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28CAD-61A4-4308-9E05-1C24D692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507A-359A-4ABB-8181-8E985EEC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519E2-21F7-4ED6-ADC9-A330C6B7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D98BF-734A-4F12-9AA9-CAAFF22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C434C-630D-4D00-8687-29A77CB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DF0B3-2B87-40D9-9640-D6CBE40E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12F0C-745E-4C68-974D-F87DA051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0B859-5373-49B2-8F0B-D5BE733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1CD78-0882-4D97-AB4B-E2FD0E1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2543F-4ED0-4E77-B676-08E8815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CBC26-9C04-4137-BA56-AF6D36A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EDDB8-DFE0-48DC-91B2-040B9D06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D661-18DF-4F71-84EC-B9884316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EBD4C-DB25-4EA9-A6E2-4CE316B3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DA8E3-FB17-431C-9046-3230B878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D4AA27-3EB6-47EC-82AB-7297424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7B554-E828-4941-A620-FD062AB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78163-779B-4C3C-AE97-D103C74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13380-9C28-4437-B5CC-5992E8FE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CAF4E-DC07-4025-8E73-2F9DF5AE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6BFF4-67E8-49F4-A7BD-574C93DA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3950F-81B5-4386-A16B-D16A594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A3D15-02FC-4CB5-94F0-78205557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646B-5ACE-4BF8-90F3-2186D7C9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1577A-18F1-4ABA-AB3E-E9387E1C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0B1D2-9F10-41D1-AD17-A695EC26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E2DA3-FD35-4C0C-8F82-ACA96608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1148E2-2B32-4900-96BC-24F51A01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8D2F0-91DB-40C1-9122-E0E17E4F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0FD99-A057-440B-99BD-01A582A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71FF16-F0B6-4112-80EE-BDF80117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C7CC59-E9CE-4EBF-96B9-C660AA0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4F6BDC-A8EF-456E-A9E2-DB88C780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1D30E-EEFC-414D-A4EC-BB181F3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E642-80F4-4975-A395-E501E52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C54B1-AACB-42FB-91FD-EBD5B04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A65A6-1B7F-4F34-BE13-236D743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9C40B-A810-4339-9A00-EE170B3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79071-FA40-4F7E-9FE4-62D26685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FB32DD-3173-4B05-982B-B85A06F0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E14924-90B0-4C0B-A561-11382A78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A191A-8EDA-4D42-9252-B93C03D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C8BCB4-87D7-4C4E-9D78-0FA2172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B2ED39-FC9E-4936-B385-3D5776CA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D3C036-A3E2-444E-9E72-0BFC9EE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0E8F-9D27-4FBF-BBD5-FD2C0CC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993031-E071-4AF0-9787-26AF8825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874138-45F2-4DB5-9C85-E3EE780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1B659-2DAE-45DB-842A-A46DAC8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304040-93DC-466E-9542-C94226D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B02C96-4A2B-4C4B-A21D-EB19274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89F083-E6B9-4001-A2B7-34856F14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534341-C885-4548-A413-431951C0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6D8A49-BD82-469F-8952-EAB7BDD2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A8CB66-A445-44BF-9B77-36AEBC3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BA0A8D-7599-4036-A61D-0880EEE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3256-1908-4329-9EF7-334ED2A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5E19B1-F21E-4518-9EF7-9B32AF6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8A11B1-AB2A-47D8-9559-0E83BEB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F7725-17C2-4615-9C6C-A815A2F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C9E4B0-37BF-4CF7-93B2-C20CB34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A0FBA7-6D66-43A9-9A9A-3F6D139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8AD01E-9A0C-4BAC-964C-DCF3E6B2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469773-BB53-47F9-9C62-0AE2367F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6B4445-493B-4264-B3AA-480EB7DE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2FAF9-86AE-4129-9C67-FEA4DF17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82E33E-BEA6-4DCC-8E7E-AC968FD5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C3CF-FEED-408A-BF34-B761315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FA604A-7A6B-425C-A5BB-31B55FC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F0FFC1-47C8-4CBA-A2DA-4DF5285A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C82EB3-434A-4609-95EE-52F8973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A01709-6124-4496-9997-AFBB5F7E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1F6E67-0508-40E7-8B9B-6F8D2776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9D02E0-2BB1-4266-BE5A-2CBC6FDA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1AC299-3D15-4256-835A-AC906A9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3E1ED2-77BB-435B-B990-49B5189A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4B3D8E-5820-4D75-9E2E-662CF02D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71CE4-7772-482E-B4C5-0F3541BA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27C-F9AE-4826-BA6B-5CF5A6B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5469-6566-4669-BB01-01A29A0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AB9E12-4E7B-4E3E-B0B4-6B1ABBBE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E70B0E-FB04-47D2-956C-C53A4E15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1418A1-8613-42D8-9B82-0EAE8BA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CB014-46E6-4D9B-87F5-69F4CAB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3316DC-1564-4599-A1A7-0D7AFD4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0E356C-7188-4A1C-A1E1-8106016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89890F-B41C-4E1A-8BFB-7B4869F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EBBBAD-7B34-4ED3-9771-982B415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14D697-3FE3-4FA5-82F1-E41C87B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A0962E-9E18-4501-9DBD-031C5B1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4A97-B1A4-4979-9109-35420ED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EA50EF-4BC6-4B52-AA6D-D37D2A9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E98CE8-749C-4251-A03E-0F1B266B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C177DF-84EC-48EC-9E5E-2AE66F09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D8029F-523E-412C-913B-66DB0B3D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10F76A-8BC9-4582-BF8C-695A5D14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254CF3-90D7-4626-AA43-0EA1B3DE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E8911B-4090-4347-A452-8DA19585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6E5C34-0DC4-4FB7-8C49-B3C2AA4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94A7F9-7E84-4A6C-8891-8F77D9B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D8CD9-C858-4CB0-977D-03FE109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3125-573A-4480-B3D7-3853E91F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87B38D-CD44-46E0-8D1E-B1525181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61B5DD-D72E-4253-A055-C807D0B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EBFA2B-273C-40B1-A5CC-B85955A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7E46A0-E416-410A-9451-3B688DB9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49FE66-7968-4C8C-A53C-C4990893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B02B5A-C789-4F54-B6AB-B5BBA749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1CC293-561E-4A7F-8DD9-4BD79B98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C220F2-770F-43CB-96F7-7F1AB558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F2CC17-F11E-4D1A-9D8A-6BA88DF1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14E130-0D8B-41E7-9E9F-54C1ACB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B994-2A11-46BE-84DA-EFB98E0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B9C792-B425-492D-B9A0-9D3E01D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1C2C52-E0EC-41AA-93EC-AD14AC8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DDEB34-8D58-450E-B7DD-F812DAF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D99388-CD81-428E-A28F-28AEE7D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221B9E-B528-457C-B962-1209246E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2D395D-AA58-4BA3-91A4-4BFD2935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7A7E39-3F88-4B3B-A52D-D7AEDBB2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31CAB4-B087-4C38-8D9D-0DD4FDF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EC56A9-7C02-4642-A457-6BBBEF01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028997-9A9E-4A75-8B5D-75D1C070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BEB0-2007-4CB5-AAF9-36FD3B01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C23999-CA40-414F-8379-E0E0FF6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1A625C-8F0B-4983-8C89-972B407D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5CF37-F522-455E-AF5A-8E3D84CC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88996D-A7DB-4F0E-BB4F-39439AE1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87F697-B823-4082-AFA5-73EE1834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9B2766-8F6F-4A36-81EF-4D2D568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059437-5F46-4360-8471-5927C808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DEDE05-FA83-4DE5-B4B5-7DB3C608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1A2DF1-10D4-4381-96C4-88D6B365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EB5918-1E6B-4B86-B2F7-3B4E71F2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D263-B9E6-41D8-BAE0-DB5CDA2C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8E6095-3E1D-4854-A1DD-5EFF727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6B103B-4136-4411-B6C6-30C8BADA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39E80A-7C97-4B2F-A226-689652EC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665B5B-F8FA-480E-A06A-E9358628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B0C1A-86EC-4922-B6F3-E4A8262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B7D54C-1D1C-4FF5-A762-46AF687A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14150B-98F6-409B-BE6B-EA9B005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7C9398-9757-4CF8-AEA7-EC8592D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122ACA-E48A-4719-9444-80D6E4FB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AFAF21-CAF1-4781-8384-0B4E8FC7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C599-B2EC-45D6-8EA3-FF3197EB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DEB791-A3F2-4947-9268-E825A368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6118-8F59-4E22-A090-427B2E0F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95DB-38E9-4290-B3CF-E62BD1DE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4220-B2E6-4144-984B-D15C6673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859-0C5C-454F-A1C4-AF4B01E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8707-2294-41FC-AC74-BF68CD4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5CDF-4815-4E8A-B968-116A7219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86BB-3A1D-464C-BBEF-9DF5AF24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1800-88F8-4B99-A72D-C7B36EA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A97A-BB86-494F-943D-D2CF5B7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1750-994F-41E7-A344-9DD1970F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7CD5-CC07-4714-BB80-819411A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4D09-2951-470A-979E-BFCFCB05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60F7-DFE9-472C-855D-054E68DB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C812-48F3-4F30-B0AB-3163153B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58A-7CB5-4469-B423-2935AD1A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E39A-4BAA-4972-B083-4AFFA9B4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F115B-143B-45C7-BAA6-1A74C5F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8474-667C-42DF-9478-BAE59DC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8E78-CAE5-44A7-AA9A-7D4268E1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6E41D-A310-4DB1-A357-A9CB0C5F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0042-9B9D-4BC1-B6D7-921640B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22B98-876B-4A9C-9106-24DF0C8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62C17-822A-4A30-8953-C85B432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CCBE-BF1A-4B06-A449-171AA7E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22C2-114C-4C55-8339-10FF3566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226-DEB4-47DE-A52F-4E2EE6CC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0358-C0EF-432A-BC8F-B7237350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0A023-45B5-47DA-9E9D-507273E8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45AA-2FCC-4E87-9FC3-EA75C7F4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0839-5CA3-4FC9-B266-EA7BF7A6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E41C-8E5C-4888-B300-1A5CB9A4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2389-BD4C-441D-B097-AEA0B76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8047-EDBD-40E2-A416-661F145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F088-2F1F-47D9-A378-455AF70A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F40AC-9B9E-4680-9F48-5718A38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706B-4DCB-4DE5-8A66-2E10EA0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22B-82F1-4000-A921-32F4966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7491-7394-464F-8BC8-E5A8347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FE5E-61BC-4495-BCBE-98FAD4B7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9FB8-B4AB-4FA3-AC12-0C4FCB0C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CB4A7-3E2D-4B3A-8A15-9AA69920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25A74-1B13-4F1C-92A2-511CDBF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C984-5852-4CDA-9A6B-74FC33F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1A8B-FDC7-408E-AD10-8394799C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9978-2357-4D96-B8AF-C11CD32D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10493-9BA7-4BF1-9859-FA21045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77F26-5D84-4562-BBA2-45A3FFD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02D-793E-4352-99F6-78E6876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29FAA-8980-4B3C-8074-536FC31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BF456-4972-46A1-A8B3-20E851C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F7C1-8A5C-4B87-BCCB-BE83184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63FE6-6ADD-46A4-A461-D145DCB6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E2678-E540-4014-86FB-AD4216DF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043F-146B-46FE-B4A5-9FF146F3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4630-D7BB-42EF-AF6E-9EE375ED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B2F4F-342F-4CD2-BF97-A3079D0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030A2-D1BD-46EA-BF55-FCA09878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0FB2-F672-48DD-9CA0-94D68751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581-5480-4DE3-994A-794010D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0D31-8BF3-40B3-99F9-071445D6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719F4-A1FC-4A57-9DB4-068C001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D65F-2CFE-477F-BD84-627CA1F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ECFF-8B06-4D22-8D8F-BDE71B4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9F07-D76B-4E02-B3B4-D1CBA2D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6F64-619D-4A69-B9D2-EF62AC5B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50190-94F3-4541-A31B-D667A8A4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BC189-5A98-426F-AAE3-1FB85329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05544-B3E7-4A24-833E-5F93F293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9B6F4-9980-4F9C-8140-B7DF4007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253.xml"/><Relationship Id="rId35" Type="http://schemas.openxmlformats.org/officeDocument/2006/relationships/slideLayout" Target="../slideLayouts/slideLayout254.xml"/><Relationship Id="rId36" Type="http://schemas.openxmlformats.org/officeDocument/2006/relationships/slideLayout" Target="../slideLayouts/slideLayout255.xml"/><Relationship Id="rId37" Type="http://schemas.openxmlformats.org/officeDocument/2006/relationships/slideLayout" Target="../slideLayouts/slideLayout256.xml"/><Relationship Id="rId38" Type="http://schemas.openxmlformats.org/officeDocument/2006/relationships/slideLayout" Target="../slideLayouts/slideLayout257.xml"/><Relationship Id="rId39" Type="http://schemas.openxmlformats.org/officeDocument/2006/relationships/slideLayout" Target="../slideLayouts/slideLayout258.xml"/><Relationship Id="rId40" Type="http://schemas.openxmlformats.org/officeDocument/2006/relationships/slideLayout" Target="../slideLayouts/slideLayout259.xml"/><Relationship Id="rId41" Type="http://schemas.openxmlformats.org/officeDocument/2006/relationships/slideLayout" Target="../slideLayouts/slideLayout260.xml"/><Relationship Id="rId42" Type="http://schemas.openxmlformats.org/officeDocument/2006/relationships/slideLayout" Target="../slideLayouts/slideLayout261.xml"/><Relationship Id="rId43" Type="http://schemas.openxmlformats.org/officeDocument/2006/relationships/slideLayout" Target="../slideLayouts/slideLayout262.xml"/><Relationship Id="rId44" Type="http://schemas.openxmlformats.org/officeDocument/2006/relationships/slideLayout" Target="../slideLayouts/slideLayout263.xml"/><Relationship Id="rId4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7543-5D27-4D09-BBD3-3406ED86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6A70-19A3-4D17-B0F4-778D56D20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8819-6F67-4132-B0A6-1D5CDE940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3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4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4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E38E-D52D-45F2-AB38-4CB1AB2192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8DB-B88A-4544-B31A-F8F3DC196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2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3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3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3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3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3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3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73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74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ED89-10E5-43E0-A4CE-AADA96EB90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4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4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0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D5A2-5EC4-4D10-A0C0-6C42C1A6169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IMC – A.M. Bian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582-262F-4557-BF6C-EFCF35A4AD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B190-1802-4413-B26B-A36777591D70}" type="slidenum">
              <a:rPr b="0" lang="it-IT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7705-B1F0-48A6-B6B3-970CB1456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0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00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0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0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1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6AA8-F690-4802-B687-5FF03DDF4D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924A-ECEE-4A62-94AD-8B9A7DBF4C49}" type="slidenum">
              <a:rPr b="0" lang="it-IT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6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6B3-EA9D-4A28-9B2A-9593E5B4FE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1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11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6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F1B7-CFC0-4B9A-8750-E9A7BC86DD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6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6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6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6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6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6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16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6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6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7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7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8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8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0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6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6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6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61B7-1487-40B5-B331-4233A928AA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4"/>
    <p:sldLayoutId id="2147483923" r:id="rId35"/>
    <p:sldLayoutId id="2147483924" r:id="rId36"/>
    <p:sldLayoutId id="2147483925" r:id="rId37"/>
    <p:sldLayoutId id="2147483926" r:id="rId38"/>
    <p:sldLayoutId id="2147483927" r:id="rId39"/>
    <p:sldLayoutId id="2147483928" r:id="rId40"/>
    <p:sldLayoutId id="2147483929" r:id="rId41"/>
    <p:sldLayoutId id="2147483930" r:id="rId42"/>
    <p:sldLayoutId id="2147483931" r:id="rId43"/>
    <p:sldLayoutId id="2147483932" r:id="rId44"/>
    <p:sldLayoutId id="2147483933" r:id="rId4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255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EF5A-9EE9-40E6-8300-35EA0DA2105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9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29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0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0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dt" idx="7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ftr" idx="7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 type="sldNum" idx="7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B78-7F8D-48EE-9CA0-4A66B527CA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8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349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8F8-71E1-46E1-B02C-2F7E2D6C5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139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AC0-A240-4652-A235-9AA52C282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3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5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7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8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9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D80F-9FEB-49B2-8AF1-D5D54E54F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4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4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5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85D-EA14-4612-8A5D-AB2A4D6D5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47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5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 type="dt" idx="8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 type="ftr" idx="8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 type="sldNum" idx="8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828E-4297-4121-B750-39F5FF1BDD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4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7919-E0E2-48A6-80DE-02D8FAB40A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8"/>
          <p:cNvGrpSpPr/>
          <p:nvPr/>
        </p:nvGrpSpPr>
        <p:grpSpPr>
          <a:xfrm>
            <a:off x="0" y="0"/>
            <a:ext cx="1219320" cy="1143000"/>
            <a:chOff x="0" y="0"/>
            <a:chExt cx="1219320" cy="1143000"/>
          </a:xfrm>
        </p:grpSpPr>
        <p:sp>
          <p:nvSpPr>
            <p:cNvPr id="151" name="Freeform 69"/>
            <p:cNvSpPr/>
            <p:nvPr/>
          </p:nvSpPr>
          <p:spPr>
            <a:xfrm>
              <a:off x="0" y="624240"/>
              <a:ext cx="344520" cy="199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70"/>
            <p:cNvSpPr/>
            <p:nvPr/>
          </p:nvSpPr>
          <p:spPr>
            <a:xfrm>
              <a:off x="21600" y="629640"/>
              <a:ext cx="35712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71"/>
            <p:cNvSpPr/>
            <p:nvPr/>
          </p:nvSpPr>
          <p:spPr>
            <a:xfrm>
              <a:off x="119160" y="671040"/>
              <a:ext cx="1040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72"/>
            <p:cNvSpPr/>
            <p:nvPr/>
          </p:nvSpPr>
          <p:spPr>
            <a:xfrm>
              <a:off x="117360" y="765000"/>
              <a:ext cx="187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73"/>
            <p:cNvSpPr/>
            <p:nvPr/>
          </p:nvSpPr>
          <p:spPr>
            <a:xfrm>
              <a:off x="199440" y="777600"/>
              <a:ext cx="165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74"/>
            <p:cNvSpPr/>
            <p:nvPr/>
          </p:nvSpPr>
          <p:spPr>
            <a:xfrm>
              <a:off x="91800" y="753120"/>
              <a:ext cx="248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75"/>
            <p:cNvSpPr/>
            <p:nvPr/>
          </p:nvSpPr>
          <p:spPr>
            <a:xfrm>
              <a:off x="195480" y="772920"/>
              <a:ext cx="15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76"/>
            <p:cNvSpPr/>
            <p:nvPr/>
          </p:nvSpPr>
          <p:spPr>
            <a:xfrm>
              <a:off x="189720" y="768600"/>
              <a:ext cx="154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77"/>
            <p:cNvSpPr/>
            <p:nvPr/>
          </p:nvSpPr>
          <p:spPr>
            <a:xfrm>
              <a:off x="126360" y="679320"/>
              <a:ext cx="78120" cy="90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78"/>
            <p:cNvSpPr/>
            <p:nvPr/>
          </p:nvSpPr>
          <p:spPr>
            <a:xfrm>
              <a:off x="5760" y="690480"/>
              <a:ext cx="842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79"/>
            <p:cNvSpPr/>
            <p:nvPr/>
          </p:nvSpPr>
          <p:spPr>
            <a:xfrm>
              <a:off x="69120" y="738360"/>
              <a:ext cx="2880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80"/>
            <p:cNvSpPr/>
            <p:nvPr/>
          </p:nvSpPr>
          <p:spPr>
            <a:xfrm>
              <a:off x="69120" y="709200"/>
              <a:ext cx="259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81"/>
            <p:cNvSpPr/>
            <p:nvPr/>
          </p:nvSpPr>
          <p:spPr>
            <a:xfrm>
              <a:off x="229320" y="738000"/>
              <a:ext cx="324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82"/>
            <p:cNvSpPr/>
            <p:nvPr/>
          </p:nvSpPr>
          <p:spPr>
            <a:xfrm>
              <a:off x="239040" y="718920"/>
              <a:ext cx="30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83"/>
            <p:cNvSpPr/>
            <p:nvPr/>
          </p:nvSpPr>
          <p:spPr>
            <a:xfrm>
              <a:off x="69120" y="676080"/>
              <a:ext cx="3024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84"/>
            <p:cNvSpPr/>
            <p:nvPr/>
          </p:nvSpPr>
          <p:spPr>
            <a:xfrm>
              <a:off x="240840" y="693360"/>
              <a:ext cx="266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85"/>
            <p:cNvSpPr/>
            <p:nvPr/>
          </p:nvSpPr>
          <p:spPr>
            <a:xfrm>
              <a:off x="95040" y="660240"/>
              <a:ext cx="1656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86"/>
            <p:cNvSpPr/>
            <p:nvPr/>
          </p:nvSpPr>
          <p:spPr>
            <a:xfrm>
              <a:off x="231120" y="680040"/>
              <a:ext cx="1656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Freeform 87"/>
            <p:cNvSpPr/>
            <p:nvPr/>
          </p:nvSpPr>
          <p:spPr>
            <a:xfrm>
              <a:off x="222840" y="664200"/>
              <a:ext cx="1512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Freeform 88"/>
            <p:cNvSpPr/>
            <p:nvPr/>
          </p:nvSpPr>
          <p:spPr>
            <a:xfrm>
              <a:off x="96840" y="816840"/>
              <a:ext cx="179280" cy="25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Freeform 89"/>
            <p:cNvSpPr/>
            <p:nvPr/>
          </p:nvSpPr>
          <p:spPr>
            <a:xfrm>
              <a:off x="116640" y="825480"/>
              <a:ext cx="1368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Freeform 90"/>
            <p:cNvSpPr/>
            <p:nvPr/>
          </p:nvSpPr>
          <p:spPr>
            <a:xfrm>
              <a:off x="101160" y="837360"/>
              <a:ext cx="15480" cy="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Freeform 91"/>
            <p:cNvSpPr/>
            <p:nvPr/>
          </p:nvSpPr>
          <p:spPr>
            <a:xfrm>
              <a:off x="154440" y="839520"/>
              <a:ext cx="6084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Freeform 92"/>
            <p:cNvSpPr/>
            <p:nvPr/>
          </p:nvSpPr>
          <p:spPr>
            <a:xfrm>
              <a:off x="129960" y="849960"/>
              <a:ext cx="9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93"/>
            <p:cNvSpPr/>
            <p:nvPr/>
          </p:nvSpPr>
          <p:spPr>
            <a:xfrm>
              <a:off x="216720" y="863280"/>
              <a:ext cx="26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94"/>
            <p:cNvSpPr/>
            <p:nvPr/>
          </p:nvSpPr>
          <p:spPr>
            <a:xfrm>
              <a:off x="127440" y="865440"/>
              <a:ext cx="252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95"/>
            <p:cNvSpPr/>
            <p:nvPr/>
          </p:nvSpPr>
          <p:spPr>
            <a:xfrm>
              <a:off x="194400" y="875520"/>
              <a:ext cx="1296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96"/>
            <p:cNvSpPr/>
            <p:nvPr/>
          </p:nvSpPr>
          <p:spPr>
            <a:xfrm>
              <a:off x="211320" y="888840"/>
              <a:ext cx="352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Freeform 97"/>
            <p:cNvSpPr/>
            <p:nvPr/>
          </p:nvSpPr>
          <p:spPr>
            <a:xfrm>
              <a:off x="279720" y="891000"/>
              <a:ext cx="450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Freeform 98"/>
            <p:cNvSpPr/>
            <p:nvPr/>
          </p:nvSpPr>
          <p:spPr>
            <a:xfrm>
              <a:off x="215280" y="893160"/>
              <a:ext cx="273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Freeform 99"/>
            <p:cNvSpPr/>
            <p:nvPr/>
          </p:nvSpPr>
          <p:spPr>
            <a:xfrm>
              <a:off x="126720" y="892080"/>
              <a:ext cx="396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Freeform 100"/>
            <p:cNvSpPr/>
            <p:nvPr/>
          </p:nvSpPr>
          <p:spPr>
            <a:xfrm>
              <a:off x="132120" y="896040"/>
              <a:ext cx="298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101"/>
            <p:cNvSpPr/>
            <p:nvPr/>
          </p:nvSpPr>
          <p:spPr>
            <a:xfrm>
              <a:off x="220680" y="902880"/>
              <a:ext cx="1296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reeform 102"/>
            <p:cNvSpPr/>
            <p:nvPr/>
          </p:nvSpPr>
          <p:spPr>
            <a:xfrm>
              <a:off x="140400" y="905040"/>
              <a:ext cx="1404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103"/>
            <p:cNvSpPr/>
            <p:nvPr/>
          </p:nvSpPr>
          <p:spPr>
            <a:xfrm>
              <a:off x="63360" y="928440"/>
              <a:ext cx="32400" cy="6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104"/>
            <p:cNvSpPr/>
            <p:nvPr/>
          </p:nvSpPr>
          <p:spPr>
            <a:xfrm>
              <a:off x="299520" y="936360"/>
              <a:ext cx="586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105"/>
            <p:cNvSpPr/>
            <p:nvPr/>
          </p:nvSpPr>
          <p:spPr>
            <a:xfrm>
              <a:off x="176760" y="952920"/>
              <a:ext cx="428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106"/>
            <p:cNvSpPr/>
            <p:nvPr/>
          </p:nvSpPr>
          <p:spPr>
            <a:xfrm>
              <a:off x="284760" y="95904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107"/>
            <p:cNvSpPr/>
            <p:nvPr/>
          </p:nvSpPr>
          <p:spPr>
            <a:xfrm>
              <a:off x="230400" y="959400"/>
              <a:ext cx="1152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108"/>
            <p:cNvSpPr/>
            <p:nvPr/>
          </p:nvSpPr>
          <p:spPr>
            <a:xfrm>
              <a:off x="243360" y="960120"/>
              <a:ext cx="90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Freeform 109"/>
            <p:cNvSpPr/>
            <p:nvPr/>
          </p:nvSpPr>
          <p:spPr>
            <a:xfrm>
              <a:off x="145800" y="963000"/>
              <a:ext cx="1548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110"/>
            <p:cNvSpPr/>
            <p:nvPr/>
          </p:nvSpPr>
          <p:spPr>
            <a:xfrm>
              <a:off x="135000" y="966600"/>
              <a:ext cx="10620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111"/>
            <p:cNvSpPr/>
            <p:nvPr/>
          </p:nvSpPr>
          <p:spPr>
            <a:xfrm>
              <a:off x="158760" y="974520"/>
              <a:ext cx="69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12"/>
            <p:cNvSpPr/>
            <p:nvPr/>
          </p:nvSpPr>
          <p:spPr>
            <a:xfrm>
              <a:off x="301320" y="980640"/>
              <a:ext cx="118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113"/>
            <p:cNvSpPr/>
            <p:nvPr/>
          </p:nvSpPr>
          <p:spPr>
            <a:xfrm>
              <a:off x="202680" y="1014840"/>
              <a:ext cx="75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114"/>
            <p:cNvSpPr/>
            <p:nvPr/>
          </p:nvSpPr>
          <p:spPr>
            <a:xfrm>
              <a:off x="190440" y="1018080"/>
              <a:ext cx="10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115"/>
            <p:cNvSpPr/>
            <p:nvPr/>
          </p:nvSpPr>
          <p:spPr>
            <a:xfrm>
              <a:off x="180000" y="1015200"/>
              <a:ext cx="756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116"/>
            <p:cNvSpPr/>
            <p:nvPr/>
          </p:nvSpPr>
          <p:spPr>
            <a:xfrm>
              <a:off x="325440" y="1032120"/>
              <a:ext cx="378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117"/>
            <p:cNvSpPr/>
            <p:nvPr/>
          </p:nvSpPr>
          <p:spPr>
            <a:xfrm>
              <a:off x="149760" y="1062720"/>
              <a:ext cx="39600" cy="6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118"/>
            <p:cNvSpPr/>
            <p:nvPr/>
          </p:nvSpPr>
          <p:spPr>
            <a:xfrm>
              <a:off x="192240" y="1076760"/>
              <a:ext cx="1800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119"/>
            <p:cNvSpPr/>
            <p:nvPr/>
          </p:nvSpPr>
          <p:spPr>
            <a:xfrm>
              <a:off x="66960" y="933480"/>
              <a:ext cx="2124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AutoShape 120"/>
            <p:cNvSpPr/>
            <p:nvPr/>
          </p:nvSpPr>
          <p:spPr>
            <a:xfrm>
              <a:off x="390240" y="0"/>
              <a:ext cx="829080" cy="735840"/>
            </a:xfrm>
            <a:prstGeom prst="cloudCallout">
              <a:avLst>
                <a:gd name="adj1" fmla="val -49569"/>
                <a:gd name="adj2" fmla="val 48486"/>
              </a:avLst>
            </a:prstGeom>
            <a:solidFill>
              <a:srgbClr val="cc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Freeform 121"/>
            <p:cNvSpPr/>
            <p:nvPr/>
          </p:nvSpPr>
          <p:spPr>
            <a:xfrm>
              <a:off x="620280" y="74880"/>
              <a:ext cx="344520" cy="199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122"/>
            <p:cNvSpPr/>
            <p:nvPr/>
          </p:nvSpPr>
          <p:spPr>
            <a:xfrm>
              <a:off x="631440" y="72360"/>
              <a:ext cx="357120" cy="51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23"/>
            <p:cNvSpPr/>
            <p:nvPr/>
          </p:nvSpPr>
          <p:spPr>
            <a:xfrm>
              <a:off x="729000" y="113760"/>
              <a:ext cx="1040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24"/>
            <p:cNvSpPr/>
            <p:nvPr/>
          </p:nvSpPr>
          <p:spPr>
            <a:xfrm>
              <a:off x="726840" y="207360"/>
              <a:ext cx="187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125"/>
            <p:cNvSpPr/>
            <p:nvPr/>
          </p:nvSpPr>
          <p:spPr>
            <a:xfrm>
              <a:off x="809280" y="219960"/>
              <a:ext cx="165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126"/>
            <p:cNvSpPr/>
            <p:nvPr/>
          </p:nvSpPr>
          <p:spPr>
            <a:xfrm>
              <a:off x="701640" y="195840"/>
              <a:ext cx="248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27"/>
            <p:cNvSpPr/>
            <p:nvPr/>
          </p:nvSpPr>
          <p:spPr>
            <a:xfrm>
              <a:off x="805320" y="215280"/>
              <a:ext cx="151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28"/>
            <p:cNvSpPr/>
            <p:nvPr/>
          </p:nvSpPr>
          <p:spPr>
            <a:xfrm>
              <a:off x="799560" y="211320"/>
              <a:ext cx="154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29"/>
            <p:cNvSpPr/>
            <p:nvPr/>
          </p:nvSpPr>
          <p:spPr>
            <a:xfrm>
              <a:off x="736200" y="122040"/>
              <a:ext cx="78120" cy="90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30"/>
            <p:cNvSpPr/>
            <p:nvPr/>
          </p:nvSpPr>
          <p:spPr>
            <a:xfrm>
              <a:off x="615600" y="133200"/>
              <a:ext cx="842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31"/>
            <p:cNvSpPr/>
            <p:nvPr/>
          </p:nvSpPr>
          <p:spPr>
            <a:xfrm>
              <a:off x="678600" y="181080"/>
              <a:ext cx="2880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32"/>
            <p:cNvSpPr/>
            <p:nvPr/>
          </p:nvSpPr>
          <p:spPr>
            <a:xfrm>
              <a:off x="678600" y="151560"/>
              <a:ext cx="2592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33"/>
            <p:cNvSpPr/>
            <p:nvPr/>
          </p:nvSpPr>
          <p:spPr>
            <a:xfrm>
              <a:off x="839160" y="180360"/>
              <a:ext cx="3240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34"/>
            <p:cNvSpPr/>
            <p:nvPr/>
          </p:nvSpPr>
          <p:spPr>
            <a:xfrm>
              <a:off x="848880" y="161280"/>
              <a:ext cx="30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135"/>
            <p:cNvSpPr/>
            <p:nvPr/>
          </p:nvSpPr>
          <p:spPr>
            <a:xfrm>
              <a:off x="678600" y="118800"/>
              <a:ext cx="3024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136"/>
            <p:cNvSpPr/>
            <p:nvPr/>
          </p:nvSpPr>
          <p:spPr>
            <a:xfrm>
              <a:off x="850680" y="136080"/>
              <a:ext cx="266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Freeform 137"/>
            <p:cNvSpPr/>
            <p:nvPr/>
          </p:nvSpPr>
          <p:spPr>
            <a:xfrm>
              <a:off x="704520" y="102960"/>
              <a:ext cx="1656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Freeform 138"/>
            <p:cNvSpPr/>
            <p:nvPr/>
          </p:nvSpPr>
          <p:spPr>
            <a:xfrm>
              <a:off x="840960" y="122400"/>
              <a:ext cx="1656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139"/>
            <p:cNvSpPr/>
            <p:nvPr/>
          </p:nvSpPr>
          <p:spPr>
            <a:xfrm>
              <a:off x="832680" y="106560"/>
              <a:ext cx="1512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40"/>
            <p:cNvSpPr/>
            <p:nvPr/>
          </p:nvSpPr>
          <p:spPr>
            <a:xfrm>
              <a:off x="706680" y="259560"/>
              <a:ext cx="179280" cy="25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41"/>
            <p:cNvSpPr/>
            <p:nvPr/>
          </p:nvSpPr>
          <p:spPr>
            <a:xfrm>
              <a:off x="726480" y="267840"/>
              <a:ext cx="1368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2"/>
            <p:cNvSpPr/>
            <p:nvPr/>
          </p:nvSpPr>
          <p:spPr>
            <a:xfrm>
              <a:off x="710640" y="280080"/>
              <a:ext cx="15480" cy="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43"/>
            <p:cNvSpPr/>
            <p:nvPr/>
          </p:nvSpPr>
          <p:spPr>
            <a:xfrm>
              <a:off x="763920" y="282240"/>
              <a:ext cx="608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44"/>
            <p:cNvSpPr/>
            <p:nvPr/>
          </p:nvSpPr>
          <p:spPr>
            <a:xfrm>
              <a:off x="739800" y="292320"/>
              <a:ext cx="97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Freeform 145"/>
            <p:cNvSpPr/>
            <p:nvPr/>
          </p:nvSpPr>
          <p:spPr>
            <a:xfrm>
              <a:off x="826560" y="306000"/>
              <a:ext cx="26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Freeform 146"/>
            <p:cNvSpPr/>
            <p:nvPr/>
          </p:nvSpPr>
          <p:spPr>
            <a:xfrm>
              <a:off x="737280" y="307800"/>
              <a:ext cx="252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Freeform 147"/>
            <p:cNvSpPr/>
            <p:nvPr/>
          </p:nvSpPr>
          <p:spPr>
            <a:xfrm>
              <a:off x="804240" y="317880"/>
              <a:ext cx="1296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Freeform 148"/>
            <p:cNvSpPr/>
            <p:nvPr/>
          </p:nvSpPr>
          <p:spPr>
            <a:xfrm>
              <a:off x="821160" y="331560"/>
              <a:ext cx="352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Freeform 149"/>
            <p:cNvSpPr/>
            <p:nvPr/>
          </p:nvSpPr>
          <p:spPr>
            <a:xfrm>
              <a:off x="889560" y="333360"/>
              <a:ext cx="4500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Freeform 150"/>
            <p:cNvSpPr/>
            <p:nvPr/>
          </p:nvSpPr>
          <p:spPr>
            <a:xfrm>
              <a:off x="825120" y="335520"/>
              <a:ext cx="273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Freeform 151"/>
            <p:cNvSpPr/>
            <p:nvPr/>
          </p:nvSpPr>
          <p:spPr>
            <a:xfrm>
              <a:off x="736560" y="334800"/>
              <a:ext cx="396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Freeform 152"/>
            <p:cNvSpPr/>
            <p:nvPr/>
          </p:nvSpPr>
          <p:spPr>
            <a:xfrm>
              <a:off x="741600" y="338400"/>
              <a:ext cx="298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Freeform 153"/>
            <p:cNvSpPr/>
            <p:nvPr/>
          </p:nvSpPr>
          <p:spPr>
            <a:xfrm>
              <a:off x="830520" y="345600"/>
              <a:ext cx="1296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Freeform 154"/>
            <p:cNvSpPr/>
            <p:nvPr/>
          </p:nvSpPr>
          <p:spPr>
            <a:xfrm>
              <a:off x="750240" y="347760"/>
              <a:ext cx="1404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Freeform 155"/>
            <p:cNvSpPr/>
            <p:nvPr/>
          </p:nvSpPr>
          <p:spPr>
            <a:xfrm>
              <a:off x="673200" y="370800"/>
              <a:ext cx="32400" cy="6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Freeform 156"/>
            <p:cNvSpPr/>
            <p:nvPr/>
          </p:nvSpPr>
          <p:spPr>
            <a:xfrm>
              <a:off x="909360" y="378720"/>
              <a:ext cx="586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Freeform 157"/>
            <p:cNvSpPr/>
            <p:nvPr/>
          </p:nvSpPr>
          <p:spPr>
            <a:xfrm>
              <a:off x="786600" y="395640"/>
              <a:ext cx="43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Freeform 158"/>
            <p:cNvSpPr/>
            <p:nvPr/>
          </p:nvSpPr>
          <p:spPr>
            <a:xfrm>
              <a:off x="894600" y="40176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Freeform 159"/>
            <p:cNvSpPr/>
            <p:nvPr/>
          </p:nvSpPr>
          <p:spPr>
            <a:xfrm>
              <a:off x="840240" y="402120"/>
              <a:ext cx="1152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60"/>
            <p:cNvSpPr/>
            <p:nvPr/>
          </p:nvSpPr>
          <p:spPr>
            <a:xfrm>
              <a:off x="853200" y="402480"/>
              <a:ext cx="90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61"/>
            <p:cNvSpPr/>
            <p:nvPr/>
          </p:nvSpPr>
          <p:spPr>
            <a:xfrm>
              <a:off x="755280" y="405360"/>
              <a:ext cx="154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62"/>
            <p:cNvSpPr/>
            <p:nvPr/>
          </p:nvSpPr>
          <p:spPr>
            <a:xfrm>
              <a:off x="744840" y="408960"/>
              <a:ext cx="10584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63"/>
            <p:cNvSpPr/>
            <p:nvPr/>
          </p:nvSpPr>
          <p:spPr>
            <a:xfrm>
              <a:off x="768600" y="416880"/>
              <a:ext cx="69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64"/>
            <p:cNvSpPr/>
            <p:nvPr/>
          </p:nvSpPr>
          <p:spPr>
            <a:xfrm>
              <a:off x="911160" y="423000"/>
              <a:ext cx="118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5"/>
            <p:cNvSpPr/>
            <p:nvPr/>
          </p:nvSpPr>
          <p:spPr>
            <a:xfrm>
              <a:off x="812520" y="457200"/>
              <a:ext cx="75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66"/>
            <p:cNvSpPr/>
            <p:nvPr/>
          </p:nvSpPr>
          <p:spPr>
            <a:xfrm>
              <a:off x="800280" y="460440"/>
              <a:ext cx="10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67"/>
            <p:cNvSpPr/>
            <p:nvPr/>
          </p:nvSpPr>
          <p:spPr>
            <a:xfrm>
              <a:off x="789840" y="457920"/>
              <a:ext cx="756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68"/>
            <p:cNvSpPr/>
            <p:nvPr/>
          </p:nvSpPr>
          <p:spPr>
            <a:xfrm>
              <a:off x="935280" y="474480"/>
              <a:ext cx="378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169"/>
            <p:cNvSpPr/>
            <p:nvPr/>
          </p:nvSpPr>
          <p:spPr>
            <a:xfrm>
              <a:off x="759600" y="505080"/>
              <a:ext cx="39240" cy="6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170"/>
            <p:cNvSpPr/>
            <p:nvPr/>
          </p:nvSpPr>
          <p:spPr>
            <a:xfrm>
              <a:off x="802080" y="519120"/>
              <a:ext cx="1800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171"/>
            <p:cNvSpPr/>
            <p:nvPr/>
          </p:nvSpPr>
          <p:spPr>
            <a:xfrm>
              <a:off x="676800" y="376200"/>
              <a:ext cx="2124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0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70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dt" idx="8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 type="ftr" idx="8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 type="sldNum" idx="9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F7C3-D202-4181-98AE-ABF2492EE1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1AE-C182-42D9-9B93-F4DF0816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261-38B9-4766-BC73-36074293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79B5-2C0A-4A5B-A113-4B1928F3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7" descr=""/>
          <p:cNvPicPr/>
          <p:nvPr/>
        </p:nvPicPr>
        <p:blipFill>
          <a:blip r:embed="rId2"/>
          <a:srcRect l="7628" t="0" r="6890" b="7974"/>
          <a:stretch/>
        </p:blipFill>
        <p:spPr>
          <a:xfrm>
            <a:off x="7380360" y="84240"/>
            <a:ext cx="140328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IMC – A.M. Bian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1852-3620-4A49-A680-AC32E7AE87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62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6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10A8-C961-416E-8351-C0853199B5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3C5-39B7-4268-9E2F-CE44845BF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8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3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2"/>
          <p:cNvSpPr/>
          <p:nvPr/>
        </p:nvSpPr>
        <p:spPr>
          <a:xfrm>
            <a:off x="3348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Rectangle 3"/>
          <p:cNvSpPr/>
          <p:nvPr/>
        </p:nvSpPr>
        <p:spPr>
          <a:xfrm>
            <a:off x="6019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826920" y="100440"/>
            <a:ext cx="784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SR per la Basilic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ssociazioni professiona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Aede, Aimc, Andis, Ansi, Anp, Cidi, Lsf, Ucii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Rectangle 5"/>
          <p:cNvSpPr/>
          <p:nvPr/>
        </p:nvSpPr>
        <p:spPr>
          <a:xfrm>
            <a:off x="0" y="198900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Piano di formazion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Bullismo e qualità del sistema scolast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a professionalità doc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3635280" y="5950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tenza, 29 aprile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4643280" y="5373720"/>
            <a:ext cx="30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na Maria Bianchi - Aim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Text Box 8"/>
          <p:cNvSpPr/>
          <p:nvPr/>
        </p:nvSpPr>
        <p:spPr>
          <a:xfrm>
            <a:off x="539640" y="3933720"/>
            <a:ext cx="7417080" cy="101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Le competenze psico-pedagogic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del doc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 azioni/strategie messe in campo centralm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259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Continui rimandi fr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Cittadinanza e Costituzion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lotta al bullismo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valutazione del comporta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2"/>
          <p:cNvSpPr/>
          <p:nvPr/>
        </p:nvSpPr>
        <p:spPr>
          <a:xfrm>
            <a:off x="250920" y="2205000"/>
            <a:ext cx="84978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Text Box 3"/>
          <p:cNvSpPr/>
          <p:nvPr/>
        </p:nvSpPr>
        <p:spPr>
          <a:xfrm>
            <a:off x="539640" y="1341360"/>
            <a:ext cx="78487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ituzione e cittadinanza sono sullo stesso piano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Text Box 4"/>
          <p:cNvSpPr/>
          <p:nvPr/>
        </p:nvSpPr>
        <p:spPr>
          <a:xfrm>
            <a:off x="539640" y="2060640"/>
            <a:ext cx="7777440" cy="192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senso ha l’ora di cittadinanza o l’ora di legalità?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’ possibile “studiare” la cittadinanza o non si tratta piuttosto di far respirare e vivere un clima, un’atmosfera educativa? (Pof, curricolo implicito, patto educativo, esperienze dirette e indirette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2" name="Text Box 5"/>
          <p:cNvSpPr/>
          <p:nvPr/>
        </p:nvSpPr>
        <p:spPr>
          <a:xfrm>
            <a:off x="468360" y="4292640"/>
            <a:ext cx="777708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un alunno dimostra di conoscere le regole e di sapere che vanno rispettate, basta per avere la garanzia che le rispetti? Quale rapporto fra verifica delle conoscenze e valutazione dei comportamen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Rectangle 7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uni interrogativ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Qualche considerazi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3"/>
          <p:cNvSpPr/>
          <p:nvPr/>
        </p:nvSpPr>
        <p:spPr>
          <a:xfrm>
            <a:off x="900000" y="285264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Text Box 4"/>
          <p:cNvSpPr/>
          <p:nvPr/>
        </p:nvSpPr>
        <p:spPr>
          <a:xfrm>
            <a:off x="539640" y="1484280"/>
            <a:ext cx="7704360" cy="3934440"/>
          </a:xfrm>
          <a:prstGeom prst="rect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l comportamento dei ragazzi specie nell’età adolescenziale a volte crea forti interrogativi e la scuola spess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 sente senza strumenti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r arginare fenomeni che sono da stigmatizzar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sce però il dubbio se il voto in condotta possa, da solo, essere una risposta. Se questo fosse (e non ce lo auguriamo) sarebbe una dichiarazione implicita che la scuola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abdica al suo compit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l’educare, per un giudicare  che è ben altra cos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ducare ad alcuni comportamenti richied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una scuola esemplar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e relazioni umane, etica, rispetto delle regole condivise e compre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1000"/>
                                        <p:tgtEl>
                                          <p:spTgt spid="1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/>
          </p:nvPr>
        </p:nvSpPr>
        <p:spPr>
          <a:xfrm>
            <a:off x="609480" y="2398680"/>
            <a:ext cx="3657600" cy="384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AL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Un altro progetto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Scuola 1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Pof “a sommatori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Chiusura nel pre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Parcellizzazione della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3"/>
          <p:cNvSpPr/>
          <p:nvPr/>
        </p:nvSpPr>
        <p:spPr>
          <a:xfrm>
            <a:off x="4952880" y="2438280"/>
            <a:ext cx="3657600" cy="41626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OL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Il progetto di scuo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Genitorialità diff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Un fine condiv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Sguardo al futu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Unitarietà della cul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due logich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Group 23"/>
          <p:cNvGrpSpPr/>
          <p:nvPr/>
        </p:nvGrpSpPr>
        <p:grpSpPr>
          <a:xfrm>
            <a:off x="1468440" y="198360"/>
            <a:ext cx="6770520" cy="6193080"/>
            <a:chOff x="1468440" y="198360"/>
            <a:chExt cx="6770520" cy="6193080"/>
          </a:xfrm>
        </p:grpSpPr>
        <p:sp>
          <p:nvSpPr>
            <p:cNvPr id="1801" name="Oval 5"/>
            <p:cNvSpPr/>
            <p:nvPr/>
          </p:nvSpPr>
          <p:spPr>
            <a:xfrm>
              <a:off x="1468440" y="198360"/>
              <a:ext cx="6770520" cy="619308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2" name="Text Box 10"/>
            <p:cNvSpPr/>
            <p:nvPr/>
          </p:nvSpPr>
          <p:spPr>
            <a:xfrm>
              <a:off x="2987640" y="836640"/>
              <a:ext cx="403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lle regol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3" name="Group 13"/>
          <p:cNvGrpSpPr/>
          <p:nvPr/>
        </p:nvGrpSpPr>
        <p:grpSpPr>
          <a:xfrm>
            <a:off x="2340000" y="1268280"/>
            <a:ext cx="5041800" cy="4537080"/>
            <a:chOff x="2340000" y="1268280"/>
            <a:chExt cx="5041800" cy="4537080"/>
          </a:xfrm>
        </p:grpSpPr>
        <p:sp>
          <p:nvSpPr>
            <p:cNvPr id="1804" name="Oval 6"/>
            <p:cNvSpPr/>
            <p:nvPr/>
          </p:nvSpPr>
          <p:spPr>
            <a:xfrm>
              <a:off x="2340000" y="1268280"/>
              <a:ext cx="5041800" cy="453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5" name="Text Box 9"/>
            <p:cNvSpPr/>
            <p:nvPr/>
          </p:nvSpPr>
          <p:spPr>
            <a:xfrm>
              <a:off x="3780000" y="472428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l’ambient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059280" y="1916280"/>
            <a:ext cx="2952720" cy="2858760"/>
            <a:chOff x="3059280" y="1916280"/>
            <a:chExt cx="2952720" cy="2858760"/>
          </a:xfrm>
        </p:grpSpPr>
        <p:sp>
          <p:nvSpPr>
            <p:cNvPr id="1807" name="Oval 4"/>
            <p:cNvSpPr/>
            <p:nvPr/>
          </p:nvSpPr>
          <p:spPr>
            <a:xfrm>
              <a:off x="3059280" y="1916280"/>
              <a:ext cx="2952720" cy="2858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8" name="Text Box 8"/>
            <p:cNvSpPr/>
            <p:nvPr/>
          </p:nvSpPr>
          <p:spPr>
            <a:xfrm>
              <a:off x="3634200" y="25635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ll’alt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9" name="Group 11"/>
          <p:cNvGrpSpPr/>
          <p:nvPr/>
        </p:nvGrpSpPr>
        <p:grpSpPr>
          <a:xfrm>
            <a:off x="3708360" y="2997360"/>
            <a:ext cx="1368360" cy="1274760"/>
            <a:chOff x="3708360" y="2997360"/>
            <a:chExt cx="1368360" cy="1274760"/>
          </a:xfrm>
        </p:grpSpPr>
        <p:sp>
          <p:nvSpPr>
            <p:cNvPr id="1810" name="Oval 3"/>
            <p:cNvSpPr/>
            <p:nvPr/>
          </p:nvSpPr>
          <p:spPr>
            <a:xfrm>
              <a:off x="3708360" y="2997360"/>
              <a:ext cx="1368360" cy="1274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Text Box 7"/>
            <p:cNvSpPr/>
            <p:nvPr/>
          </p:nvSpPr>
          <p:spPr>
            <a:xfrm>
              <a:off x="3924360" y="350208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i s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2" name="Line 16"/>
          <p:cNvSpPr/>
          <p:nvPr/>
        </p:nvSpPr>
        <p:spPr>
          <a:xfrm flipV="1">
            <a:off x="4572000" y="-360"/>
            <a:ext cx="1295280" cy="3429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Line 18"/>
          <p:cNvSpPr/>
          <p:nvPr/>
        </p:nvSpPr>
        <p:spPr>
          <a:xfrm flipH="1" flipV="1">
            <a:off x="826560" y="692280"/>
            <a:ext cx="3961080" cy="2952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Line 19"/>
          <p:cNvSpPr/>
          <p:nvPr/>
        </p:nvSpPr>
        <p:spPr>
          <a:xfrm flipV="1">
            <a:off x="4643280" y="3141720"/>
            <a:ext cx="4176720" cy="3585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Line 20"/>
          <p:cNvSpPr/>
          <p:nvPr/>
        </p:nvSpPr>
        <p:spPr>
          <a:xfrm>
            <a:off x="4572000" y="3429000"/>
            <a:ext cx="2736720" cy="3095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Line 21"/>
          <p:cNvSpPr/>
          <p:nvPr/>
        </p:nvSpPr>
        <p:spPr>
          <a:xfrm flipH="1">
            <a:off x="1403280" y="3429000"/>
            <a:ext cx="3168720" cy="2232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Line 22"/>
          <p:cNvSpPr/>
          <p:nvPr/>
        </p:nvSpPr>
        <p:spPr>
          <a:xfrm flipV="1">
            <a:off x="4572000" y="1125000"/>
            <a:ext cx="3240000" cy="2303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Text Box 20"/>
          <p:cNvSpPr/>
          <p:nvPr/>
        </p:nvSpPr>
        <p:spPr>
          <a:xfrm>
            <a:off x="468360" y="260280"/>
            <a:ext cx="2808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 centro i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ispet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288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DISAG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0" name="Text Box 3"/>
          <p:cNvSpPr/>
          <p:nvPr/>
        </p:nvSpPr>
        <p:spPr>
          <a:xfrm>
            <a:off x="1600200" y="1295280"/>
            <a:ext cx="59436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trario di beness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AutoShape 4"/>
          <p:cNvSpPr/>
          <p:nvPr/>
        </p:nvSpPr>
        <p:spPr>
          <a:xfrm>
            <a:off x="4422600" y="1981080"/>
            <a:ext cx="297000" cy="419400"/>
          </a:xfrm>
          <a:prstGeom prst="downArrow">
            <a:avLst>
              <a:gd name="adj1" fmla="val 50000"/>
              <a:gd name="adj2" fmla="val 3530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AutoShape 5"/>
          <p:cNvSpPr/>
          <p:nvPr/>
        </p:nvSpPr>
        <p:spPr>
          <a:xfrm>
            <a:off x="4422600" y="4267080"/>
            <a:ext cx="297000" cy="503280"/>
          </a:xfrm>
          <a:prstGeom prst="downArrow">
            <a:avLst>
              <a:gd name="adj1" fmla="val 50000"/>
              <a:gd name="adj2" fmla="val 423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Text Box 6"/>
          <p:cNvSpPr/>
          <p:nvPr/>
        </p:nvSpPr>
        <p:spPr>
          <a:xfrm>
            <a:off x="419040" y="2652840"/>
            <a:ext cx="8305920" cy="1572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ollasso momentaneo di un progetto esistenzia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l mondo mi diventa osti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o divento ostile a me stes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Text Box 7"/>
          <p:cNvSpPr/>
          <p:nvPr/>
        </p:nvSpPr>
        <p:spPr>
          <a:xfrm>
            <a:off x="419040" y="4800600"/>
            <a:ext cx="8305920" cy="1572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tar male con se stessi e con gli altr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Vivere in modo frustrante rapporti e situ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ssere al livello di guardia nel rapporto io-amb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Text Box 2"/>
          <p:cNvSpPr/>
          <p:nvPr/>
        </p:nvSpPr>
        <p:spPr>
          <a:xfrm>
            <a:off x="735120" y="172080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Text Box 3"/>
          <p:cNvSpPr/>
          <p:nvPr/>
        </p:nvSpPr>
        <p:spPr>
          <a:xfrm>
            <a:off x="468360" y="2349360"/>
            <a:ext cx="8126280" cy="3389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ove il dialogo non esiste più, entra in funzione il linguaggio punitivo della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violenza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so gli altri                                                                     - verso se stess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Text Box 2"/>
          <p:cNvSpPr/>
          <p:nvPr/>
        </p:nvSpPr>
        <p:spPr>
          <a:xfrm>
            <a:off x="735120" y="172080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Text Box 3"/>
          <p:cNvSpPr/>
          <p:nvPr/>
        </p:nvSpPr>
        <p:spPr>
          <a:xfrm>
            <a:off x="1017720" y="1125360"/>
            <a:ext cx="8126280" cy="536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imparare a riconoscere, denominare, accettare emozioni e sentimenti anche socialmente riprovati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(rabbia, avversione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Verdana"/>
              </a:rPr>
              <a:t>Imparare a rispettarsi</a:t>
            </a:r>
            <a:r>
              <a:rPr b="1" lang="it-IT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Verdana"/>
              </a:rPr>
              <a:t>(i jeans a vita bassa, alcool, droghe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Imparare ad esigere rispetto dagli altri ed a chiedere aiuto in situazioni difficili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(bullismo, molestie, abu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Rectangle 5"/>
          <p:cNvSpPr/>
          <p:nvPr/>
        </p:nvSpPr>
        <p:spPr>
          <a:xfrm>
            <a:off x="1692360" y="476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er preven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scoltare le emozion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1" name="Picture 3" descr="nulla8"/>
          <p:cNvPicPr/>
          <p:nvPr/>
        </p:nvPicPr>
        <p:blipFill>
          <a:blip r:embed="rId1"/>
          <a:stretch/>
        </p:blipFill>
        <p:spPr>
          <a:xfrm>
            <a:off x="384120" y="1600200"/>
            <a:ext cx="3730680" cy="4276800"/>
          </a:xfrm>
          <a:prstGeom prst="rect">
            <a:avLst/>
          </a:prstGeom>
          <a:ln w="0">
            <a:noFill/>
          </a:ln>
        </p:spPr>
      </p:pic>
      <p:sp>
        <p:nvSpPr>
          <p:cNvPr id="1832" name="Text Box 4"/>
          <p:cNvSpPr/>
          <p:nvPr/>
        </p:nvSpPr>
        <p:spPr>
          <a:xfrm>
            <a:off x="684360" y="6381720"/>
            <a:ext cx="59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tratta da G. Franchini, G. Maiolo, “Attenti al lupo cattivo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Text Box 5"/>
          <p:cNvSpPr/>
          <p:nvPr/>
        </p:nvSpPr>
        <p:spPr>
          <a:xfrm>
            <a:off x="4716360" y="191628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segnate a riconoscere e ad esprimere le emo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Text Box 6"/>
          <p:cNvSpPr/>
          <p:nvPr/>
        </p:nvSpPr>
        <p:spPr>
          <a:xfrm>
            <a:off x="4716360" y="3068640"/>
            <a:ext cx="38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te in modo che  non si vergogni di raccontarvi una cosa spiacevole che gli è capit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5" name="Text Box 7"/>
          <p:cNvSpPr/>
          <p:nvPr/>
        </p:nvSpPr>
        <p:spPr>
          <a:xfrm>
            <a:off x="4643280" y="4797360"/>
            <a:ext cx="4105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ridete delle sue paure. Non minimizz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ndete sul serio le sue emo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 Box 2"/>
          <p:cNvSpPr/>
          <p:nvPr/>
        </p:nvSpPr>
        <p:spPr>
          <a:xfrm>
            <a:off x="343080" y="1066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busare degli alcolici per voi significa drogarsi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7" name="Object 3"/>
          <p:cNvGraphicFramePr/>
          <p:nvPr/>
        </p:nvGraphicFramePr>
        <p:xfrm>
          <a:off x="933480" y="1523880"/>
          <a:ext cx="727704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523880"/>
                    <a:ext cx="727704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9" name="Text Box 4"/>
          <p:cNvSpPr/>
          <p:nvPr/>
        </p:nvSpPr>
        <p:spPr>
          <a:xfrm>
            <a:off x="114480" y="380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 un’indagine fra gli alunni del biennio della seconda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53928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entratura sul sogget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mpetenti </a:t>
            </a: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si è …”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Damiano, 2004; Nanni, 2003; Bertagna, 2001; Guasti, 1999; Meghnagi, 1999…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0" name="Picture 2" descr="Alcoolismo"/>
          <p:cNvPicPr/>
          <p:nvPr/>
        </p:nvPicPr>
        <p:blipFill>
          <a:blip r:embed="rId1"/>
          <a:stretch/>
        </p:blipFill>
        <p:spPr>
          <a:xfrm>
            <a:off x="1143000" y="438120"/>
            <a:ext cx="4419720" cy="5981760"/>
          </a:xfrm>
          <a:prstGeom prst="rect">
            <a:avLst/>
          </a:prstGeom>
          <a:ln w="0">
            <a:noFill/>
          </a:ln>
        </p:spPr>
      </p:pic>
      <p:sp>
        <p:nvSpPr>
          <p:cNvPr id="1841" name="Text Box 4"/>
          <p:cNvSpPr/>
          <p:nvPr/>
        </p:nvSpPr>
        <p:spPr>
          <a:xfrm>
            <a:off x="6012000" y="1916280"/>
            <a:ext cx="2895480" cy="3210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’immagine in sé è effic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 se l’abuso di alcol non è percepito come dipendenza, potrà mai far p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sem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6408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Stefano è un bambino di 9 anni che frequenta la 3° elementare. Esile di corporatura, ha un carattere timido e riservato. Quasi tutti i giorni durante la ricreazione, Stefano viene avvicinato e spintonato da due o tre bambini più grandi che frequentano la 5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°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i quali regolarmente lo costringono con la forza a dare loro la merenda. Stefano non riesce a difendersi e si vergogna a parlare di questi episo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4" descr="vignetta 1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619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eorgia"/>
              </a:rPr>
              <a:t>Arshad è un ragazzino pakistano di 12 anni.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Georgia"/>
              </a:rPr>
              <a:t>Inserito da poche settimane in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Georgia"/>
              </a:rPr>
              <a:t>seconda media, nella scuola del paese in cui si appena trasferito insieme ai genitori.  Parole pronunciate in modo scorretto, a causa della scarsa conoscenza della lingua italiana, suscitano spesso l’ilarità dell’intera classe, istigata dall’atteggiamento provocatorio di un compagno che si rivolge ad Arshad dicendo: “Ma come parli? Non sai parlare!”. Gli insegnanti si accorgono che anche durante i momenti di gioco il ragazzino viene preso in gi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7" name="Picture 4" descr="Bullismo"/>
          <p:cNvPicPr/>
          <p:nvPr/>
        </p:nvPicPr>
        <p:blipFill>
          <a:blip r:embed="rId1"/>
          <a:stretch/>
        </p:blipFill>
        <p:spPr>
          <a:xfrm>
            <a:off x="6372360" y="189000"/>
            <a:ext cx="2376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-360" y="2420640"/>
            <a:ext cx="64436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lena è una bambina di 10 anni che frequenta la 5° elementar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a qualche tempo un gruppetto di compagne diffonde  pettegolezzi sul suo conto e sostiene che non si vesta alla moda, per allontanarla da Sofia, l’unica sua amica all’interno della classe. In seguito a ciò, Elena è spesso sola ed esclusa dal gruppo anche nei momenti di gio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0" name="Picture 4" descr="vignetta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 non “alimentare”un bullo bisogna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5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5d19"/>
                </a:solidFill>
                <a:latin typeface="Arial"/>
              </a:rPr>
              <a:t>insegnare a saper esprimere la propria rabbia in modo costruttivo e con maturità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comunicare in modo sincero;</a:t>
            </a:r>
            <a:r>
              <a:rPr b="1" lang="en-US" sz="3200" spc="-1" strike="noStrike">
                <a:solidFill>
                  <a:srgbClr val="f55d1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5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5d19"/>
                </a:solidFill>
                <a:latin typeface="Arial"/>
              </a:rPr>
              <a:t>insegnare a identificarsi con gli altri e capire le conseguenze dei propri comportamen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rendere esempio dai valori positivi che si vedono a scuola e a cas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AutoShape 2"/>
          <p:cNvSpPr/>
          <p:nvPr/>
        </p:nvSpPr>
        <p:spPr>
          <a:xfrm>
            <a:off x="3352680" y="30481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RIDU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 BULLIS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AutoShape 3"/>
          <p:cNvSpPr/>
          <p:nvPr/>
        </p:nvSpPr>
        <p:spPr>
          <a:xfrm>
            <a:off x="609480" y="685800"/>
            <a:ext cx="2210040" cy="10666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LIORA 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 B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AutoShape 4"/>
          <p:cNvSpPr/>
          <p:nvPr/>
        </p:nvSpPr>
        <p:spPr>
          <a:xfrm>
            <a:off x="457200" y="2590920"/>
            <a:ext cx="2286000" cy="20574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VORIS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EGGIA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ABORATIV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6" name="AutoShape 5"/>
          <p:cNvSpPr/>
          <p:nvPr/>
        </p:nvSpPr>
        <p:spPr>
          <a:xfrm>
            <a:off x="1676520" y="5105520"/>
            <a:ext cx="3352680" cy="12189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FFORZA LE VIT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LE TOGL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LL’ISOL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AutoShape 6"/>
          <p:cNvSpPr/>
          <p:nvPr/>
        </p:nvSpPr>
        <p:spPr>
          <a:xfrm>
            <a:off x="5105520" y="4876920"/>
            <a:ext cx="2666880" cy="167616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IBUIS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INQUE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AutoShape 7"/>
          <p:cNvSpPr/>
          <p:nvPr/>
        </p:nvSpPr>
        <p:spPr>
          <a:xfrm>
            <a:off x="6095880" y="2362320"/>
            <a:ext cx="2667240" cy="2438280"/>
          </a:xfrm>
          <a:prstGeom prst="flowChartAlternateProcess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ITUIS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TERRE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EDU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ALITA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AutoShape 8"/>
          <p:cNvSpPr/>
          <p:nvPr/>
        </p:nvSpPr>
        <p:spPr>
          <a:xfrm>
            <a:off x="6400800" y="380880"/>
            <a:ext cx="2057400" cy="160020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INVOL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GENIT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 ASPET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UCAT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AutoShape 9"/>
          <p:cNvSpPr/>
          <p:nvPr/>
        </p:nvSpPr>
        <p:spPr>
          <a:xfrm>
            <a:off x="3124080" y="304920"/>
            <a:ext cx="2971800" cy="2133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IBISCE AL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ZIONE 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CL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OLA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VOREVO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’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Line 10"/>
          <p:cNvSpPr/>
          <p:nvPr/>
        </p:nvSpPr>
        <p:spPr>
          <a:xfrm flipH="1" flipV="1">
            <a:off x="2361960" y="1828440"/>
            <a:ext cx="99036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Line 11"/>
          <p:cNvSpPr/>
          <p:nvPr/>
        </p:nvSpPr>
        <p:spPr>
          <a:xfrm flipV="1">
            <a:off x="4648320" y="25146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Line 12"/>
          <p:cNvSpPr/>
          <p:nvPr/>
        </p:nvSpPr>
        <p:spPr>
          <a:xfrm flipV="1">
            <a:off x="5562720" y="2057400"/>
            <a:ext cx="8380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Line 13"/>
          <p:cNvSpPr/>
          <p:nvPr/>
        </p:nvSpPr>
        <p:spPr>
          <a:xfrm>
            <a:off x="5029200" y="4038480"/>
            <a:ext cx="9907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Line 14"/>
          <p:cNvSpPr/>
          <p:nvPr/>
        </p:nvSpPr>
        <p:spPr>
          <a:xfrm>
            <a:off x="4724280" y="4038480"/>
            <a:ext cx="53352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Line 15"/>
          <p:cNvSpPr/>
          <p:nvPr/>
        </p:nvSpPr>
        <p:spPr>
          <a:xfrm flipH="1">
            <a:off x="3505320" y="3962520"/>
            <a:ext cx="76176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Line 16"/>
          <p:cNvSpPr/>
          <p:nvPr/>
        </p:nvSpPr>
        <p:spPr>
          <a:xfrm flipH="1">
            <a:off x="2819520" y="35812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Picture 4" descr="diritti"/>
          <p:cNvPicPr/>
          <p:nvPr/>
        </p:nvPicPr>
        <p:blipFill>
          <a:blip r:embed="rId1"/>
          <a:stretch/>
        </p:blipFill>
        <p:spPr>
          <a:xfrm>
            <a:off x="114480" y="95400"/>
            <a:ext cx="8915400" cy="6667200"/>
          </a:xfrm>
          <a:prstGeom prst="rect">
            <a:avLst/>
          </a:prstGeom>
          <a:ln w="0">
            <a:noFill/>
          </a:ln>
        </p:spPr>
      </p:pic>
      <p:sp>
        <p:nvSpPr>
          <p:cNvPr id="1869" name="Text Box 5"/>
          <p:cNvSpPr/>
          <p:nvPr/>
        </p:nvSpPr>
        <p:spPr>
          <a:xfrm>
            <a:off x="5724360" y="476280"/>
            <a:ext cx="3024360" cy="2288520"/>
          </a:xfrm>
          <a:prstGeom prst="rect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 cosa significa  e che cosa richiede     educare            ed educarsi       ad evitare           il barat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battere il drag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71" name="Picture 3" descr="drago"/>
          <p:cNvPicPr/>
          <p:nvPr/>
        </p:nvPicPr>
        <p:blipFill>
          <a:blip r:embed="rId1"/>
          <a:stretch/>
        </p:blipFill>
        <p:spPr>
          <a:xfrm>
            <a:off x="914400" y="152388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1872" name="Text Box 4"/>
          <p:cNvSpPr/>
          <p:nvPr/>
        </p:nvSpPr>
        <p:spPr>
          <a:xfrm>
            <a:off x="5638680" y="1981080"/>
            <a:ext cx="30481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Il drago della violenza immobiliz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5638680" y="3429000"/>
            <a:ext cx="3200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i vuole un cavaliere che combatta il dr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Text Box 6"/>
          <p:cNvSpPr/>
          <p:nvPr/>
        </p:nvSpPr>
        <p:spPr>
          <a:xfrm>
            <a:off x="5715000" y="4876920"/>
            <a:ext cx="3124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L’insegnante appartiene all’ordine dei cavalie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2"/>
          <p:cNvSpPr/>
          <p:nvPr/>
        </p:nvSpPr>
        <p:spPr>
          <a:xfrm>
            <a:off x="990720" y="205740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…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l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a luog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dell’accoglienza e della formazion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en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luogo di conflitt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Text Box 3"/>
          <p:cNvSpPr/>
          <p:nvPr/>
        </p:nvSpPr>
        <p:spPr>
          <a:xfrm>
            <a:off x="1403280" y="1185840"/>
            <a:ext cx="61214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encil"/>
                <a:ea typeface="Times New Roman"/>
              </a:rPr>
              <a:t>Cosa succede  se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752480" y="1397160"/>
          <a:ext cx="7086600" cy="4573440"/>
        </p:xfrm>
        <a:graphic>
          <a:graphicData uri="http://schemas.openxmlformats.org/drawingml/2006/table">
            <a:tbl>
              <a:tblPr/>
              <a:tblGrid>
                <a:gridCol w="1417680"/>
                <a:gridCol w="1416240"/>
                <a:gridCol w="1419120"/>
                <a:gridCol w="1415880"/>
                <a:gridCol w="1417680"/>
              </a:tblGrid>
              <a:tr h="134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cce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sc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stidi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g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eccan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er richiamare l’atten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ib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stin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ispett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sivo vio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VENDET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enza spera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NCAPACI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8" name="Line 40"/>
          <p:cNvSpPr/>
          <p:nvPr/>
        </p:nvSpPr>
        <p:spPr>
          <a:xfrm>
            <a:off x="3170160" y="2438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Text Box 41"/>
          <p:cNvSpPr/>
          <p:nvPr/>
        </p:nvSpPr>
        <p:spPr>
          <a:xfrm>
            <a:off x="3276720" y="21337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assivo-costrut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Text Box 42"/>
          <p:cNvSpPr/>
          <p:nvPr/>
        </p:nvSpPr>
        <p:spPr>
          <a:xfrm>
            <a:off x="1835280" y="2133720"/>
            <a:ext cx="120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ttivo-costrut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Text Box 43"/>
          <p:cNvSpPr/>
          <p:nvPr/>
        </p:nvSpPr>
        <p:spPr>
          <a:xfrm>
            <a:off x="4267080" y="882720"/>
            <a:ext cx="4419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minuzione dell’interesse soci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Line 44"/>
          <p:cNvSpPr/>
          <p:nvPr/>
        </p:nvSpPr>
        <p:spPr>
          <a:xfrm>
            <a:off x="1752480" y="1066680"/>
            <a:ext cx="2438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Line 45"/>
          <p:cNvSpPr/>
          <p:nvPr/>
        </p:nvSpPr>
        <p:spPr>
          <a:xfrm>
            <a:off x="900000" y="1413000"/>
            <a:ext cx="0" cy="3476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Line 46"/>
          <p:cNvSpPr/>
          <p:nvPr/>
        </p:nvSpPr>
        <p:spPr>
          <a:xfrm>
            <a:off x="262080" y="13860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5" name="Text Box 47"/>
          <p:cNvSpPr/>
          <p:nvPr/>
        </p:nvSpPr>
        <p:spPr>
          <a:xfrm>
            <a:off x="0" y="5013360"/>
            <a:ext cx="1687680" cy="580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raggiamento soci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6" name="Oval 48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7" name="Oval 49"/>
          <p:cNvSpPr/>
          <p:nvPr/>
        </p:nvSpPr>
        <p:spPr>
          <a:xfrm>
            <a:off x="4343400" y="32511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8" name="Oval 50"/>
          <p:cNvSpPr/>
          <p:nvPr/>
        </p:nvSpPr>
        <p:spPr>
          <a:xfrm>
            <a:off x="2438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9" name="Oval 51"/>
          <p:cNvSpPr/>
          <p:nvPr/>
        </p:nvSpPr>
        <p:spPr>
          <a:xfrm>
            <a:off x="6172200" y="5257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0" name="Oval 52"/>
          <p:cNvSpPr/>
          <p:nvPr/>
        </p:nvSpPr>
        <p:spPr>
          <a:xfrm>
            <a:off x="7010280" y="3581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1" name="Oval 53"/>
          <p:cNvSpPr/>
          <p:nvPr/>
        </p:nvSpPr>
        <p:spPr>
          <a:xfrm>
            <a:off x="5257800" y="3505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2" name="Oval 54"/>
          <p:cNvSpPr/>
          <p:nvPr/>
        </p:nvSpPr>
        <p:spPr>
          <a:xfrm>
            <a:off x="7010280" y="4876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3" name="Oval 55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Oval 56"/>
          <p:cNvSpPr/>
          <p:nvPr/>
        </p:nvSpPr>
        <p:spPr>
          <a:xfrm>
            <a:off x="701028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5" name="Line 57"/>
          <p:cNvSpPr/>
          <p:nvPr/>
        </p:nvSpPr>
        <p:spPr>
          <a:xfrm>
            <a:off x="2484360" y="29242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6" name="Line 58"/>
          <p:cNvSpPr/>
          <p:nvPr/>
        </p:nvSpPr>
        <p:spPr>
          <a:xfrm>
            <a:off x="5305320" y="293364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Line 59"/>
          <p:cNvSpPr/>
          <p:nvPr/>
        </p:nvSpPr>
        <p:spPr>
          <a:xfrm>
            <a:off x="4381560" y="3276720"/>
            <a:ext cx="1752480" cy="19810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8" name="Line 60"/>
          <p:cNvSpPr/>
          <p:nvPr/>
        </p:nvSpPr>
        <p:spPr>
          <a:xfrm>
            <a:off x="4381560" y="3314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Line 61"/>
          <p:cNvSpPr/>
          <p:nvPr/>
        </p:nvSpPr>
        <p:spPr>
          <a:xfrm>
            <a:off x="7048440" y="3352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0" name="Text Box 62"/>
          <p:cNvSpPr/>
          <p:nvPr/>
        </p:nvSpPr>
        <p:spPr>
          <a:xfrm>
            <a:off x="25178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Text Box 63"/>
          <p:cNvSpPr/>
          <p:nvPr/>
        </p:nvSpPr>
        <p:spPr>
          <a:xfrm>
            <a:off x="5337720" y="16002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UT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Text Box 64"/>
          <p:cNvSpPr/>
          <p:nvPr/>
        </p:nvSpPr>
        <p:spPr>
          <a:xfrm>
            <a:off x="1187280" y="33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La crescita del disadatt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Text Box 65"/>
          <p:cNvSpPr/>
          <p:nvPr/>
        </p:nvSpPr>
        <p:spPr>
          <a:xfrm>
            <a:off x="3492360" y="616572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R. Dreikurs,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sicologia in classe,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d. Giunti Barbe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"/>
          <p:cNvSpPr txBox="1"/>
          <p:nvPr/>
        </p:nvSpPr>
        <p:spPr>
          <a:xfrm>
            <a:off x="324000" y="907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competenza inerisce al sogget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in quanto</a:t>
            </a: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 qualità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che lo denota non-superficialmente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- perché </a:t>
            </a: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non tollera una scomposizione analitica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 in abilità elementari ‘discrete’;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in quanto </a:t>
            </a:r>
            <a:r>
              <a:rPr b="1" i="1" lang="it-IT" sz="3200" spc="-1" strike="noStrike">
                <a:solidFill>
                  <a:srgbClr val="40458c"/>
                </a:solidFill>
                <a:latin typeface="Tahoma"/>
              </a:rPr>
              <a:t>espressione manifesta del “saper essere”.</a:t>
            </a: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Text Box 2"/>
          <p:cNvSpPr/>
          <p:nvPr/>
        </p:nvSpPr>
        <p:spPr>
          <a:xfrm>
            <a:off x="1116000" y="2492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a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e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Cos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n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Text Box 3"/>
          <p:cNvSpPr/>
          <p:nvPr/>
        </p:nvSpPr>
        <p:spPr>
          <a:xfrm>
            <a:off x="1403280" y="836640"/>
            <a:ext cx="7129440" cy="175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tencil"/>
                <a:ea typeface="Times New Roman"/>
              </a:rPr>
              <a:t>Domande guid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Rectangle 4"/>
          <p:cNvSpPr/>
          <p:nvPr/>
        </p:nvSpPr>
        <p:spPr>
          <a:xfrm>
            <a:off x="1187280" y="335772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1" lang="it-IT" sz="3200" spc="-1" strike="noStrike">
                <a:solidFill>
                  <a:srgbClr val="0066ff"/>
                </a:solidFill>
                <a:latin typeface="Times New Roman"/>
              </a:rPr>
              <a:t>“accolgo”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entro di 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la violenz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del gesto, della parola, dell’atteggiamento…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Rectangle 5"/>
          <p:cNvSpPr/>
          <p:nvPr/>
        </p:nvSpPr>
        <p:spPr>
          <a:xfrm>
            <a:off x="1547640" y="5300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Text Box 6"/>
          <p:cNvSpPr/>
          <p:nvPr/>
        </p:nvSpPr>
        <p:spPr>
          <a:xfrm>
            <a:off x="1332000" y="51181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li sono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le paro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che us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li sono le mi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alità comunicativ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2"/>
          <p:cNvSpPr/>
          <p:nvPr/>
        </p:nvSpPr>
        <p:spPr>
          <a:xfrm>
            <a:off x="900000" y="1989000"/>
            <a:ext cx="824400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mparare a gestire un conflitto significa imparare a stimola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ensiero analitico,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pacità comunicative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ove conoscenze  sulla realtà delle persone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zioni  social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ermettendoci di  vedere </a:t>
            </a:r>
            <a:r>
              <a:rPr b="1" lang="it-IT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valore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altro.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AutoShape 3"/>
          <p:cNvSpPr/>
          <p:nvPr/>
        </p:nvSpPr>
        <p:spPr>
          <a:xfrm>
            <a:off x="900000" y="836640"/>
            <a:ext cx="7772400" cy="1008000"/>
          </a:xfrm>
          <a:prstGeom prst="roundRect">
            <a:avLst>
              <a:gd name="adj" fmla="val 21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stir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il conflit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 txBox="1"/>
          <p:nvPr/>
        </p:nvSpPr>
        <p:spPr>
          <a:xfrm>
            <a:off x="1475640" y="1409040"/>
            <a:ext cx="7223040" cy="1047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ccoglienza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patia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336733"/>
                </a:solidFill>
                <a:latin typeface="Arial"/>
              </a:rPr>
              <a:t>Congruenza e autenticit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Sono gli elementi che aiutano a creare un clima facilitante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unicazione educ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755640" y="3809880"/>
            <a:ext cx="7632720" cy="2189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eguen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ferimento a comportamenti, atteggiamenti, val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involgimento del docente come pers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involgimento dell’alunno come  protagoni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792000" y="1560600"/>
            <a:ext cx="7560000" cy="1869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lore aggiu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n fermarsi al piano dei significati, ma arrivare al piano del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ns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coinvolgendo l’allievo sui versanti psicologico, sociale, morale, uma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 tre vettori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838680" y="4884840"/>
            <a:ext cx="865080" cy="1224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3781440" y="4149360"/>
            <a:ext cx="1584360" cy="754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3819600" y="2565000"/>
            <a:ext cx="0" cy="23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2484360" y="3860280"/>
            <a:ext cx="230508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2484360" y="357300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"/>
          <p:cNvSpPr/>
          <p:nvPr/>
        </p:nvSpPr>
        <p:spPr>
          <a:xfrm>
            <a:off x="4716360" y="1628640"/>
            <a:ext cx="7308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"/>
          <p:cNvSpPr/>
          <p:nvPr/>
        </p:nvSpPr>
        <p:spPr>
          <a:xfrm>
            <a:off x="4789440" y="386064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2484360" y="1628640"/>
            <a:ext cx="223200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5005440" y="3860280"/>
            <a:ext cx="201780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"/>
          <p:cNvSpPr/>
          <p:nvPr/>
        </p:nvSpPr>
        <p:spPr>
          <a:xfrm>
            <a:off x="2484360" y="63104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2627280" y="2852640"/>
            <a:ext cx="2303640" cy="2520720"/>
            <a:chOff x="2627280" y="2852640"/>
            <a:chExt cx="2303640" cy="2520720"/>
          </a:xfrm>
        </p:grpSpPr>
        <p:grpSp>
          <p:nvGrpSpPr>
            <p:cNvPr id="1928" name=""/>
            <p:cNvGrpSpPr/>
            <p:nvPr/>
          </p:nvGrpSpPr>
          <p:grpSpPr>
            <a:xfrm>
              <a:off x="2627280" y="2883240"/>
              <a:ext cx="2303640" cy="2490120"/>
              <a:chOff x="2627280" y="2883240"/>
              <a:chExt cx="2303640" cy="2490120"/>
            </a:xfrm>
          </p:grpSpPr>
          <p:sp>
            <p:nvSpPr>
              <p:cNvPr id="1929" name=""/>
              <p:cNvSpPr/>
              <p:nvPr/>
            </p:nvSpPr>
            <p:spPr>
              <a:xfrm>
                <a:off x="2627280" y="4557600"/>
                <a:ext cx="2303640" cy="81576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83600" y="4194360"/>
                <a:ext cx="1790640" cy="72540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002760" y="3906360"/>
                <a:ext cx="1579320" cy="54324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138840" y="3650400"/>
                <a:ext cx="1322640" cy="45360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266280" y="3378960"/>
                <a:ext cx="1025280" cy="45360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394800" y="3198960"/>
                <a:ext cx="810360" cy="36144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522600" y="3017160"/>
                <a:ext cx="554760" cy="27144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650400" y="2925360"/>
                <a:ext cx="299880" cy="18144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720960" y="2883240"/>
                <a:ext cx="169920" cy="90000"/>
              </a:xfrm>
              <a:prstGeom prst="ellipse">
                <a:avLst/>
              </a:prstGeom>
              <a:solidFill>
                <a:srgbClr val="ffff99">
                  <a:alpha val="2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38" name=""/>
            <p:cNvSpPr/>
            <p:nvPr/>
          </p:nvSpPr>
          <p:spPr>
            <a:xfrm>
              <a:off x="3781080" y="2852640"/>
              <a:ext cx="53280" cy="68040"/>
            </a:xfrm>
            <a:prstGeom prst="ellipse">
              <a:avLst/>
            </a:prstGeom>
            <a:solidFill>
              <a:srgbClr val="ffff99">
                <a:alpha val="20000"/>
              </a:srgbClr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9" name=""/>
          <p:cNvSpPr/>
          <p:nvPr/>
        </p:nvSpPr>
        <p:spPr>
          <a:xfrm>
            <a:off x="5508720" y="2852640"/>
            <a:ext cx="1150920" cy="865440"/>
          </a:xfrm>
          <a:prstGeom prst="wedgeRoundRectCallout">
            <a:avLst>
              <a:gd name="adj1" fmla="val -50412"/>
              <a:gd name="adj2" fmla="val 93300"/>
              <a:gd name="adj3" fmla="val 16667"/>
            </a:avLst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ggetto cultur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0" name=""/>
          <p:cNvSpPr/>
          <p:nvPr/>
        </p:nvSpPr>
        <p:spPr>
          <a:xfrm>
            <a:off x="5221440" y="4653000"/>
            <a:ext cx="2016000" cy="792000"/>
          </a:xfrm>
          <a:prstGeom prst="wedgeRoundRectCallout">
            <a:avLst>
              <a:gd name="adj1" fmla="val -71337"/>
              <a:gd name="adj2" fmla="val 122143"/>
              <a:gd name="adj3" fmla="val 16667"/>
            </a:avLst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mbiente di apprendi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1" name=""/>
          <p:cNvSpPr/>
          <p:nvPr/>
        </p:nvSpPr>
        <p:spPr>
          <a:xfrm>
            <a:off x="1476360" y="1628640"/>
            <a:ext cx="2016000" cy="792360"/>
          </a:xfrm>
          <a:prstGeom prst="wedgeRoundRectCallout">
            <a:avLst>
              <a:gd name="adj1" fmla="val 59606"/>
              <a:gd name="adj2" fmla="val 93087"/>
              <a:gd name="adj3" fmla="val 16667"/>
            </a:avLst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azione della perso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2" name=""/>
          <p:cNvSpPr/>
          <p:nvPr/>
        </p:nvSpPr>
        <p:spPr>
          <a:xfrm>
            <a:off x="2268360" y="3860640"/>
            <a:ext cx="21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3" name=""/>
          <p:cNvSpPr/>
          <p:nvPr/>
        </p:nvSpPr>
        <p:spPr>
          <a:xfrm>
            <a:off x="250920" y="6308640"/>
            <a:ext cx="22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250920" y="3860280"/>
            <a:ext cx="201744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"/>
          <p:cNvSpPr/>
          <p:nvPr/>
        </p:nvSpPr>
        <p:spPr>
          <a:xfrm>
            <a:off x="2484360" y="3860640"/>
            <a:ext cx="23036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"/>
          <p:cNvSpPr/>
          <p:nvPr/>
        </p:nvSpPr>
        <p:spPr>
          <a:xfrm>
            <a:off x="7164360" y="1844640"/>
            <a:ext cx="1728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OC e AdA  sono mez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FP appartiene all’ordine finali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"/>
          <p:cNvSpPr/>
          <p:nvPr/>
        </p:nvSpPr>
        <p:spPr>
          <a:xfrm>
            <a:off x="7164360" y="1844640"/>
            <a:ext cx="1728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OC e AdA  sono mez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FP appartiene all’ordine finali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"/>
          <p:cNvGrpSpPr/>
          <p:nvPr/>
        </p:nvGrpSpPr>
        <p:grpSpPr>
          <a:xfrm>
            <a:off x="468360" y="981000"/>
            <a:ext cx="6950160" cy="5114880"/>
            <a:chOff x="468360" y="981000"/>
            <a:chExt cx="6950160" cy="5114880"/>
          </a:xfrm>
        </p:grpSpPr>
        <p:grpSp>
          <p:nvGrpSpPr>
            <p:cNvPr id="1949" name=""/>
            <p:cNvGrpSpPr/>
            <p:nvPr/>
          </p:nvGrpSpPr>
          <p:grpSpPr>
            <a:xfrm>
              <a:off x="2593800" y="2636640"/>
              <a:ext cx="2879640" cy="2184480"/>
              <a:chOff x="2593800" y="2636640"/>
              <a:chExt cx="2879640" cy="2184480"/>
            </a:xfrm>
          </p:grpSpPr>
          <p:sp>
            <p:nvSpPr>
              <p:cNvPr id="1950" name=""/>
              <p:cNvSpPr/>
              <p:nvPr/>
            </p:nvSpPr>
            <p:spPr>
              <a:xfrm>
                <a:off x="3911400" y="4678200"/>
                <a:ext cx="289080" cy="14292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768480" y="4440240"/>
                <a:ext cx="574560" cy="28728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514680" y="4132080"/>
                <a:ext cx="1081080" cy="43344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333600" y="3898800"/>
                <a:ext cx="1441440" cy="43200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152520" y="3646440"/>
                <a:ext cx="1800360" cy="43164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043080" y="3286080"/>
                <a:ext cx="2016000" cy="50472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881080" y="2925720"/>
                <a:ext cx="2376360" cy="57636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593800" y="2636640"/>
                <a:ext cx="2879640" cy="576360"/>
              </a:xfrm>
              <a:prstGeom prst="ellipse">
                <a:avLst/>
              </a:prstGeom>
              <a:solidFill>
                <a:srgbClr val="ff99cc">
                  <a:alpha val="47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 flipV="1">
              <a:off x="4033800" y="2347920"/>
              <a:ext cx="0" cy="24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2450880" y="3644640"/>
              <a:ext cx="2951280" cy="244800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49440" y="2636640"/>
              <a:ext cx="1440" cy="345780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03960" y="981000"/>
              <a:ext cx="0" cy="266364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2449440" y="981000"/>
              <a:ext cx="2952720" cy="165564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03960" y="3644640"/>
              <a:ext cx="2014560" cy="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450880" y="6094440"/>
              <a:ext cx="2519640" cy="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4970520" y="3644640"/>
              <a:ext cx="2448000" cy="244800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68360" y="6094440"/>
              <a:ext cx="1981080" cy="144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529080" y="3644640"/>
              <a:ext cx="1874880" cy="0"/>
            </a:xfrm>
            <a:prstGeom prst="line">
              <a:avLst/>
            </a:prstGeom>
            <a:ln w="9360">
              <a:solidFill>
                <a:srgbClr val="99ff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469800" y="4507920"/>
              <a:ext cx="1979640" cy="158436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2449440" y="3644280"/>
              <a:ext cx="1079640" cy="863640"/>
            </a:xfrm>
            <a:prstGeom prst="line">
              <a:avLst/>
            </a:prstGeom>
            <a:ln w="9360">
              <a:solidFill>
                <a:srgbClr val="99ff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4033800" y="4294080"/>
              <a:ext cx="1657440" cy="503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033800" y="4797360"/>
              <a:ext cx="792000" cy="863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971640" y="26028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chema di sens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"/>
          <p:cNvSpPr/>
          <p:nvPr/>
        </p:nvSpPr>
        <p:spPr>
          <a:xfrm>
            <a:off x="6659640" y="1341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"/>
          <p:cNvSpPr/>
          <p:nvPr/>
        </p:nvSpPr>
        <p:spPr>
          <a:xfrm>
            <a:off x="6300720" y="1484280"/>
            <a:ext cx="2303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OC e AdA  sono mezz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Arial"/>
              </a:rPr>
              <a:t>FP appartiene all’ordine finalis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"/>
          <p:cNvSpPr/>
          <p:nvPr/>
        </p:nvSpPr>
        <p:spPr>
          <a:xfrm>
            <a:off x="579600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"/>
          <p:cNvSpPr/>
          <p:nvPr/>
        </p:nvSpPr>
        <p:spPr>
          <a:xfrm>
            <a:off x="3635280" y="56610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"/>
          <p:cNvSpPr/>
          <p:nvPr/>
        </p:nvSpPr>
        <p:spPr>
          <a:xfrm>
            <a:off x="3995640" y="19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 tre vetto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OC e Ad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l docente esercita potestà professionale: sono la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“piattaforma”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he viene offerta ai ragazz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l </a:t>
            </a:r>
            <a:r>
              <a:rPr b="0" lang="it-IT" sz="2800" spc="-1" strike="noStrike">
                <a:solidFill>
                  <a:srgbClr val="ff0066"/>
                </a:solidFill>
                <a:latin typeface="Arial"/>
              </a:rPr>
              <a:t>terzo vettor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l’insegnate può intervenire solo con azione di “sostegno”, perché si generi lo slancio e non ci sia una curvatura implosiva. E può farlo solo con la </a:t>
            </a:r>
            <a:r>
              <a:rPr b="0" lang="it-IT" sz="2800" spc="-1" strike="noStrike">
                <a:solidFill>
                  <a:srgbClr val="ff0066"/>
                </a:solidFill>
                <a:latin typeface="Arial"/>
              </a:rPr>
              <a:t>testimonianz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Associazione alimenta la </a:t>
            </a:r>
            <a:r>
              <a:rPr b="0" lang="it-IT" sz="2800" spc="-1" strike="noStrike">
                <a:solidFill>
                  <a:srgbClr val="99ff99"/>
                </a:solidFill>
                <a:latin typeface="Arial"/>
              </a:rPr>
              <a:t>competenza di “stare a fianc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ccffff"/>
                </a:solidFill>
                <a:latin typeface="Tahoma"/>
              </a:rPr>
              <a:t>Il lavoro dell’insegnante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81" name="Object 3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3154320" cy="4708440"/>
          </a:xfrm>
          <a:prstGeom prst="rect">
            <a:avLst/>
          </a:prstGeom>
          <a:ln w="0">
            <a:noFill/>
          </a:ln>
        </p:spPr>
      </p:pic>
      <p:sp>
        <p:nvSpPr>
          <p:cNvPr id="1982" name="Text Box 4"/>
          <p:cNvSpPr/>
          <p:nvPr/>
        </p:nvSpPr>
        <p:spPr>
          <a:xfrm>
            <a:off x="5580000" y="1916280"/>
            <a:ext cx="3564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ovrare vela e timone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 è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il ragazz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he ha tra le mani la propria formazione e cresci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Line 2"/>
          <p:cNvSpPr/>
          <p:nvPr/>
        </p:nvSpPr>
        <p:spPr>
          <a:xfrm flipH="1">
            <a:off x="2843280" y="333360"/>
            <a:ext cx="2665440" cy="583236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4" name="Line 3"/>
          <p:cNvSpPr/>
          <p:nvPr/>
        </p:nvSpPr>
        <p:spPr>
          <a:xfrm flipH="1">
            <a:off x="4932360" y="476280"/>
            <a:ext cx="2519280" cy="583236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Line 4"/>
          <p:cNvSpPr/>
          <p:nvPr/>
        </p:nvSpPr>
        <p:spPr>
          <a:xfrm>
            <a:off x="4716360" y="2133720"/>
            <a:ext cx="201636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Line 5"/>
          <p:cNvSpPr/>
          <p:nvPr/>
        </p:nvSpPr>
        <p:spPr>
          <a:xfrm>
            <a:off x="4025880" y="3614760"/>
            <a:ext cx="208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Line 6"/>
          <p:cNvSpPr/>
          <p:nvPr/>
        </p:nvSpPr>
        <p:spPr>
          <a:xfrm>
            <a:off x="5292720" y="836640"/>
            <a:ext cx="201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Line 7"/>
          <p:cNvSpPr/>
          <p:nvPr/>
        </p:nvSpPr>
        <p:spPr>
          <a:xfrm>
            <a:off x="7956720" y="333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Line 8"/>
          <p:cNvSpPr/>
          <p:nvPr/>
        </p:nvSpPr>
        <p:spPr>
          <a:xfrm>
            <a:off x="4932360" y="1484280"/>
            <a:ext cx="201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Line 9"/>
          <p:cNvSpPr/>
          <p:nvPr/>
        </p:nvSpPr>
        <p:spPr>
          <a:xfrm>
            <a:off x="3419640" y="5013360"/>
            <a:ext cx="201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Line 10"/>
          <p:cNvSpPr/>
          <p:nvPr/>
        </p:nvSpPr>
        <p:spPr>
          <a:xfrm>
            <a:off x="3059280" y="5805360"/>
            <a:ext cx="20890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2" name="Line 11"/>
          <p:cNvSpPr/>
          <p:nvPr/>
        </p:nvSpPr>
        <p:spPr>
          <a:xfrm>
            <a:off x="3708360" y="4292640"/>
            <a:ext cx="208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Line 12"/>
          <p:cNvSpPr/>
          <p:nvPr/>
        </p:nvSpPr>
        <p:spPr>
          <a:xfrm>
            <a:off x="4406760" y="2843280"/>
            <a:ext cx="201636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Text Box 13"/>
          <p:cNvSpPr/>
          <p:nvPr/>
        </p:nvSpPr>
        <p:spPr>
          <a:xfrm>
            <a:off x="3331800" y="517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ipol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5" name="Text Box 14"/>
          <p:cNvSpPr/>
          <p:nvPr/>
        </p:nvSpPr>
        <p:spPr>
          <a:xfrm>
            <a:off x="3927960" y="4437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gin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Text Box 15"/>
          <p:cNvSpPr/>
          <p:nvPr/>
        </p:nvSpPr>
        <p:spPr>
          <a:xfrm>
            <a:off x="435888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nforz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Text Box 16"/>
          <p:cNvSpPr/>
          <p:nvPr/>
        </p:nvSpPr>
        <p:spPr>
          <a:xfrm>
            <a:off x="442764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ordinati ma ben infor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Text Box 17"/>
          <p:cNvSpPr/>
          <p:nvPr/>
        </p:nvSpPr>
        <p:spPr>
          <a:xfrm>
            <a:off x="4767120" y="2154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nsultati ed infor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Text Box 18"/>
          <p:cNvSpPr/>
          <p:nvPr/>
        </p:nvSpPr>
        <p:spPr>
          <a:xfrm>
            <a:off x="5189400" y="1484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ecisioni condiv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0" name="Text Box 19"/>
          <p:cNvSpPr/>
          <p:nvPr/>
        </p:nvSpPr>
        <p:spPr>
          <a:xfrm>
            <a:off x="5477040" y="83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iziativa e gest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Text Box 20"/>
          <p:cNvSpPr/>
          <p:nvPr/>
        </p:nvSpPr>
        <p:spPr>
          <a:xfrm>
            <a:off x="5559480" y="1238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o concert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Line 21"/>
          <p:cNvSpPr/>
          <p:nvPr/>
        </p:nvSpPr>
        <p:spPr>
          <a:xfrm>
            <a:off x="7236000" y="3645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Line 22"/>
          <p:cNvSpPr/>
          <p:nvPr/>
        </p:nvSpPr>
        <p:spPr>
          <a:xfrm>
            <a:off x="7308720" y="33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Line 23"/>
          <p:cNvSpPr/>
          <p:nvPr/>
        </p:nvSpPr>
        <p:spPr>
          <a:xfrm>
            <a:off x="7956720" y="371628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Line 24"/>
          <p:cNvSpPr/>
          <p:nvPr/>
        </p:nvSpPr>
        <p:spPr>
          <a:xfrm>
            <a:off x="7226280" y="37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Line 25"/>
          <p:cNvSpPr/>
          <p:nvPr/>
        </p:nvSpPr>
        <p:spPr>
          <a:xfrm>
            <a:off x="7236000" y="5950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Text Box 26"/>
          <p:cNvSpPr/>
          <p:nvPr/>
        </p:nvSpPr>
        <p:spPr>
          <a:xfrm rot="16200000">
            <a:off x="6267960" y="18756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i di partecip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Text Box 27"/>
          <p:cNvSpPr/>
          <p:nvPr/>
        </p:nvSpPr>
        <p:spPr>
          <a:xfrm rot="16200000">
            <a:off x="6339600" y="44694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n partecip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5651640" y="6093000"/>
            <a:ext cx="31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Text Box 29"/>
          <p:cNvSpPr/>
          <p:nvPr/>
        </p:nvSpPr>
        <p:spPr>
          <a:xfrm>
            <a:off x="5219640" y="6165720"/>
            <a:ext cx="309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. Hart – Unicef  Usa 199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Text Box 30"/>
          <p:cNvSpPr/>
          <p:nvPr/>
        </p:nvSpPr>
        <p:spPr>
          <a:xfrm>
            <a:off x="826920" y="40464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33"/>
                </a:solidFill>
                <a:latin typeface="Arial"/>
              </a:rPr>
              <a:t>Scala di H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Text Box 31"/>
          <p:cNvSpPr/>
          <p:nvPr/>
        </p:nvSpPr>
        <p:spPr>
          <a:xfrm>
            <a:off x="468360" y="198900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quale gradino ci troviamo abitualmente nella pratica d’aul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Oval 2"/>
          <p:cNvSpPr/>
          <p:nvPr/>
        </p:nvSpPr>
        <p:spPr>
          <a:xfrm>
            <a:off x="1979640" y="2133720"/>
            <a:ext cx="3313080" cy="1582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a classe da turist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ittad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4" name="AutoShape 3"/>
          <p:cNvSpPr/>
          <p:nvPr/>
        </p:nvSpPr>
        <p:spPr>
          <a:xfrm>
            <a:off x="1116000" y="549360"/>
            <a:ext cx="1871640" cy="1081080"/>
          </a:xfrm>
          <a:prstGeom prst="wedgeRectCallout">
            <a:avLst>
              <a:gd name="adj1" fmla="val 40416"/>
              <a:gd name="adj2" fmla="val 100513"/>
            </a:avLst>
          </a:prstGeom>
          <a:solidFill>
            <a:srgbClr val="d5b781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a si aspettano gli alun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AutoShape 4"/>
          <p:cNvSpPr/>
          <p:nvPr/>
        </p:nvSpPr>
        <p:spPr>
          <a:xfrm>
            <a:off x="5003640" y="549360"/>
            <a:ext cx="1944720" cy="863640"/>
          </a:xfrm>
          <a:prstGeom prst="wedgeRectCallout">
            <a:avLst>
              <a:gd name="adj1" fmla="val -39143"/>
              <a:gd name="adj2" fmla="val 14246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enti di apprendimento attivi e pass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AutoShape 5"/>
          <p:cNvSpPr/>
          <p:nvPr/>
        </p:nvSpPr>
        <p:spPr>
          <a:xfrm>
            <a:off x="324000" y="3716280"/>
            <a:ext cx="1512720" cy="647640"/>
          </a:xfrm>
          <a:prstGeom prst="wedgeRoundRectCallout">
            <a:avLst>
              <a:gd name="adj1" fmla="val 52625"/>
              <a:gd name="adj2" fmla="val -153430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i mana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7" name="AutoShape 6"/>
          <p:cNvSpPr/>
          <p:nvPr/>
        </p:nvSpPr>
        <p:spPr>
          <a:xfrm>
            <a:off x="5796000" y="2421000"/>
            <a:ext cx="1944720" cy="1224000"/>
          </a:xfrm>
          <a:prstGeom prst="wedgeRoundRectCallout">
            <a:avLst>
              <a:gd name="adj1" fmla="val -67796"/>
              <a:gd name="adj2" fmla="val -18740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a e apprendimento tridimensio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8" name="AutoShape 7"/>
          <p:cNvSpPr/>
          <p:nvPr/>
        </p:nvSpPr>
        <p:spPr>
          <a:xfrm>
            <a:off x="3132000" y="4365720"/>
            <a:ext cx="2664000" cy="576000"/>
          </a:xfrm>
          <a:prstGeom prst="wedgeEllipseCallout">
            <a:avLst>
              <a:gd name="adj1" fmla="val -657"/>
              <a:gd name="adj2" fmla="val -17919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discipli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AutoShape 8"/>
          <p:cNvSpPr/>
          <p:nvPr/>
        </p:nvSpPr>
        <p:spPr>
          <a:xfrm>
            <a:off x="826920" y="5300640"/>
            <a:ext cx="1800360" cy="574560"/>
          </a:xfrm>
          <a:prstGeom prst="wedgeRoundRectCallout">
            <a:avLst>
              <a:gd name="adj1" fmla="val 74074"/>
              <a:gd name="adj2" fmla="val -145305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– Round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0" name="AutoShape 9"/>
          <p:cNvSpPr/>
          <p:nvPr/>
        </p:nvSpPr>
        <p:spPr>
          <a:xfrm>
            <a:off x="3419640" y="5516640"/>
            <a:ext cx="1441440" cy="1008000"/>
          </a:xfrm>
          <a:prstGeom prst="wedgeRoundRectCallout">
            <a:avLst>
              <a:gd name="adj1" fmla="val -15861"/>
              <a:gd name="adj2" fmla="val -105907"/>
              <a:gd name="adj3" fmla="val 16667"/>
            </a:avLst>
          </a:prstGeom>
          <a:solidFill>
            <a:srgbClr val="d5b781"/>
          </a:solidFill>
          <a:ln w="19080">
            <a:solidFill>
              <a:srgbClr val="2f131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e regole in posi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1" name="AutoShape 10"/>
          <p:cNvSpPr/>
          <p:nvPr/>
        </p:nvSpPr>
        <p:spPr>
          <a:xfrm>
            <a:off x="5796000" y="5084640"/>
            <a:ext cx="1728720" cy="720720"/>
          </a:xfrm>
          <a:prstGeom prst="wedgeRoundRectCallout">
            <a:avLst>
              <a:gd name="adj1" fmla="val -45407"/>
              <a:gd name="adj2" fmla="val -101319"/>
              <a:gd name="adj3" fmla="val 16667"/>
            </a:avLst>
          </a:prstGeom>
          <a:solidFill>
            <a:srgbClr val="d5b781"/>
          </a:solidFill>
          <a:ln w="19080">
            <a:solidFill>
              <a:srgbClr val="2f131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2"/>
          <p:cNvSpPr/>
          <p:nvPr/>
        </p:nvSpPr>
        <p:spPr>
          <a:xfrm>
            <a:off x="250920" y="2205000"/>
            <a:ext cx="84978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Text Box 3"/>
          <p:cNvSpPr/>
          <p:nvPr/>
        </p:nvSpPr>
        <p:spPr>
          <a:xfrm>
            <a:off x="684360" y="2060640"/>
            <a:ext cx="777708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La competenza … si manifesta come capacità di affrontare e padroneggiare i problemi della vita attraverso l’uso di abilità cognitive e sociali” </a:t>
            </a:r>
            <a:r>
              <a:rPr b="1" i="1" lang="it-IT" sz="1600" spc="-1" strike="noStrike">
                <a:solidFill>
                  <a:srgbClr val="000066"/>
                </a:solidFill>
                <a:latin typeface="Verdana"/>
              </a:rPr>
              <a:t>(Pietro Bosco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Text Box 4"/>
          <p:cNvSpPr/>
          <p:nvPr/>
        </p:nvSpPr>
        <p:spPr>
          <a:xfrm>
            <a:off x="684360" y="3789360"/>
            <a:ext cx="7777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La Competenza non può essere framment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Text Box 5"/>
          <p:cNvSpPr/>
          <p:nvPr/>
        </p:nvSpPr>
        <p:spPr>
          <a:xfrm>
            <a:off x="539640" y="90792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ENZE/COMPETENZ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Text Box 6"/>
          <p:cNvSpPr/>
          <p:nvPr/>
        </p:nvSpPr>
        <p:spPr>
          <a:xfrm>
            <a:off x="684360" y="4869000"/>
            <a:ext cx="77770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ossiamo lavorare sulle competenze come abilità esperte, “manifestazione” della competen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osa gli alunni si aspettano dalla scuol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23" name=""/>
          <p:cNvGraphicFramePr/>
          <p:nvPr/>
        </p:nvGraphicFramePr>
        <p:xfrm>
          <a:off x="263520" y="1598760"/>
          <a:ext cx="7386480" cy="5362560"/>
        </p:xfrm>
        <a:graphic>
          <a:graphicData uri="http://schemas.openxmlformats.org/drawingml/2006/table">
            <a:tbl>
              <a:tblPr/>
              <a:tblGrid>
                <a:gridCol w="2724120"/>
                <a:gridCol w="466236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’alunno si aspe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Quando, dove, 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 essere degno di fiducia e rispet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l prendere decisioni sull’apprend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l fare al meglio il proprio lav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l parlare con i propri educatori senza essere trattato dall’alto al 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 assumere responsabi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arlando e votando nelle assemblee scolast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artecipando alla conduzione della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 avere delle sce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oter dire cosa pensano di ciò che impar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endendosi utili alla comun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2f131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Ambienti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di apprendimento </a:t>
            </a:r>
            <a:br>
              <a:rPr sz="3200"/>
            </a:b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attivi e passivi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25" name=""/>
          <p:cNvGraphicFramePr/>
          <p:nvPr/>
        </p:nvGraphicFramePr>
        <p:xfrm>
          <a:off x="263520" y="1598760"/>
          <a:ext cx="7386480" cy="5311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urista pass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ttadino at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seguono compiti di basso live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seguono progetti in piccolo grup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avorano per i fatti l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avorano in gruppo di apprendimento cooperativo di 2 o 4 ele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avorano su ciò che l’insegnante ha for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reano nuove idee e materiali attraverso proge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aramente discutono le ragioni delle loro rispo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 solito pensano/parlano a voce alta di come hanno ricavato una rispo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6" name="Picture 2" descr="scuolaelementa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ca124"/>
          <p:cNvPicPr/>
          <p:nvPr/>
        </p:nvPicPr>
        <p:blipFill>
          <a:blip r:embed="rId2"/>
          <a:stretch/>
        </p:blipFill>
        <p:spPr>
          <a:xfrm>
            <a:off x="4932360" y="5229360"/>
            <a:ext cx="3384720" cy="1628640"/>
          </a:xfrm>
          <a:prstGeom prst="rect">
            <a:avLst/>
          </a:prstGeom>
          <a:ln w="0">
            <a:noFill/>
          </a:ln>
        </p:spPr>
      </p:pic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propo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5"/>
          <p:cNvSpPr/>
          <p:nvPr/>
        </p:nvSpPr>
        <p:spPr>
          <a:xfrm>
            <a:off x="4500720" y="1628640"/>
            <a:ext cx="4176720" cy="4239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Un curricolo strutturato sulle competenze chiave di cittadinanz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Riferimenti europe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324000" y="1410840"/>
            <a:ext cx="8496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ccomandazione relativa alle competenze chiave del Parlamento Europeo e del Consiglio dell’UE per l’apprendimento permanente così definit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unicazione nella madrelingu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unicazione nelle lingue stranie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petenza matematica e di base in scienza e tecnolog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petenza digita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mparare ad impara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etenze sociali e civ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pirito di iniziativa ed imprenditorialit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2300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nsapevolezza ed espressione cultural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competenze chiave di cittadinanza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2050920" y="4220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’elevamento dell’obbligo di istruzione a dieci anni intende favorire il pieno sviluppo del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lla costruzione del sé, di corrette e significative relazioni con gli altri e di una positiva inter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la realtà naturale e soci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4" name="Picture 4" descr="obbligo 1"/>
          <p:cNvPicPr/>
          <p:nvPr/>
        </p:nvPicPr>
        <p:blipFill>
          <a:blip r:embed="rId1"/>
          <a:stretch/>
        </p:blipFill>
        <p:spPr>
          <a:xfrm>
            <a:off x="6076800" y="404640"/>
            <a:ext cx="30672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Garamond"/>
              </a:rPr>
              <a:t>Le otto competenze chiave di cittadinanza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mparare ad imparar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ettar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unicar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ollaborare e partecipare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Agire in modo autonomo e responsab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isolvere problem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dividuare collegamenti e relazion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cquisire ed interpretare l’informazion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7" name="Immagine 5" descr="16822(9).jpg"/>
          <p:cNvPicPr/>
          <p:nvPr/>
        </p:nvPicPr>
        <p:blipFill>
          <a:blip r:embed="rId1"/>
          <a:stretch/>
        </p:blipFill>
        <p:spPr>
          <a:xfrm>
            <a:off x="6300720" y="1052640"/>
            <a:ext cx="2013120" cy="22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erò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n è tanto questione di tematiche, quanto questione di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dalità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, che fanno lo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stile”, il clima di una scuola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 “stile” cooperativo, di collegialità, di continuità, è la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“marca”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che la scuola potrebbe assumere in ogni iniziativa/attività in qualsiasi dimens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41" name=""/>
          <p:cNvSpPr txBox="1"/>
          <p:nvPr/>
        </p:nvSpPr>
        <p:spPr>
          <a:xfrm rot="20673000">
            <a:off x="324000" y="691920"/>
            <a:ext cx="469584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cuola comunità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42" name=""/>
          <p:cNvSpPr/>
          <p:nvPr/>
        </p:nvSpPr>
        <p:spPr>
          <a:xfrm>
            <a:off x="2133720" y="396252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Non servono tanto bravi solis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quanto una buona orchest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3" name=""/>
          <p:cNvGrpSpPr/>
          <p:nvPr/>
        </p:nvGrpSpPr>
        <p:grpSpPr>
          <a:xfrm>
            <a:off x="538560" y="262080"/>
            <a:ext cx="508320" cy="507600"/>
            <a:chOff x="538560" y="262080"/>
            <a:chExt cx="508320" cy="507600"/>
          </a:xfrm>
        </p:grpSpPr>
        <p:pic>
          <p:nvPicPr>
            <p:cNvPr id="2044" name="" descr=""/>
            <p:cNvPicPr/>
            <p:nvPr/>
          </p:nvPicPr>
          <p:blipFill>
            <a:blip r:embed="rId1"/>
            <a:stretch/>
          </p:blipFill>
          <p:spPr>
            <a:xfrm>
              <a:off x="621000" y="262080"/>
              <a:ext cx="34344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 txBox="1"/>
            <p:nvPr/>
          </p:nvSpPr>
          <p:spPr>
            <a:xfrm rot="60600">
              <a:off x="539280" y="670680"/>
              <a:ext cx="506520" cy="943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Bimini"/>
                </a:rPr>
                <a:t>AIMC</a:t>
              </a:r>
              <a:endPara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Bimini"/>
                <a:ea typeface="Bimini"/>
              </a:endParaRPr>
            </a:p>
          </p:txBody>
        </p:sp>
      </p:grpSp>
      <p:sp>
        <p:nvSpPr>
          <p:cNvPr id="2046" name=""/>
          <p:cNvSpPr/>
          <p:nvPr/>
        </p:nvSpPr>
        <p:spPr>
          <a:xfrm>
            <a:off x="1116000" y="98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Papyrus"/>
              </a:rPr>
              <a:t>Tre possibili piani di interven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"/>
          <p:cNvSpPr/>
          <p:nvPr/>
        </p:nvSpPr>
        <p:spPr>
          <a:xfrm>
            <a:off x="755640" y="2349360"/>
            <a:ext cx="777564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Papyrus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Papyrus"/>
              </a:rPr>
              <a:t>Agire su noi stess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"/>
          <p:cNvSpPr/>
          <p:nvPr/>
        </p:nvSpPr>
        <p:spPr>
          <a:xfrm>
            <a:off x="971640" y="3429000"/>
            <a:ext cx="61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assare da agire di più ad agire di me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9" name=""/>
          <p:cNvSpPr/>
          <p:nvPr/>
        </p:nvSpPr>
        <p:spPr>
          <a:xfrm>
            <a:off x="900000" y="4005360"/>
            <a:ext cx="61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ospensione dei comportamenti soli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"/>
          <p:cNvSpPr/>
          <p:nvPr/>
        </p:nvSpPr>
        <p:spPr>
          <a:xfrm>
            <a:off x="900000" y="4724280"/>
            <a:ext cx="61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sservare senza lasciarsi coinvolg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"/>
          <p:cNvSpPr/>
          <p:nvPr/>
        </p:nvSpPr>
        <p:spPr>
          <a:xfrm>
            <a:off x="900000" y="5445000"/>
            <a:ext cx="6121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ontrollare le proprie comunicazioni (quanti rimproveri, elogi, silenzi … e quand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2" name=""/>
          <p:cNvGrpSpPr/>
          <p:nvPr/>
        </p:nvGrpSpPr>
        <p:grpSpPr>
          <a:xfrm>
            <a:off x="538560" y="262080"/>
            <a:ext cx="508320" cy="507600"/>
            <a:chOff x="538560" y="262080"/>
            <a:chExt cx="508320" cy="507600"/>
          </a:xfrm>
        </p:grpSpPr>
        <p:pic>
          <p:nvPicPr>
            <p:cNvPr id="2053" name="" descr=""/>
            <p:cNvPicPr/>
            <p:nvPr/>
          </p:nvPicPr>
          <p:blipFill>
            <a:blip r:embed="rId1"/>
            <a:stretch/>
          </p:blipFill>
          <p:spPr>
            <a:xfrm>
              <a:off x="621000" y="262080"/>
              <a:ext cx="34344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 txBox="1"/>
            <p:nvPr/>
          </p:nvSpPr>
          <p:spPr>
            <a:xfrm rot="60600">
              <a:off x="539280" y="670680"/>
              <a:ext cx="506520" cy="943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Bimini"/>
                </a:rPr>
                <a:t>AIMC</a:t>
              </a:r>
              <a:endPara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Bimini"/>
                <a:ea typeface="Bimini"/>
              </a:endParaRPr>
            </a:p>
          </p:txBody>
        </p:sp>
      </p:grpSp>
      <p:sp>
        <p:nvSpPr>
          <p:cNvPr id="2055" name=""/>
          <p:cNvSpPr/>
          <p:nvPr/>
        </p:nvSpPr>
        <p:spPr>
          <a:xfrm>
            <a:off x="1116000" y="98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Papyrus"/>
              </a:rPr>
              <a:t>Tre possibili piani di interven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"/>
          <p:cNvSpPr/>
          <p:nvPr/>
        </p:nvSpPr>
        <p:spPr>
          <a:xfrm>
            <a:off x="755640" y="2349360"/>
            <a:ext cx="777564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Papyrus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Papyrus"/>
              </a:rPr>
              <a:t>Agire sulla clas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"/>
          <p:cNvSpPr/>
          <p:nvPr/>
        </p:nvSpPr>
        <p:spPr>
          <a:xfrm>
            <a:off x="971640" y="3429000"/>
            <a:ext cx="61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roporre a tutti  comportamenti alterna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"/>
          <p:cNvSpPr/>
          <p:nvPr/>
        </p:nvSpPr>
        <p:spPr>
          <a:xfrm>
            <a:off x="900000" y="4005360"/>
            <a:ext cx="61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Valorizzare sempre quello che sanno già f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"/>
          <p:cNvSpPr/>
          <p:nvPr/>
        </p:nvSpPr>
        <p:spPr>
          <a:xfrm>
            <a:off x="900000" y="4724280"/>
            <a:ext cx="6121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inforzare con strumenti adeguati (note positive, elogi, oggetto simbolico, …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"/>
          <p:cNvSpPr/>
          <p:nvPr/>
        </p:nvSpPr>
        <p:spPr>
          <a:xfrm>
            <a:off x="900000" y="5661000"/>
            <a:ext cx="61214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ttivare forme di riflessione metacognitiva su come si apprende, come ci si controlla, perché si agisce, che senso si dà al tutto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l modello europe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a0702"/>
                </a:solidFill>
                <a:latin typeface="Tahoma"/>
              </a:rPr>
              <a:t>Dieci nuove competenze per insegnar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P.Perrenoud, 199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4 – </a:t>
            </a:r>
            <a:r>
              <a:rPr b="1" lang="it-IT" sz="2400" spc="-1" strike="noStrike">
                <a:solidFill>
                  <a:srgbClr val="16f82c"/>
                </a:solidFill>
                <a:latin typeface="Tahoma"/>
              </a:rPr>
              <a:t>Coinvolgere gli studenti nel loro apprendimento e nel loro lavo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uscitare il desiderio di apprendere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favorire la definizione di un progetto personale dell’alliev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9 – </a:t>
            </a:r>
            <a:r>
              <a:rPr b="1" lang="it-IT" sz="2400" spc="-1" strike="noStrike">
                <a:solidFill>
                  <a:srgbClr val="bf0d9d"/>
                </a:solidFill>
                <a:latin typeface="Tahoma"/>
              </a:rPr>
              <a:t>affrontare i doveri e i problemi etici della profess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reveni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la violenza a scuola e nella città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lottare contro i pregiudizi e le discriminazioni sessuali, etnici, so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partecipare alla costruzione di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regole di vita comune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definendo la disciplina a scuola, le punizioni, l’apprezzamento dei comport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analizzare la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relazione pedagogic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l’autorità, la comunicazione in class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sviluppare il senso di responsabilità, la solidarietà, il sentimento di giustiz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1" name=""/>
          <p:cNvGrpSpPr/>
          <p:nvPr/>
        </p:nvGrpSpPr>
        <p:grpSpPr>
          <a:xfrm>
            <a:off x="538560" y="262080"/>
            <a:ext cx="508320" cy="507600"/>
            <a:chOff x="538560" y="262080"/>
            <a:chExt cx="508320" cy="507600"/>
          </a:xfrm>
        </p:grpSpPr>
        <p:pic>
          <p:nvPicPr>
            <p:cNvPr id="2062" name="" descr=""/>
            <p:cNvPicPr/>
            <p:nvPr/>
          </p:nvPicPr>
          <p:blipFill>
            <a:blip r:embed="rId1"/>
            <a:stretch/>
          </p:blipFill>
          <p:spPr>
            <a:xfrm>
              <a:off x="621000" y="262080"/>
              <a:ext cx="34344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 txBox="1"/>
            <p:nvPr/>
          </p:nvSpPr>
          <p:spPr>
            <a:xfrm rot="60600">
              <a:off x="539280" y="670680"/>
              <a:ext cx="506520" cy="943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Bimini"/>
                </a:rPr>
                <a:t>AIMC</a:t>
              </a:r>
              <a:endPara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Bimini"/>
                <a:ea typeface="Bimini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1116000" y="98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Papyrus"/>
              </a:rPr>
              <a:t>Tre possibili piani di interven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"/>
          <p:cNvSpPr/>
          <p:nvPr/>
        </p:nvSpPr>
        <p:spPr>
          <a:xfrm>
            <a:off x="755640" y="2349360"/>
            <a:ext cx="777564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Papyrus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Papyrus"/>
              </a:rPr>
              <a:t>Agire sul ragazz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"/>
          <p:cNvSpPr/>
          <p:nvPr/>
        </p:nvSpPr>
        <p:spPr>
          <a:xfrm>
            <a:off x="971640" y="3429000"/>
            <a:ext cx="6121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piegare bene e nel dettaglio i comportamenti che ci aspettiamo da 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"/>
          <p:cNvSpPr/>
          <p:nvPr/>
        </p:nvSpPr>
        <p:spPr>
          <a:xfrm>
            <a:off x="826920" y="4508640"/>
            <a:ext cx="6121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viluppare il suo dialogo interno offrendo  noi stessi e i compagni come modell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"/>
          <p:cNvSpPr/>
          <p:nvPr/>
        </p:nvSpPr>
        <p:spPr>
          <a:xfrm>
            <a:off x="900000" y="5445000"/>
            <a:ext cx="6121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roponiamo richieste strategiche il cui esito possa essere solo vantaggio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0" name=""/>
          <p:cNvSpPr/>
          <p:nvPr/>
        </p:nvSpPr>
        <p:spPr>
          <a:xfrm>
            <a:off x="0" y="620640"/>
            <a:ext cx="8496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Arial"/>
              </a:rPr>
              <a:t>«Tutti sanno che una cosa è impossibile da realizzare, finchè arriva uno sprovveduto che non lo sa e la inventa.»</a:t>
            </a:r>
            <a:br>
              <a:rPr sz="4400"/>
            </a:b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Albert Einstei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"/>
          <p:cNvSpPr/>
          <p:nvPr/>
        </p:nvSpPr>
        <p:spPr>
          <a:xfrm>
            <a:off x="324000" y="5157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orremmo essere questi “sprovveduti” che alimentano speran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l modello italia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a0702"/>
                </a:solidFill>
                <a:latin typeface="Tahoma"/>
              </a:rPr>
              <a:t>“</a:t>
            </a:r>
            <a:r>
              <a:rPr b="1" lang="it-IT" sz="2400" spc="-1" strike="noStrike">
                <a:solidFill>
                  <a:srgbClr val="ca0702"/>
                </a:solidFill>
                <a:latin typeface="Tahoma"/>
              </a:rPr>
              <a:t>Il portfolio degli insegnanti” (ricerca condotta dalle Associazioni professionali-USR Emilia Romagna),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ecnodid, 200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Competenze raggruppate in cinque aree corrispondenti a insegnant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colto, riflessivo, pratico, collaborativo, ricercator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1" lang="it-IT" sz="2000" spc="-1" strike="noStrike">
                <a:solidFill>
                  <a:srgbClr val="16f82c"/>
                </a:solidFill>
                <a:latin typeface="Tahoma"/>
              </a:rPr>
              <a:t>Area pedagogica (insegnante riflessiv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- l’insegnante gradua e governa il processo di insegnamento e di apprendimento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sia negli aspetti cognitivi che in quelli affettivo-relazionali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, tenendo conto delle caratteristiche socio-psicologiche degli alunni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- promuove e assume atteggiamenti /comportamenti collaborativi utilizzando anche le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dinamiche di gruppo classe 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a fini formativi (regia educativa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- stimola, motiva e valorizza i propri alliev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- sa gestire i curricoli per l’area dell’integrazione (disabili e altri soggetti in difficoltà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- accetta le idee e i vissuti degli allievi ponendosi in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coerenza educativa 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e testimone dei principi di apertura, responsabilità e correttezza che chiede agli allievi, pur senza rinunciare al proprio ruolo educativo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l modello INTASC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a0702"/>
                </a:solidFill>
                <a:latin typeface="Tahoma"/>
              </a:rPr>
              <a:t>Dieci competenze con indicatori individuate dall’Intestate New Teacher Assesment and Support Consortium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 – </a:t>
            </a:r>
            <a:r>
              <a:rPr b="1" lang="it-IT" sz="1800" spc="-1" strike="noStrike">
                <a:solidFill>
                  <a:srgbClr val="6da186"/>
                </a:solidFill>
                <a:latin typeface="Tahoma"/>
              </a:rPr>
              <a:t>Conoscenza delle teorie relative allo sviluppo dell’apprendimento</a:t>
            </a:r>
            <a:r>
              <a:rPr b="0" lang="it-IT" sz="1800" spc="-1" strike="noStrike">
                <a:solidFill>
                  <a:srgbClr val="16f82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16f82c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16f82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sviluppo sociale ed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emot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it-IT" sz="1200" spc="-1" strike="noStrike">
                <a:solidFill>
                  <a:srgbClr val="f55d19"/>
                </a:solidFill>
                <a:latin typeface="Tahoma"/>
              </a:rPr>
              <a:t> – </a:t>
            </a:r>
            <a:r>
              <a:rPr b="1" lang="it-IT" sz="1800" spc="-1" strike="noStrike">
                <a:solidFill>
                  <a:srgbClr val="f55d19"/>
                </a:solidFill>
                <a:latin typeface="Tahoma"/>
              </a:rPr>
              <a:t>Competenza nella conduzione della classe</a:t>
            </a:r>
            <a:r>
              <a:rPr b="0" lang="it-IT" sz="800" spc="-1" strike="noStrike">
                <a:solidFill>
                  <a:srgbClr val="16f82c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a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scolt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l gruppo class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progettazione e realizzazione di situazioni favorevoli allo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sviluppo socia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progettazione e realizzazione di situazioni che favoriscono l’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automotivazion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 l’impeg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favorire la definizione di un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progetto personal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ll’allie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8 – </a:t>
            </a:r>
            <a:r>
              <a:rPr b="1" lang="it-IT" sz="1800" spc="-1" strike="noStrike">
                <a:solidFill>
                  <a:srgbClr val="bf0d9d"/>
                </a:solidFill>
                <a:latin typeface="Tahoma"/>
              </a:rPr>
              <a:t>Competenza comunic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bf0d9d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uso consapevole dei diversi linguaggi e del loro valore format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predisposizione di situazioni comunicative che favoriscano la ricerca e l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a negoziazione </a:t>
            </a:r>
            <a:r>
              <a:rPr b="0" lang="it-IT" sz="1600" spc="-1" strike="noStrike">
                <a:solidFill>
                  <a:srgbClr val="303469"/>
                </a:solidFill>
                <a:latin typeface="Tahoma"/>
              </a:rPr>
              <a:t>in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class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66"/>
                </a:solidFill>
                <a:latin typeface="Tahoma"/>
              </a:rPr>
              <a:t>Punti comuni per affrontare il bullism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ner conto degli aspetti affettivo-emotiv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siderare il singolo soggetto nel grup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Valorizzare il “clima” di gruppo, classe, scuo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Valorizzare le eccellenze di ciascu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untare su collegialità e corresponsabilità dei docen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iutare a strutturare modelli di gruppo “alternativi” (valori che contan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WordArt 4"/>
          <p:cNvSpPr txBox="1"/>
          <p:nvPr/>
        </p:nvSpPr>
        <p:spPr>
          <a:xfrm>
            <a:off x="1258920" y="1628640"/>
            <a:ext cx="698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llism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WordArt 5"/>
          <p:cNvSpPr txBox="1"/>
          <p:nvPr/>
        </p:nvSpPr>
        <p:spPr>
          <a:xfrm>
            <a:off x="1547640" y="436572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oscerlo e prevenirl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5:44:05Z</dcterms:created>
  <dc:creator>*</dc:creator>
  <dc:description/>
  <dc:language>en-US</dc:language>
  <cp:lastModifiedBy>User</cp:lastModifiedBy>
  <dcterms:modified xsi:type="dcterms:W3CDTF">2000-01-01T00:01:05Z</dcterms:modified>
  <cp:revision>74</cp:revision>
  <dc:subject/>
  <dc:title>TITOLO</dc:title>
</cp:coreProperties>
</file>