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89F-C57D-47E3-A06E-D7255CF1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7E4-D735-4471-A2BD-974A25DA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189-9A92-4EA4-B6BA-C2B6552F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6FF-143F-44B3-B6B4-B18EDC4E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C1CC-CE09-41B5-BD33-8E386998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B925-A25D-40DA-83E0-29BA6195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641E-0624-4DD5-A07C-CA9ECAA1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A875-4C79-44FD-A9F2-9CD06BEB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2389-9CEE-496B-9ED8-AFFCF9A1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8B30-A4DE-4AE1-8E47-9FE42E91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6EDD-CA4A-4A89-9F30-93057D01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1DA-8D2C-4AD2-9F1B-1EC319C2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666D-8F12-4C82-87CD-4C18D81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2B42-C2D1-4332-84FA-F26C346A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7128-F3D5-4BAD-8FBB-3C4CA59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1149-7936-41FD-B77A-F61E9C14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ED30-396C-434B-9B3B-E7A13005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B6C-0E1A-4E42-B7F2-A2DB008C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3BB-DD9D-4B5A-9EA7-A13FA95E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FD3-62B3-4EE3-B4C4-24296169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7E3-9AB0-49B6-8153-46CA2FAD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841-C579-4F13-857B-3DA36067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F1E-0985-488D-9338-38CF1E4F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BB1-1E06-40F2-A570-389F8A0E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D23C-8C5A-4EA2-B473-8DFD716B5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AC5D-3946-48B0-8AA5-3811FC510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 Rounded MT Bold"/>
              </a:rPr>
              <a:t>DALLA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Arial Rounded MT Bold"/>
              </a:rPr>
              <a:t>PREVENZIONE DEL DISAGIO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 Rounded MT Bold"/>
              </a:rPr>
              <a:t>ALLA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Arial Rounded MT Bold"/>
              </a:rPr>
              <a:t>PROMOZIONE DEL </a:t>
            </a:r>
            <a:br>
              <a:rPr sz="4800"/>
            </a:b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Arial Rounded MT Bold"/>
              </a:rPr>
              <a:t>BEN-ESSERE</a:t>
            </a:r>
            <a:br>
              <a:rPr sz="5400"/>
            </a:br>
            <a:br>
              <a:rPr sz="5400"/>
            </a:br>
            <a:r>
              <a:rPr b="1" i="1" lang="en-US" sz="3200" spc="-1" strike="noStrike">
                <a:solidFill>
                  <a:srgbClr val="000099"/>
                </a:solidFill>
                <a:latin typeface="Arial Rounded MT Bold"/>
              </a:rPr>
              <a:t>Antonella Arioli</a:t>
            </a:r>
            <a:br>
              <a:rPr sz="3200"/>
            </a:br>
            <a:r>
              <a:rPr b="1" i="1" lang="en-US" sz="2400" spc="-1" strike="noStrike">
                <a:solidFill>
                  <a:srgbClr val="000099"/>
                </a:solidFill>
                <a:latin typeface="Arial Rounded MT Bold"/>
              </a:rPr>
              <a:t>pedagogista équipe  Assoc.“Amico Charly” Onlu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4797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42920" y="-360"/>
            <a:ext cx="88581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movente di alcuni atti non c’è, o se c’è, è insufficiente o sproporzionato alla tragedia, perché </a:t>
            </a:r>
            <a:r>
              <a:rPr b="1" i="1" lang="it-IT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gnoto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gli stessi autori. (…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 sono giovani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ci di gesti tra loro a tal punto slegati da non essere percepiti neppure come propr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questo perché (…)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è incapaci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sentire che cosa è giusto e che cosa non è giusto, </a:t>
            </a:r>
            <a:r>
              <a:rPr b="1" i="1" lang="it-IT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i sono io e che ci faccio al mondo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fr. U. Galimberti, </a:t>
            </a:r>
            <a:r>
              <a:rPr b="1" i="1" lang="it-IT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’ospite inquietante. Il nichilismo e i giovani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20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Oggi, la scuol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mette l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icerca di sens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imola i ragazzi a dare una risposta alla domanda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ch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e senso h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 chiede che cosa rend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nsat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un’esperienza (di conoscenza, relazionale, emotiva …) per i ragazz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 cosa signific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uovere il ben-esse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MUOVERE IL BENESSE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EDUCARE ALL’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UTOCONSAPEVOLEZZA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DEI PROPRI VISSUTI EMOTIV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EMPATIA E PRO-SOCIALITA’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EDUCARE ALLA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SCELTA CONSAPEVOLE DEI VALORI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TTIVARE LE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RISORSE DI RESILIENZA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LLENARE AD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INTERROGARSI SUL SENSO E SIGNIFICATO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DELLE ESPERIEN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MUOVERE IL BENESSE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CARE ALLA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SPONSABILITÀ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ABILITA’ A RISPONDE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FFINARE LA COSCIENZ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LAVORARE SULLE CONDIZIONI E STRUMENTI CHE LA COSCIENZA USA PER DECIDERE E VALUTARE LA REALTA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VILUPPARE LA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APACITÀ DI DECIDER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I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nfronto critico con i modelli offerti dalla societ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. May: l’azione del valuta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UOVERE IL BEN-ESSERE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EGNARE 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ENSAR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IFLETTERE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APACITÀ DI PRENDER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ISION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DIPENDENTI E AUTENTICH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MOLARE LA RICERCA DI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ISPOSTE ORIGINAL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 DOMANDE DI SENSO, per contrast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FORM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AL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ICHIL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RCIS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COMPETENZA “ESISTENZIALE” del docente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glie e accoglie l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mande di sens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i soggetti, molte volte implicite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guardo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gombro da pre-comprension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 sa vedere le (nuove) fragilit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ne attenzione non solo a ciò che i ragazzi fanno,  compiono, sperimentano, ma al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ignifica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e danno ad alcune azioni ed ev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esce a stare nell’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ertezz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rinunciando a quadri esplicativi e previsionali forti: non ci sono teorie o tecniche universalmente val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COMPETENZA “ESISTENZIALE” del docente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ita i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bbi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non avere la risposta pronta: questo è professionale!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esce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ntonizzars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i vissuti dei soggetti, per intuirne i significa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n mortifica la ricerca di sens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ei soggetti (assumendo l’atteggiamento di chi ha già tutte le risposte pronte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COMPETENZA “ESISTENZIALE” del docente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lleggerirsi dalle tante tecniche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(per rafforzare sé stess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Elaborare le proprie esperienze, per trarne sapere (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il sapere dell’esperienza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: non è un processo automatico</a:t>
            </a:r>
            <a:r>
              <a:rPr b="1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P. Jedlowsk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prirsi a nuove esperienze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(per non trasferire le esperienze passate sulle situazioni attual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Necessità di avere degli spazi per sé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, per riflettere e per trarre sapere da ciò che si è viss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COMPETENZA “ESISTENZIALE” del docente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dottare metodologie esperienziali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(gruppi di incontro e riflessione, discussione incidenti critici, scrittura autobiografica … </a:t>
            </a:r>
            <a:r>
              <a:rPr b="1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contrastare l’isolamen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Uscire dalla logica dell’esperto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(credere che sia sufficiente applicare il sapere che altri hanno elaborato</a:t>
            </a:r>
            <a:r>
              <a:rPr b="1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I. Illi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hiedersi il perché delle cose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, metterle in discussione (superamento pre-giudizi e stereotip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Ospitare la domanda di senso: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olo così è possibile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legittimarla anche in educ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MPLICAZIONI METODOLOGICHE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ALITA’ DEL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OCESSO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TESO COME CONTENUTO DI APPRENDIMEN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RALITÀ DELLA MEDIAZIONE METODOLOGICA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tori attivi, cooperativi ed estetici, quali cinema, arte, musica, letteratura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UTI VICINI ALL’ESPERIENZA ESISTENZIALE DEL SOGGE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WEY: IL PENSIERO È MET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ff99"/>
                </a:solidFill>
                <a:uFillTx/>
                <a:latin typeface="Arial"/>
              </a:rPr>
              <a:t>BULLISMO: fenomeno compless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 specifica di aggressivit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tenzionale, ripetuta, squilibrio di potere tra “bullo” e “vittim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l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mpetenze sociali “sofisticate”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apacità socio-cognitiv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ndizione necessaria per l’aggressività reattiva, ma non per il bullism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ipolazioni social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ti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sol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MPLICAZIONI METODOLOGICO-DIDATTICH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ALITA’ DELLA “DOMANDA” NEL PROCESSO EDUC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corre suscitare domande negli studenti, più che dargli rispost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an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egitti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 doman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llegitti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von Foerster: 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stemi che osservano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LECITARE L’IMPEGNO VERSO UNO SCOPO RITENUTO SIGNIFICATIVO DAL SOGGETTO IN EDUC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utotrascendenza come superamento tendenze narcisistiche, verso autentiche sfide educa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DISCUSSIONE, CONFRONTO, DIBATT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IMA RELAZIONALE POSITIVO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colto, accettazi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SAPERE DEL SENTI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attenzione alla vita emo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VALORE DELL’ESPERIENZ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ampliamento del campo esperienzi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ULTO COME GUIDA O “BATTISTRADA”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lla ricerca di senso: l’educatore non è colui che indica l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u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tr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ecff"/>
                </a:solidFill>
                <a:latin typeface="Arial"/>
              </a:rPr>
              <a:t>Edmond Jab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 chiedere la strada a chi la conosce, ma a chi, come te, la cer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http://miasorrento.com/blog/wp-content/uploads/orme.jpg"/>
          <p:cNvPicPr/>
          <p:nvPr/>
        </p:nvPicPr>
        <p:blipFill>
          <a:blip r:embed="rId1"/>
          <a:stretch/>
        </p:blipFill>
        <p:spPr>
          <a:xfrm>
            <a:off x="539640" y="2708280"/>
            <a:ext cx="8209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</a:rPr>
              <a:t>QUALI POSSIBILI MOTIVAZIONI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cerche recenti: i prepotenti cercano nel gruppo affermazione e dominan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otivazione: mantenere uno status eleva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ll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on sono gli emarginati, ma sono i soggetti popolari: usano comportamenti prepotenti per mantenere il loro status di popolarità all’interno del grup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l bullismo è potere: è un modo per ricercare l’affermazion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potenza = popolarit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za del gruppo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È il gruppo che legittima lo status di popolarità al prepoten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lte volte viene manipolato lo stesso gruppo (verso l’isolamento della vittima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za degli spettat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za della cultura del grupp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ccorre promuovere la decisione comune del gruppo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ntro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la prepotenza: verso una cultura della pro-socialit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IRE: che cos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 alcuni soggetti ricorrano a tale forma di aggressività per mantenere la popolarità ed ottenere visibilità socia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ultura di gruppo che legittima e considera popolare chi è  prepotente (e che isola la vittim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“manipolabilità” di tanti ad opera di chi si mostra abile a livello socio-cogni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</a:rPr>
              <a:t>PREVENIRE: com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a può fare l’educazio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a possono fare gli insegnant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 competenz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UCAZIONE INTEGRA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DOTO” ALL’INSORGENZA DI MODALITA’ AGGRESSIVE E DISTRUTTIVE DI AGIRE E REAGIRE ALLE DIFFICOLTA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ETENZE “ESISTENZIALI” DEL DOCEN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ROMUOVERE IL BEN-ESSERE DEI SOGGETTI IN EDUCAZIO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ESUPPOSTI ANTROPOLOGICI FONDAMENTALI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Viktor E. Frankl: Logoterapia e Analisi Esistenziale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MENSIONI FISICO-PSICHICA-ESISTENZI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SOGNI FISICI-PSICHICI-ESISTENZIALI (BISOGNO DI SENS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ONTA’ DI SIGNIFICA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BISOGNO DI SENS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ENOMENO TIPICAMENTE UMANO E, IN QUANTO TALE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NON PATOLO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SIGENZA DI STAR BENE A SCUOLA, DANDOGLI ANCHE UN SENSO (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gittimare </a:t>
            </a: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l’esigenza di sens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nel processo educativ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GNIFICATO” COME FATTO DI RAPPORTO TRA IL SOGGETTO E IL MONDO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(</a:t>
            </a:r>
            <a:r>
              <a:rPr b="1" i="1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“IL MONDO NON È CIÒ CHE IO PENSO, MA CIÒ CHE IO VIVO”,</a:t>
            </a:r>
            <a:r>
              <a:rPr b="0" lang="it-IT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. Merleau-Ponty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UCAZIONE E  DIMENSIONE ESISTENZIAL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LLA BASE DEL DISAGIO GIOVANILE ODIERN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CALE MANCANZA DI SENS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CAPACITA’ DI RIFLETTERE SUL SIGNIFICATO DEGLI EVENTI E DELLE PROPRIE AZION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GNI EPOCA HA LE SUE NEVROSI”: OGNI EPOCA NECESSITA DELL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DUCAZIONE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iktor Emil Frank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ENOMENO CULTURALE (Galimber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4:41:23Z</dcterms:created>
  <dc:creator>daniele.bruzzone</dc:creator>
  <dc:description/>
  <dc:language>en-US</dc:language>
  <cp:lastModifiedBy>antonella</cp:lastModifiedBy>
  <dcterms:modified xsi:type="dcterms:W3CDTF">2009-04-28T07:10:24Z</dcterms:modified>
  <cp:revision>174</cp:revision>
  <dc:subject/>
  <dc:title>Ricerca di senso e cura dell’esistenza Prospettive educative nella logoterapia</dc:title>
</cp:coreProperties>
</file>