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C5D-88F5-49AD-948E-95C5AA06C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aluti ai partecipa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970-C6A9-447A-811F-A5DE7FCA86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B7F-2663-4C16-8D4A-F093562F99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6E0-FA41-4702-8984-02AC70905A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B81C-CF7B-4EC8-8E7A-4C69111A0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4992-98C2-4267-88FD-DCDADC44E8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32B-8EC4-40AE-8D68-2A8B4ACA2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994-5888-4DDE-B53F-18E56759D8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6AB-9A47-4339-B9EF-46B935F830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C46-559E-410F-A612-DA6E73632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2A9-5893-4B8F-AFCC-D539B2EE2D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7ECB-F4F4-411B-8712-F55C87DFF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E2C-7641-4AE4-A507-6057A2AAA4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5E3-F2DA-48A7-99AD-ECFBBDB86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D7C8-3A1A-4AAB-8B24-87B7A70F6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8F1-2E15-4375-B191-677D65CC1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54FE-7094-486F-A149-A359505FC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D25-DB2D-43EF-B137-3988A3FDB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CA9-9EAC-4BD3-8E9F-5E09DCCE7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3CC-2D75-4733-B9F2-2C3238A7F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841-5DB5-4121-93B4-7F87555C7E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787-41EE-420E-B9F2-24E45EFF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2DA-8252-485C-AA49-84C6021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EEC-E87D-4BB5-BAD5-14B85BA5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DA2-52C9-4BF5-A795-2B747BDB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952560"/>
            <a:ext cx="5938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CFE-A002-4B3F-8CCD-D1030B0F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4BD-3061-4453-8938-BABCD71A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A95-2B4E-4462-94C0-E7D33850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094-F970-4827-BB7A-939C4BB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952560"/>
            <a:ext cx="5938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434-FB3B-415E-A14A-EC5844C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484-F91E-4094-8301-AA85C5F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E57-1B5D-4FBE-AA33-A0B6B2D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0D7-528A-4D58-AA56-0AD7B1A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36452" t="0" r="0" b="28165"/>
          <a:stretch/>
        </p:blipFill>
        <p:spPr>
          <a:xfrm>
            <a:off x="0" y="5772240"/>
            <a:ext cx="434016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26560" y="6400800"/>
            <a:ext cx="121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DF6-4D0A-4519-B7ED-F645933D3B37}" type="datetime">
              <a:rPr b="0" lang="en-GB" sz="10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65280" y="6598800"/>
            <a:ext cx="28954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21280" y="6524640"/>
            <a:ext cx="142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B86-9674-4299-B881-0474B5E9FFD8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29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ahoma"/>
              </a:rPr>
              <a:t>Multiling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8191440" y="5562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36452" t="0" r="0" b="28165"/>
          <a:stretch/>
        </p:blipFill>
        <p:spPr>
          <a:xfrm>
            <a:off x="0" y="5776920"/>
            <a:ext cx="4340160" cy="1081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47640" y="31147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1480" y="649116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struzione e 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ahoma"/>
              </a:rPr>
              <a:t>Multiling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europa.eu.int/comm/education/policies/lang/key/studies_en.html" TargetMode="External"/><Relationship Id="rId2" Type="http://schemas.openxmlformats.org/officeDocument/2006/relationships/hyperlink" Target="http://europa.eu.int/comm/education/policies/lang/key/studies_en.html" TargetMode="External"/><Relationship Id="rId3" Type="http://schemas.openxmlformats.org/officeDocument/2006/relationships/hyperlink" Target="http://europa.eu.int/comm/education/policies/lang/key/studies_en.html" TargetMode="External"/><Relationship Id="rId4" Type="http://schemas.openxmlformats.org/officeDocument/2006/relationships/hyperlink" Target="http://europa.eu.int/comm/education/policies/lang/key/studies_en.html" TargetMode="External"/><Relationship Id="rId5" Type="http://schemas.openxmlformats.org/officeDocument/2006/relationships/hyperlink" Target="http://europa.eu.int/comm/education/policies/lang/key/studies_en.html" TargetMode="External"/><Relationship Id="rId6" Type="http://schemas.openxmlformats.org/officeDocument/2006/relationships/hyperlink" Target="http://europa.eu.int/comm/education/policies/lang/key/studies_en.html" TargetMode="External"/><Relationship Id="rId7" Type="http://schemas.openxmlformats.org/officeDocument/2006/relationships/hyperlink" Target="http://europa.eu.int/comm/education/policies/lang/key/studies_en.html" TargetMode="Externa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europa.eu.int/comm/education/policies/lang/languages_it.html" TargetMode="External"/><Relationship Id="rId2" Type="http://schemas.openxmlformats.org/officeDocument/2006/relationships/hyperlink" Target="http://europa.eu.int/comm/education/policies/lang/languages_it.html" TargetMode="External"/><Relationship Id="rId3" Type="http://schemas.openxmlformats.org/officeDocument/2006/relationships/hyperlink" Target="http://europa.eu.int/comm/education/policies/lang/languages_it.html" TargetMode="External"/><Relationship Id="rId4" Type="http://schemas.openxmlformats.org/officeDocument/2006/relationships/hyperlink" Target="http://europa.eu.int/comm/education/policies/lang/languages_it.html" TargetMode="External"/><Relationship Id="rId5" Type="http://schemas.openxmlformats.org/officeDocument/2006/relationships/hyperlink" Target="http://europa.eu.int/comm/education/policies/lang/languages_it.html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29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226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99"/>
                </a:solidFill>
                <a:latin typeface="Tahoma"/>
              </a:rPr>
              <a:t>La politica per il multilinguismo dell’ Unione europe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39640" y="3885840"/>
            <a:ext cx="61196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Patrizia Baralli</a:t>
            </a:r>
            <a:br>
              <a:rPr sz="28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Luca Tomasi</a:t>
            </a:r>
            <a:br>
              <a:rPr sz="2800"/>
            </a:b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nità Politiche per il multilingu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9900"/>
                </a:solidFill>
                <a:latin typeface="Tahoma"/>
              </a:rPr>
              <a:t>Bruxelles, 8 dicembre 2005</a:t>
            </a:r>
            <a:br>
              <a:rPr sz="2000"/>
            </a:br>
            <a:r>
              <a:rPr b="0" i="1" lang="it-IT" sz="2000" spc="-1" strike="noStrike">
                <a:solidFill>
                  <a:srgbClr val="ff9900"/>
                </a:solidFill>
                <a:latin typeface="Tahoma"/>
              </a:rPr>
              <a:t>Euroformanet Ita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51460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4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urydice (2005)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ifre chiave dell’insegnamento delle lingue nelle scuole in Euro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4140360" cy="39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614-C999-475A-A30B-6521BF52D2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AF96F-6C6C-43C2-B1FB-50A8254B8DB9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Scuola dell’obblig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550440" indent="-36396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na o più lingue obbligatorie dalle primarie (50% degli alunn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50440" indent="-36396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utti gli alunni possono imparare due o più lingue nella scuola dell’obblig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50440" indent="-36396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e scuole possono offrire altre lingue straniere come materie obbligatorie o opzional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79B-D40F-446A-AF14-547AAAC91C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6A36E-8828-40E3-A1F9-54035DD5D818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Istruzione second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10-15% dell’orario è destinato alle lingue straniere come materia obblig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CLIL (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ent and language integrated learn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 è diffuso, ma solo una minoranza di allievi segue questi cor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95% dei corsi riguardano inglese, francese, tedesco, spagnolo e ru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B4F-4040-4764-9458-A7822A7E80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3B7FE-5736-45B7-B052-5F722C48644E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Diversità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505440" indent="-33408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i accentua la prevalenza dell’inglese, soprattutto nell’Europa centrale e orient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05440" indent="-33408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glese obbligatorio in 13 paesi, ma anche dove non lo è lo studia il 90% circa degli stude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05440" indent="-33408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edesco e francese in lotta per il secondo po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758-35F7-4F2B-8651-B9C60A4A09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25E54-2823-4E44-B1FB-1C96C1C7F390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Insegnan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eneralisti nelle primarie, specialisti nelle secondar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olo Lussemburgo e Scozia raccomandano un soggiorno in un paese dove si parla la lingua studiata dai futuri insegna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274-3900-4612-B899-79D51612B7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9A3A4-9191-42A5-A611-155C98D0FA01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Altre lingu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’8% dei quindicenni parla in casa una lingua diversa dalla lingua d’insegnamento usata a scu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Quasi tutti i paesi hanno adottato misure di sostegno linguistico per gli allievi che vengono da famiglie immig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0E7-691E-4FB9-BEF5-F46EFDD61F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5E5B7-BF75-4836-96E3-C18B6BBAAE4F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E in Italia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robarometro 20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82600" y="2984400"/>
          <a:ext cx="381024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984400"/>
                    <a:ext cx="3810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1916280"/>
          <a:ext cx="8386920" cy="494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3869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7A6-247A-4B1A-9C2A-0C23E9DABC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CF02A-9695-43B3-80BA-58C10A38C931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robarometro 20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82600" y="2984400"/>
          <a:ext cx="381024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984400"/>
                    <a:ext cx="3810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1909800"/>
          <a:ext cx="9144000" cy="494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9800"/>
                    <a:ext cx="9144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C0F-2C52-4671-A015-F8176234461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0061C-6D0F-4544-9FE8-DB96358A56AE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Erasmus e le lingu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844640"/>
          <a:ext cx="91440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EE0-1CA9-46A7-894D-22DA598F8AF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A3396-BA38-4ECB-93C5-241B3A92D11C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952560"/>
            <a:ext cx="67341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Struttura della presentazio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s’è il multilingu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situazione in Eu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situazione in It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nuovo programma integrato 2007-20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piano d’azione 2004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comunicazione sul multilingu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FEE-F7DB-447C-A5DD-217BC4FA54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B0DA4-2F9C-430A-9540-A456788B0134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834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9900"/>
                </a:solidFill>
                <a:latin typeface="Tahoma"/>
              </a:rPr>
              <a:t>2007-2013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197000"/>
          <a:ext cx="9144000" cy="511344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581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Il programma integra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cf01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Com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struzione scola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ffcf01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Erasm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struzione superiore e formazione avanz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ffcf01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Leonardo da Vi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Formazione professionale iniziale e contin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ffcf01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Grundtv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Educazione degli adul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ffcf01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Il programma trasversale</a:t>
                      </a: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 - </a:t>
                      </a: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4 attività chi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°  </a:t>
                      </a: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viluppo politico          ° Apprendimento delle lingue        ° Divulg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° Tecnologie dell’informazione e della comun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9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Il programma Jean Monnet</a:t>
                      </a: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 - </a:t>
                      </a: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3 attività chi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° Azione Jean Monnet     ° Istituzioni europee    ° Associazioni europ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f01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cf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779-841B-4DE9-B7EC-160F9160DDA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75C1D-6494-46FD-9928-BEFFBE0130BD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79930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ogramma integrato 2007-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promozione dell’apprendimento delle lingue e della diversità linguistica è uno degli obiettivi generali del programma (art 1 § 3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a delle 4 azioni chiave del programma trasversale è dedicata all’apprendimento delle lingue (art 3 § 2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ttività: progetti (materiali didattici, corsi di formazione), reti, altre iniziative (media, conferenze, studi, indicatori (art 38 §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540-B6E9-4054-9118-C94C09B705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80AA9-44CB-42AB-9DC4-AD0484912D9D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78487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3399"/>
                </a:solidFill>
                <a:latin typeface="Tahoma"/>
              </a:rPr>
              <a:t>Il Piano d’azione 2004-2006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34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ahoma"/>
              </a:rPr>
              <a:t>Promuovere l’apprendimento delle lingue e la diversità linguis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446640" cy="34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27C-2D04-493C-8657-6C8D36ED1AE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A353D-6DED-42D0-B454-64FB78454293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1052640"/>
            <a:ext cx="6721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</a:rPr>
              <a:t>45 Azioni in tre settori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69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pprendimento per tutta la v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Migliorare l’inseg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reare un ambiente favorevole alle lingu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30E-A203-4945-94A7-8F2D1E0764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E92D4-E629-48D9-A8CC-F2FA5DB0F678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Materna e prim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Risorse adeguate,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segnanti prepara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lassi ridotte, sussidi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idattici,  orari adeguat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na vasta gamma di ling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34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formare i genitor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72360" y="1844640"/>
            <a:ext cx="24955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900-92CB-4282-A422-72322D52E9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4C8C7-D4DF-4994-82B3-F92F3E3D7AF3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980640"/>
            <a:ext cx="80074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Secondaria e professiona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2017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spcBef>
                <a:spcPts val="15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 solido nucleo di competenze linguistiche, bagaglio per tutta la vi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15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dronanza d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ahoma"/>
              </a:rPr>
              <a:t>almen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due lingue stran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15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opo: capacità di comunicare efficacemente (non perfezione da madrelingu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C5D-A77E-4F29-8703-2C5B14A568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65B2-7484-483D-8C45-30569273B801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Istruzione superio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Ogni università dovrebbe elaborare una politica linguistica coerente 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 promuovere la propria lingua nazionale o region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A62-EFF3-4A17-BC07-221CDC25A1C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EDE36-CA89-4167-98D2-DA728D45C067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Istruzione superio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utti gli studenti, di tutte le discipline, dovrebbero compiere un periodo di studio all’estero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 ottenere una qualifica linguistica integrata nel diplo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ECF-CA5D-4516-8FE1-2CFE5C276E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A2A8E-8022-485F-9CCE-70A8E268E55C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Adul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03640" y="2017800"/>
            <a:ext cx="57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425160" indent="-248040">
              <a:spcBef>
                <a:spcPts val="10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coraggiati a continuare a impa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-248040">
              <a:spcBef>
                <a:spcPts val="10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isorse più accessibili, anche sul lavo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-248040">
              <a:spcBef>
                <a:spcPts val="10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uovi portali web per specialisti e n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-248040">
              <a:spcBef>
                <a:spcPts val="10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iorità Grundtvig per le ling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838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6A2-2FBA-46DA-9BF4-867CB1D215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816CE-F61E-41B3-AF01-10DD571B4ACB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952560"/>
            <a:ext cx="82087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Persone con bisogni special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6640" indent="-2854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utti possono impar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66640" indent="-2854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viluppare le buone prati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64000" y="2075040"/>
            <a:ext cx="2847960" cy="2287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932000" y="45813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492840" indent="-24804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isseminare le informazion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D10-5B3F-47B2-88F4-99D77629BA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94729-FE87-4D05-9999-02FE85C63DBE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333399"/>
                </a:solidFill>
                <a:latin typeface="Tahoma"/>
              </a:rPr>
              <a:t>Cos’è il multilinguismo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952560"/>
            <a:ext cx="66214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</a:rPr>
              <a:t>Migliorare l’insegnamento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14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segnanti di lingue, formatori, ispettor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727200" indent="-270000">
              <a:lnSpc>
                <a:spcPct val="16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Ruolo chiave nella costruzione di un’Europa multilingu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727200" indent="-270000">
              <a:lnSpc>
                <a:spcPct val="16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sempio dei valori europe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69E-B849-4B46-A2B7-997B4232A88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BB8C0-EA7E-4F94-AFD8-1F22950D64E6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13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</a:rPr>
              <a:t>Comunità favorevoli alle ling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1960" indent="-371520">
              <a:spcBef>
                <a:spcPts val="10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000000"/>
                </a:solidFill>
                <a:latin typeface="Tahoma"/>
              </a:rPr>
              <a:t>Ogni comunità </a:t>
            </a: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può essere più favorevole alle lingu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6240" indent="-3938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entri di apprendime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6240" indent="-3938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V, sottotitol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6240" indent="-3938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ernet e nuove tecnolog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6240" indent="-3938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urismo, scambi, gemellaggi di città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8F1-05EF-4355-83ED-EB84F6FE94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2D735-9B93-4B34-8F6E-8C3FC3873879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</a:rPr>
              <a:t>Attività favorevoli alle ling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Tahoma"/>
              </a:rPr>
              <a:t>Consapevolezz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delle tante lingue cui siamo quotidianamente esp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Tahoma"/>
              </a:rPr>
              <a:t>Impar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dalle competenze altrui (immigrati, turisti e altr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gliere </a:t>
            </a:r>
            <a:r>
              <a:rPr b="1" lang="it-IT" sz="3200" spc="-1" strike="noStrike">
                <a:solidFill>
                  <a:srgbClr val="ff9900"/>
                </a:solidFill>
                <a:latin typeface="Tahoma"/>
              </a:rPr>
              <a:t>ogni occasion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per parlare  e imparare altre ling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95E-AB42-4F37-A608-63203B6EBE4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DE4F-1A21-4F08-899C-B8CDDB8FB231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836640"/>
            <a:ext cx="88390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Migliorare offerta e doman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705240" indent="-34668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ensibilizzare ai vantaggi dell’apprendimento delle ling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705240" indent="-34668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vvicinare le risorse a chi ne ha bisogn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705240" indent="-34668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fruttare meglio le risorse disponibili (scuole, università, biblioteche …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5E4-297B-4652-8940-4D5BA7BCAC2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831B6-D256-4465-9B39-318DA550CC91}" type="datetime1">
              <a:rPr lang="en-US"/>
              <a:t>07/31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836640"/>
            <a:ext cx="7936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Un’impostazione inclusi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27792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ocrates, Leonardo da Vinci e il nuovo programma per l’apprendimento permanent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277920"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maggiore impegno nella promozione della diversità linguistica finanziando progetti sulle lingue regionali e minoritar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54D-D95D-49EE-80EA-0D19B6CBC50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04AB-6300-4BA7-811F-B99F590E4CC1}" type="datetime1">
              <a:rPr lang="en-US"/>
              <a:t>07/31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I nuovi studi pubblicati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europa.eu.int/comm/education/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olicies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lang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/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key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/studies_en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Lingo: 50 modi per motivare a studiare le ling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Euromosaic – UE 2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Studio di fattibilità per un’Agenzia sulla diversità linguist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C8E-FBFC-4191-9D75-C17040FAB83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62071-F7B9-4EF8-A453-76ED727D80DF}" type="datetime1">
              <a:rPr lang="en-US"/>
              <a:t>07/31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952560"/>
            <a:ext cx="8820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Formazione degli insegnanti di lingu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529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uropean Profile for Language Teacher Education: a frame of refe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525840" cy="501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9BA-8D2D-4A38-93B2-9726D5E45B9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72497-43F5-4DC3-A261-2368CC4094EC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087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Persone con bisogni special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6640" indent="-2854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teaching and learning of languages: insights and innov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16360" y="2017800"/>
            <a:ext cx="442764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F57-79AC-4F37-B41D-17479FC6225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899E2-EA79-45E0-83D2-CBCCA319C43E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Gli studi in cors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istemi di certific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Basi pedagogiche dell’insegnamento preco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 costi del non-multilinguism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8BE-7B6F-4322-83C3-D9594F612FC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9FB38-9A46-45CB-838E-9841E29142C6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nferenz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Marzo 2005: conferenza sul CLIL (Lussemburgo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Aprile 2006: conferenza sulle lingue regionali e minoritarie nei sistemi scolastic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C15-5F35-4653-866B-F4DDDD0D195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70F65-572A-4E31-9288-29E7AF8F23AF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952560"/>
            <a:ext cx="626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a capacità di una persona di usare varie ling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a coesistenza di varie comunità linguistiche in una reg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na politica volta a creare un ambiente favorevole alla piena espressione di tutte le ling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526-A364-4A70-81D1-EC84D414DA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0E53B-9FCC-4197-B2D3-C8F7B2572CC5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333399"/>
                </a:solidFill>
                <a:latin typeface="Tahoma"/>
              </a:rPr>
              <a:t>L’indicatore europeo </a:t>
            </a:r>
            <a:br>
              <a:rPr sz="6000"/>
            </a:br>
            <a:r>
              <a:rPr b="0" lang="it-IT" sz="6000" spc="-1" strike="noStrike">
                <a:solidFill>
                  <a:srgbClr val="333399"/>
                </a:solidFill>
                <a:latin typeface="Tahoma"/>
              </a:rPr>
              <a:t>di competenza linguistica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petenze attive e passive, in lingua orale e scrit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 due lingue stran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 termine della scuola dell’obbl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ale del Quadro Comune Europeo di riferimento sulle ling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1D2-2F49-4158-912F-6EFF3A45323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065C-8B18-48DD-BCD4-9C724AC7C69A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952560"/>
            <a:ext cx="79930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municazione sul multilinguism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Una società multilingu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Un’economia multilingu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Il multilinguismo nei rapporti tra istituzioni e cittadin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2E1-5E8F-4A7C-B81A-EE966EDB797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6218F-2D53-4DED-BC8E-B0CF96B83209}" type="datetime1">
              <a:rPr lang="en-US"/>
              <a:t>07/31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In conclusio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lo quando molti Europei conosceranno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molt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lingue d’Europa, l’Europa diventerà europea, e non esclusivamente anglo- (o un po’ gallo- o germano-) centr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i conosce similarità e differenze delle lingue europee vivrà meglio la prossimità e diversità delle nostre cul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922-4668-40B5-AE3C-C5B5B99D107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F213C-F271-4E71-AF02-7E75E7C5A573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Umberto Eco 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« Una Europa di poliglotti non è una Europa di persone che parlano correntemente molte lingue, ma nel migliore dei casi di persone che possono incontrarsi parlando ciascuno la propria lingua, intendendo quella dell’altro ... e intendendola, intendessero il “genio,” l’universo culturale che ciascuno esprime parlando la lingua dei propri avi e della propria tradizione.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566-7932-436B-9435-895AF4E1CD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31CD0-F099-4000-A81D-E4E8C0BB38A4}" type="datetime1">
              <a:rPr lang="en-US"/>
              <a:t>07/31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921040"/>
            <a:ext cx="914400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ahoma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ahoma"/>
              </a:rPr>
              <a:t>Per ulteriori informazioni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europa.eu.int/comm/education/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olicies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lang</a:t>
            </a:r>
            <a:r>
              <a:rPr b="0" lang="it-IT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/languages_it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FC2-1598-4888-8373-203A0AA893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0E571-840A-417B-8F2D-314230F9B1F4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952560"/>
            <a:ext cx="5938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Principio ispirato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Le lingue: competenza di base per tutti i cittadini europe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er comunicare (lavoro, scambi, studi, viaggi …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561960" indent="-371520"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er capirsi (tolleranza, solidarietà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472-D075-46C6-A50F-CD8218C495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F3284-F028-4F08-A92D-F62F8BA15F0C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333399"/>
                </a:solidFill>
                <a:latin typeface="Tahoma"/>
              </a:rPr>
              <a:t>Perché l’inglese non basta?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me inserirsi nella società del paese ospit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me collaborare con i cittadini dei grandi paesi partner europei (Germania, Francia, Spagna …) ed extraeuropei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me scoprire altre culture e tradizioni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B09-03D0-486A-B8A1-BB52BC6AFE9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C8F0C-4224-47F3-AA90-F13253966EB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’ignoranza dell’altro genera paura: solidarietà e tolleran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a diversità linguistica e culturale è la ricchezza dell’Euro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’intercomprensione: una metodologia da sfrutt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C50-18B6-4B7B-A7CC-A81088A00B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95158-C258-44B6-8236-C6017CC01569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333399"/>
                </a:solidFill>
                <a:latin typeface="Tahoma"/>
              </a:rPr>
              <a:t>La situazione in Europa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8:26:35Z</dcterms:created>
  <dc:creator>tomaslu</dc:creator>
  <dc:description/>
  <dc:language>en-US</dc:language>
  <cp:lastModifiedBy>UTENTE</cp:lastModifiedBy>
  <cp:lastPrinted>2004-05-21T09:45:44Z</cp:lastPrinted>
  <dcterms:modified xsi:type="dcterms:W3CDTF">2005-12-14T12:31:31Z</dcterms:modified>
  <cp:revision>22</cp:revision>
  <dc:subject/>
  <dc:title>La politica delle lingue della Commissione europ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europa.eu.int/comm/education/languages_it.html</vt:lpwstr>
  </property>
  <property fmtid="{D5CDD505-2E9C-101B-9397-08002B2CF9AE}" pid="9" name="LinkColor">
    <vt:r8>16711782</vt:r8>
  </property>
  <property fmtid="{D5CDD505-2E9C-101B-9397-08002B2CF9AE}" pid="10" name="MailAddress">
    <vt:lpwstr>luca.tomasi@cec.eu.in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Presentation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