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2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D91-650F-42CA-B3E2-3168686F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5EB-361B-4FCC-8F1F-AEBC1BF5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973-3F4D-443B-B7D9-0ED2D3D6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47C-D944-43D7-A1DD-49F7C9DC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4A-2775-4046-9037-E83F53A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41D-C5D7-4E91-910D-02D7BFB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B94-4815-4644-AAA6-A9AC3DA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0A3-F20C-4809-A494-2AB134C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8AD-7BA8-41B1-B336-BA33AAC9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65C-6769-42ED-A15E-60D2417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E21-D784-4D88-A4DF-3FEC1E04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117-D80D-40CD-8CF6-4C49CE39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3871-50B1-4189-8802-3A1A10A89C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hyperlink" Target="http://puntoedu.indire.it/europa/index.htm" TargetMode="External"/><Relationship Id="rId4" Type="http://schemas.openxmlformats.org/officeDocument/2006/relationships/hyperlink" Target="http://puntoedu.indire.it/europa/index.ht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hyperlink" Target="file:///D:/Prospetto%20Cittadinanza%202004-05.xls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hyperlink" Target="file:///D:/Sito%202.DOC" TargetMode="External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837720"/>
            <a:ext cx="2133720" cy="685800"/>
          </a:xfrm>
          <a:prstGeom prst="rect">
            <a:avLst/>
          </a:prstGeom>
          <a:solidFill>
            <a:srgbClr val="6d90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ts val="2398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L’Europa dell’Istr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5333760" cy="9158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05520" y="833400"/>
            <a:ext cx="2514600" cy="160488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915640"/>
            <a:ext cx="4952880" cy="311040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180000" anchor="ctr">
            <a:spAutoFit/>
          </a:bodyPr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La Re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La Formazio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l Monitoragg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La Document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L’EUROPA DELL’ISTRUZIONE IN BASILIC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502920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LA R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2060640"/>
            <a:ext cx="7416720" cy="424692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00" tIns="1080000" bIns="1080000" anchor="ctr">
            <a:spAutoFit/>
          </a:bodyPr>
          <a:p>
            <a:pPr marL="365040" indent="-365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Le reti per l’Europ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9 nodi per l’Euro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881440" cy="283032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</p:spTree>
  </p:cSld>
  <p:transition spd="slow">
    <p:strips dir="l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6720" y="2438280"/>
            <a:ext cx="4038480" cy="4114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37152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867280" y="3657600"/>
            <a:ext cx="381240" cy="714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67160" y="5029200"/>
            <a:ext cx="3715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48320" y="4724280"/>
            <a:ext cx="3715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181480" y="3247920"/>
            <a:ext cx="381240" cy="71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095880" y="4648320"/>
            <a:ext cx="38124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267080" y="3705120"/>
            <a:ext cx="381240" cy="7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905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CONFIGURAZIONE DEL TERRITORIO:</a:t>
            </a:r>
            <a:br>
              <a:rPr sz="2600"/>
            </a:b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LA BASILICATA HA UN’ESTENSIONE TERRITORIALE DI 10.000 KMQ</a:t>
            </a:r>
            <a:br>
              <a:rPr sz="2600"/>
            </a:b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CON 131 COMU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541008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LA FORMAZIONE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ERCO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831320"/>
            <a:ext cx="3276720" cy="1077120"/>
          </a:xfrm>
          <a:prstGeom prst="roundRect">
            <a:avLst>
              <a:gd name="adj" fmla="val 1428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Nucleo FORMAZIONE INTERREGIONALE - AUTOAGGIOR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831320"/>
            <a:ext cx="3810240" cy="1077120"/>
          </a:xfrm>
          <a:prstGeom prst="roundRect">
            <a:avLst>
              <a:gd name="adj" fmla="val 1428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Dirigenti INFORMAZIONE - INTERNAZIONALIZZAZIONE POF  -  E-Tw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25720"/>
            <a:ext cx="3276720" cy="1077120"/>
          </a:xfrm>
          <a:prstGeom prst="roundRect">
            <a:avLst>
              <a:gd name="adj" fmla="val 1428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Docenti Referenti, Conoscenza Documenti, Curricula, 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91200" y="5868720"/>
            <a:ext cx="3790800" cy="813240"/>
          </a:xfrm>
          <a:prstGeom prst="roundRect">
            <a:avLst>
              <a:gd name="adj" fmla="val 1428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Sensibil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3830400"/>
            <a:ext cx="3581640" cy="90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STUD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971800"/>
            <a:ext cx="106668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172200" y="4800600"/>
            <a:ext cx="990720" cy="990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66880" y="4876560"/>
            <a:ext cx="1295640" cy="6858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248520" y="3048120"/>
            <a:ext cx="1218960" cy="7617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70572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LA FORMAZIONE  ON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470400"/>
            <a:ext cx="7309080" cy="2354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ahoma"/>
              </a:rPr>
              <a:t>Dal 20 settembre è possibile iscrivere nuovi cors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ahoma"/>
              </a:rPr>
              <a:t>La procedura d’iscrizione è descritta in dettaglio sul sito: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http://puntoedu.indire.it/europa/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52480" y="1406520"/>
            <a:ext cx="7315200" cy="543276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288000" tIns="288000" bIns="0" anchor="ctr">
            <a:spAutoFit/>
          </a:bodyPr>
          <a:p>
            <a:pPr marL="284040" indent="-2840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  <a:ea typeface="Arial"/>
              </a:rPr>
              <a:t>L’ U.S.R. ha avviato un monitoraggio sull’Europa dell’Istruzione inviando alle Scuole una scheda di rilevazione delle attività negli ultimi 5 an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  <a:ea typeface="Arial"/>
              </a:rPr>
              <a:t>Le informazioni che seguono si basano sui dati di natura numerica ed oggettiva, desunti dalle suddette schede, compilate e restituite dalle Istituzioni Scolastich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  <a:ea typeface="Arial"/>
              </a:rPr>
              <a:t>Gli esiti vanno intesi come uno strumento di ricognizione del materiale già prodotto e dei progetti realizzati relativamente alla costituzione di uno spazio europeo dell’educ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5791320" cy="10670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L MONITORAGGIO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ELABORAZIONE DATI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220680"/>
            <a:ext cx="7391520" cy="635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ahoma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336699"/>
                </a:solidFill>
                <a:latin typeface="Tahoma"/>
                <a:ea typeface="Arial"/>
              </a:rPr>
              <a:t>SCUOLE DELLA REGIONE      1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67ad6"/>
                </a:solidFill>
                <a:latin typeface="Tahoma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267ad6"/>
                </a:solidFill>
                <a:latin typeface="Tahoma"/>
                <a:ea typeface="Arial"/>
              </a:rPr>
              <a:t>Scuole che hanno inviato</a:t>
            </a:r>
            <a:r>
              <a:rPr b="1" i="1" lang="en-US" sz="2400" spc="-1" strike="noStrike">
                <a:solidFill>
                  <a:srgbClr val="267ad6"/>
                </a:solidFill>
                <a:latin typeface="Tahoma"/>
                <a:ea typeface="Arial"/>
              </a:rPr>
              <a:t>              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67ad6"/>
                </a:solidFill>
                <a:latin typeface="Tahoma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267ad6"/>
                </a:solidFill>
                <a:latin typeface="Tahoma"/>
                <a:ea typeface="Arial"/>
              </a:rPr>
              <a:t>la scheda  di rilevazione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e1650"/>
                </a:solidFill>
                <a:latin typeface="Tahoma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ae1650"/>
                </a:solidFill>
                <a:latin typeface="Tahoma"/>
                <a:ea typeface="Arial"/>
              </a:rPr>
              <a:t>Scuole che non hanno risposto</a:t>
            </a:r>
            <a:r>
              <a:rPr b="1" i="1" lang="en-US" sz="2400" spc="-1" strike="noStrike">
                <a:solidFill>
                  <a:srgbClr val="ae1650"/>
                </a:solidFill>
                <a:latin typeface="Tahoma"/>
                <a:ea typeface="Arial"/>
              </a:rPr>
              <a:t>  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5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140360" y="4327560"/>
          <a:ext cx="4932360" cy="24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4327560"/>
                    <a:ext cx="49323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89000">
            <a:off x="723600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42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9000">
            <a:off x="5433840" y="49244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58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05000" y="838080"/>
            <a:ext cx="4734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L MONITORAGGIO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189000"/>
            <a:ext cx="7418520" cy="641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96880" y="1484280"/>
            <a:ext cx="3456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POTENZA</a:t>
            </a:r>
            <a:r>
              <a:rPr b="1" lang="en-US" sz="2800" spc="-1" strike="noStrike">
                <a:solidFill>
                  <a:srgbClr val="1d3a57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Tahom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330280"/>
            <a:ext cx="2362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1d3a57"/>
                </a:solidFill>
                <a:latin typeface="Tahoma"/>
              </a:rPr>
              <a:t>1° </a:t>
            </a:r>
            <a:r>
              <a:rPr b="1" i="1" lang="en-US" sz="1800" spc="-1" strike="noStrike">
                <a:solidFill>
                  <a:srgbClr val="1d3a57"/>
                </a:solidFill>
                <a:latin typeface="Tahoma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9520" y="2940120"/>
            <a:ext cx="1440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1d3a57"/>
                </a:solidFill>
                <a:latin typeface="Tahoma"/>
              </a:rPr>
              <a:t>2° </a:t>
            </a:r>
            <a:r>
              <a:rPr b="1" i="1" lang="en-US" sz="1800" spc="-1" strike="noStrike">
                <a:solidFill>
                  <a:srgbClr val="1d3a57"/>
                </a:solidFill>
                <a:latin typeface="Tahoma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2276640"/>
            <a:ext cx="1439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1d3a57"/>
                </a:solidFill>
                <a:latin typeface="Tahoma"/>
              </a:rPr>
              <a:t>1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d3a57"/>
                </a:solidFill>
                <a:latin typeface="Tahoma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2852640"/>
            <a:ext cx="1439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1d3a57"/>
                </a:solidFill>
                <a:latin typeface="Tahoma"/>
              </a:rPr>
              <a:t>2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d3a57"/>
                </a:solidFill>
                <a:latin typeface="Tahoma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2200" y="2421000"/>
            <a:ext cx="1224000" cy="21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997360"/>
            <a:ext cx="1800360" cy="21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2371680"/>
            <a:ext cx="143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2720" y="2948040"/>
            <a:ext cx="1440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36520" y="1473120"/>
            <a:ext cx="381636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Tahoma"/>
              </a:rPr>
              <a:t>                </a:t>
            </a:r>
            <a:r>
              <a:rPr b="1" i="1" lang="en-US" sz="1600" spc="-1" strike="noStrike">
                <a:solidFill>
                  <a:srgbClr val="336699"/>
                </a:solidFill>
                <a:latin typeface="Tahoma"/>
              </a:rPr>
              <a:t>Scuole Monitorate</a:t>
            </a: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1496880"/>
            <a:ext cx="3456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MATERA</a:t>
            </a:r>
            <a:r>
              <a:rPr b="1" lang="en-US" sz="2800" spc="-1" strike="noStrike">
                <a:solidFill>
                  <a:srgbClr val="1d3a57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Tahom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473120"/>
            <a:ext cx="381636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Tahoma"/>
              </a:rPr>
              <a:t>                 </a:t>
            </a:r>
            <a:r>
              <a:rPr b="1" i="1" lang="en-US" sz="1600" spc="-1" strike="noStrike">
                <a:solidFill>
                  <a:srgbClr val="336699"/>
                </a:solidFill>
                <a:latin typeface="Tahoma"/>
              </a:rPr>
              <a:t>Scuole Monitorate</a:t>
            </a: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2421000"/>
            <a:ext cx="1944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2997360"/>
            <a:ext cx="1224000" cy="21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2371680"/>
            <a:ext cx="143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2971800"/>
            <a:ext cx="1440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46520" y="3745080"/>
            <a:ext cx="4246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3a57"/>
                </a:solidFill>
                <a:latin typeface="Tahoma"/>
              </a:rPr>
              <a:t>TOTALE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6021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37080" y="4876920"/>
            <a:ext cx="863640" cy="1144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9440" y="4579920"/>
            <a:ext cx="934920" cy="1441440"/>
          </a:xfrm>
          <a:prstGeom prst="rect">
            <a:avLst/>
          </a:prstGeom>
          <a:solidFill>
            <a:srgbClr val="ae16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60600" y="4443480"/>
            <a:ext cx="1440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219560"/>
            <a:ext cx="1440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9800" y="6021360"/>
            <a:ext cx="1439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1d3a57"/>
                </a:solidFill>
                <a:latin typeface="Tahoma"/>
              </a:rPr>
              <a:t>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d3a57"/>
                </a:solidFill>
                <a:latin typeface="Tahoma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6021360"/>
            <a:ext cx="1439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1d3a57"/>
                </a:solidFill>
                <a:latin typeface="Tahoma"/>
              </a:rPr>
              <a:t>2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d3a57"/>
                </a:solidFill>
                <a:latin typeface="Tahoma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42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362320" y="533160"/>
            <a:ext cx="4419720" cy="53352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0186" dir="4303641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00200" y="115920"/>
            <a:ext cx="7435800" cy="641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03520" y="1341360"/>
            <a:ext cx="62974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3333cc"/>
                </a:solidFill>
                <a:latin typeface="Tahoma"/>
              </a:rPr>
              <a:t>PARTECIPAZIONE A PROGETTI EUROPEI</a:t>
            </a:r>
            <a:r>
              <a:rPr b="0" i="1" lang="en-US" sz="2300" spc="-1" strike="noStrike">
                <a:solidFill>
                  <a:srgbClr val="1d3a57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4581360"/>
            <a:ext cx="287964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d3a57"/>
                </a:solidFill>
                <a:latin typeface="Arial"/>
              </a:rPr>
              <a:t>Progetti Europ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d3a57"/>
                </a:solidFill>
                <a:latin typeface="Arial"/>
              </a:rPr>
              <a:t>Comenius: </a:t>
            </a:r>
            <a:r>
              <a:rPr b="1" i="1" lang="it-IT" sz="1800" spc="-1" strike="noStrike">
                <a:solidFill>
                  <a:srgbClr val="336699"/>
                </a:solidFill>
                <a:latin typeface="Arial"/>
              </a:rPr>
              <a:t>14 scu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d3a57"/>
                </a:solidFill>
                <a:latin typeface="Arial"/>
              </a:rPr>
              <a:t>Leonardo :  </a:t>
            </a:r>
            <a:r>
              <a:rPr b="1" i="1" lang="it-IT" sz="1800" spc="-1" strike="noStrike">
                <a:solidFill>
                  <a:srgbClr val="336699"/>
                </a:solidFill>
                <a:latin typeface="Arial"/>
              </a:rPr>
              <a:t>1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d3a57"/>
                </a:solidFill>
                <a:latin typeface="Arial"/>
              </a:rPr>
              <a:t>PON         : </a:t>
            </a:r>
            <a:r>
              <a:rPr b="1" i="1" lang="it-IT" sz="1800" spc="-1" strike="noStrike">
                <a:solidFill>
                  <a:srgbClr val="336699"/>
                </a:solidFill>
                <a:latin typeface="Arial"/>
              </a:rPr>
              <a:t>27 scu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583080" y="2287440"/>
          <a:ext cx="5180040" cy="22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2287440"/>
                    <a:ext cx="518004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 rot="189000">
            <a:off x="6553080" y="2781360"/>
            <a:ext cx="9511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4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cu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89000">
            <a:off x="4576680" y="3019320"/>
            <a:ext cx="1368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cu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9000">
            <a:off x="5281200" y="2514600"/>
            <a:ext cx="1042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cu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705360" y="3428640"/>
            <a:ext cx="603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784680" y="3571920"/>
            <a:ext cx="86364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2438280"/>
            <a:ext cx="11430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190512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3a57"/>
                </a:solidFill>
                <a:latin typeface="Arial"/>
              </a:rPr>
              <a:t>Corrisponden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3a57"/>
                </a:solidFill>
                <a:latin typeface="Arial"/>
              </a:rPr>
              <a:t>di cla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3a57"/>
                </a:solidFill>
                <a:latin typeface="Arial"/>
              </a:rPr>
              <a:t>e individuali</a:t>
            </a:r>
            <a:r>
              <a:rPr b="1" lang="en-US" sz="1800" spc="-1" strike="noStrike">
                <a:solidFill>
                  <a:srgbClr val="1d3a57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49560" y="4653000"/>
            <a:ext cx="2879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3a57"/>
                </a:solidFill>
                <a:latin typeface="Arial"/>
              </a:rPr>
              <a:t>Scambi cultur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3a57"/>
                </a:solidFill>
                <a:latin typeface="Arial"/>
              </a:rPr>
              <a:t>Soggiorni 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3a57"/>
                </a:solidFill>
                <a:latin typeface="Arial"/>
              </a:rPr>
              <a:t>Inter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304920"/>
            <a:ext cx="35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40000"/>
                </a:solidFill>
                <a:latin typeface="Tahoma"/>
              </a:rPr>
              <a:t>PAES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493600">
            <a:off x="4566960" y="1905120"/>
            <a:ext cx="2232000" cy="282600"/>
          </a:xfrm>
          <a:custGeom>
            <a:avLst/>
            <a:gdLst/>
            <a:ahLst/>
            <a:rect l="l" t="t" r="r" b="b"/>
            <a:pathLst>
              <a:path w="635" h="86">
                <a:moveTo>
                  <a:pt x="0" y="41"/>
                </a:moveTo>
                <a:lnTo>
                  <a:pt x="123" y="16"/>
                </a:lnTo>
                <a:lnTo>
                  <a:pt x="231" y="4"/>
                </a:lnTo>
                <a:lnTo>
                  <a:pt x="347" y="0"/>
                </a:lnTo>
                <a:lnTo>
                  <a:pt x="495" y="28"/>
                </a:lnTo>
                <a:lnTo>
                  <a:pt x="635" y="8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1295280"/>
            <a:ext cx="182880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40000"/>
                </a:solidFill>
                <a:latin typeface="Arial"/>
              </a:rPr>
              <a:t>Prog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4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40000"/>
                </a:solidFill>
                <a:latin typeface="Arial"/>
              </a:rPr>
              <a:t>Comen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Ga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Sve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Germa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Irl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Portoga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Pol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Fr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Gre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Lussembu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Spa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Ol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Inghil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Finla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Est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Litu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Rep. C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Ungh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Sco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Bel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2209680"/>
            <a:ext cx="16765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Inghil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Ger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Fr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Ga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Sve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Portoga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Ol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Irl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Pol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Gre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9255800">
            <a:off x="4419360" y="1904760"/>
            <a:ext cx="1431720" cy="147600"/>
          </a:xfrm>
          <a:custGeom>
            <a:avLst/>
            <a:gdLst/>
            <a:ahLst/>
            <a:rect l="l" t="t" r="r" b="b"/>
            <a:pathLst>
              <a:path w="635" h="86">
                <a:moveTo>
                  <a:pt x="0" y="41"/>
                </a:moveTo>
                <a:lnTo>
                  <a:pt x="123" y="16"/>
                </a:lnTo>
                <a:lnTo>
                  <a:pt x="231" y="4"/>
                </a:lnTo>
                <a:lnTo>
                  <a:pt x="347" y="0"/>
                </a:lnTo>
                <a:lnTo>
                  <a:pt x="495" y="28"/>
                </a:lnTo>
                <a:lnTo>
                  <a:pt x="635" y="8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845600">
            <a:off x="4343400" y="3124080"/>
            <a:ext cx="3263760" cy="200160"/>
          </a:xfrm>
          <a:custGeom>
            <a:avLst/>
            <a:gdLst/>
            <a:ahLst/>
            <a:rect l="l" t="t" r="r" b="b"/>
            <a:pathLst>
              <a:path w="635" h="86">
                <a:moveTo>
                  <a:pt x="0" y="41"/>
                </a:moveTo>
                <a:lnTo>
                  <a:pt x="123" y="16"/>
                </a:lnTo>
                <a:lnTo>
                  <a:pt x="231" y="4"/>
                </a:lnTo>
                <a:lnTo>
                  <a:pt x="347" y="0"/>
                </a:lnTo>
                <a:lnTo>
                  <a:pt x="495" y="28"/>
                </a:lnTo>
                <a:lnTo>
                  <a:pt x="635" y="8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462600">
            <a:off x="4571640" y="2379240"/>
            <a:ext cx="1584360" cy="287280"/>
          </a:xfrm>
          <a:custGeom>
            <a:avLst/>
            <a:gdLst/>
            <a:ahLst/>
            <a:rect l="l" t="t" r="r" b="b"/>
            <a:pathLst>
              <a:path w="635" h="86">
                <a:moveTo>
                  <a:pt x="0" y="41"/>
                </a:moveTo>
                <a:lnTo>
                  <a:pt x="123" y="16"/>
                </a:lnTo>
                <a:lnTo>
                  <a:pt x="231" y="4"/>
                </a:lnTo>
                <a:lnTo>
                  <a:pt x="347" y="0"/>
                </a:lnTo>
                <a:lnTo>
                  <a:pt x="495" y="28"/>
                </a:lnTo>
                <a:lnTo>
                  <a:pt x="635" y="8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807800">
            <a:off x="4173480" y="1904760"/>
            <a:ext cx="1008000" cy="93600"/>
          </a:xfrm>
          <a:custGeom>
            <a:avLst/>
            <a:gdLst/>
            <a:ahLst/>
            <a:rect l="l" t="t" r="r" b="b"/>
            <a:pathLst>
              <a:path w="635" h="86">
                <a:moveTo>
                  <a:pt x="0" y="41"/>
                </a:moveTo>
                <a:lnTo>
                  <a:pt x="123" y="16"/>
                </a:lnTo>
                <a:lnTo>
                  <a:pt x="231" y="4"/>
                </a:lnTo>
                <a:lnTo>
                  <a:pt x="347" y="0"/>
                </a:lnTo>
                <a:lnTo>
                  <a:pt x="495" y="28"/>
                </a:lnTo>
                <a:lnTo>
                  <a:pt x="635" y="8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7419800">
            <a:off x="4393440" y="2159280"/>
            <a:ext cx="579240" cy="69840"/>
          </a:xfrm>
          <a:custGeom>
            <a:avLst/>
            <a:gdLst/>
            <a:ahLst/>
            <a:rect l="l" t="t" r="r" b="b"/>
            <a:pathLst>
              <a:path w="635" h="86">
                <a:moveTo>
                  <a:pt x="0" y="41"/>
                </a:moveTo>
                <a:lnTo>
                  <a:pt x="123" y="16"/>
                </a:lnTo>
                <a:lnTo>
                  <a:pt x="231" y="4"/>
                </a:lnTo>
                <a:lnTo>
                  <a:pt x="347" y="0"/>
                </a:lnTo>
                <a:lnTo>
                  <a:pt x="495" y="28"/>
                </a:lnTo>
                <a:lnTo>
                  <a:pt x="635" y="86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119800">
            <a:off x="4428720" y="1600200"/>
            <a:ext cx="144360" cy="82080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8241800">
            <a:off x="4311720" y="1958400"/>
            <a:ext cx="157320" cy="65880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5085800">
            <a:off x="4273200" y="2228040"/>
            <a:ext cx="157320" cy="57636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060720" y="975960"/>
            <a:ext cx="430200" cy="259236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5293400">
            <a:off x="3240720" y="1460880"/>
            <a:ext cx="430200" cy="223200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3519200">
            <a:off x="3679560" y="2111040"/>
            <a:ext cx="73080" cy="240336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367800">
            <a:off x="4649040" y="2449080"/>
            <a:ext cx="152280" cy="1081080"/>
          </a:xfrm>
          <a:custGeom>
            <a:avLst/>
            <a:gdLst/>
            <a:ahLst/>
            <a:rect l="l" t="t" r="r" b="b"/>
            <a:pathLst>
              <a:path w="116" h="608">
                <a:moveTo>
                  <a:pt x="0" y="608"/>
                </a:moveTo>
                <a:lnTo>
                  <a:pt x="44" y="520"/>
                </a:lnTo>
                <a:lnTo>
                  <a:pt x="84" y="396"/>
                </a:lnTo>
                <a:lnTo>
                  <a:pt x="112" y="256"/>
                </a:lnTo>
                <a:lnTo>
                  <a:pt x="116" y="116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1295280"/>
            <a:ext cx="2057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40000"/>
                </a:solidFill>
                <a:latin typeface="Arial"/>
              </a:rPr>
              <a:t>Scambi cultur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40000"/>
                </a:solidFill>
                <a:latin typeface="Arial"/>
              </a:rPr>
              <a:t>Soggiorni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40000"/>
                </a:solidFill>
                <a:latin typeface="Arial"/>
              </a:rPr>
              <a:t>Inter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Giapp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Bel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M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Gre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Fr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Inghil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Spa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Ger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Pol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Finla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Dani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Thaila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1371600"/>
            <a:ext cx="2895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0000"/>
                </a:solidFill>
                <a:latin typeface="Arial"/>
              </a:rPr>
              <a:t>Corrispond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0000"/>
                </a:solidFill>
                <a:latin typeface="Arial"/>
              </a:rPr>
              <a:t>di classe e individ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2286000"/>
            <a:ext cx="16002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Finla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Sco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Norv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Isra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Bielo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Arm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Nuova Zel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Lussembu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Spa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Ungh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Turc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d3a57"/>
                </a:solidFill>
                <a:latin typeface="Arial"/>
              </a:rPr>
              <a:t>Bel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5716440"/>
            <a:ext cx="18288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40000"/>
                </a:solidFill>
                <a:latin typeface="Arial"/>
              </a:rPr>
              <a:t>Progetti 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d3a57"/>
                </a:solidFill>
                <a:latin typeface="Arial"/>
              </a:rPr>
              <a:t>Inghil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00"/>
                            </p:stCondLst>
                            <p:childTnLst>
                              <p:par>
                                <p:cTn id="51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000"/>
                            </p:stCondLst>
                            <p:childTnLst>
                              <p:par>
                                <p:cTn id="53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8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0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9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086600" cy="13716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 PROGETTI PER L’EUROPA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 BASILIC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99216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52480" y="5281560"/>
            <a:ext cx="7086600" cy="1015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za, 26 sett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eferente regionale: Angela Gra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6477120"/>
            <a:ext cx="6096240" cy="52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ahoma"/>
              </a:rPr>
              <a:t>Progetto multimediale: </a:t>
            </a:r>
            <a:r>
              <a:rPr b="1" lang="it-IT" sz="1400" spc="-1" strike="noStrike">
                <a:solidFill>
                  <a:srgbClr val="003366"/>
                </a:solidFill>
                <a:latin typeface="Tahoma"/>
              </a:rPr>
              <a:t>Mario Sagaria</a:t>
            </a:r>
            <a:r>
              <a:rPr b="0" lang="it-IT" sz="1400" spc="-1" strike="noStrike">
                <a:solidFill>
                  <a:srgbClr val="003366"/>
                </a:solidFill>
                <a:latin typeface="Tahoma"/>
              </a:rPr>
              <a:t>, Ass. Tecnico ITC “L. da Vinci” - P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8120" y="2135160"/>
            <a:ext cx="4057560" cy="258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248520" cy="10670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L MONITORAGGIO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ICADUTA DELL’ATTIVITA’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611000"/>
            <a:ext cx="7315200" cy="522900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288000" tIns="288000" bIns="0" anchor="ctr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Motivazione degli studenti verso attività e metodologie didattiche innova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Potenziamento di abilità operative e di capacità relazionali e comunica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Potenziamento e miglioramento delle competenze comunicative in lingua strani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Formazione di una visione culturale europea aperta al confronto e all’interesse verso culture e tradizioni diver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Impulso all’innovazione e alla ricerca negli istitu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5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149400"/>
            <a:ext cx="7619760" cy="641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581280" y="1092240"/>
          <a:ext cx="647712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092240"/>
                    <a:ext cx="647712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715000" y="106668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sperienze 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 scuo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146052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scr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-Tw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28 scu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965840"/>
            <a:ext cx="2819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iferimenti alla DEURE nel P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2 scu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02040" y="1600200"/>
            <a:ext cx="2346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Utilizzo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49 scu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565200"/>
            <a:ext cx="297180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Tahoma"/>
              </a:rPr>
              <a:t>Modalità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Web-camera, E-mail, chat, videoconferenz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Realizzazione CD-rom, video, ipertesti,       pagine we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Utilizzo software specif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Navigazione in Intern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Attività laborator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Giornalino multimedia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Documentazione delle attività realizz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Alfabetizzazione allie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Supporto alla didatti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ahoma"/>
              </a:rPr>
              <a:t>Aggiornamento e formazione doc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733920" y="7621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160020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086600" y="3429000"/>
            <a:ext cx="457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696080" y="22096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71600" y="1371600"/>
            <a:ext cx="3048120" cy="53499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  <a:ea typeface="Arial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1371600"/>
            <a:ext cx="4343400" cy="5350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  <a:ea typeface="Arial"/>
              </a:rPr>
              <a:t>Mod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  <a:ea typeface="Arial"/>
              </a:rPr>
              <a:t>rafforzamento della dimensione culturale europ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  <a:ea typeface="Arial"/>
              </a:rPr>
              <a:t>educazione alla convivenza civile e alla cittadinanz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  <a:ea typeface="Arial"/>
              </a:rPr>
              <a:t>ridefinizione degli obiettivi linguistici secondo il Quadro Comune Europeo di Rifer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999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  <a:ea typeface="Times New Roman"/>
              </a:rPr>
              <a:t>articolazione modulare curricolari delle discipline dell’area storico-linguistico-letteraria, in una dimensione di integrazione europ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2209680"/>
            <a:ext cx="2819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Tahoma"/>
              </a:rPr>
              <a:t>INGLE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510552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Tahoma"/>
              </a:rPr>
              <a:t>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Tahoma"/>
              </a:rPr>
              <a:t>DIRI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Tahoma"/>
              </a:rPr>
              <a:t>ED. CIV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Tahoma"/>
              </a:rPr>
              <a:t>ECON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648320"/>
            <a:ext cx="13716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Tahoma"/>
              </a:rPr>
              <a:t>SCIENZ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114800"/>
            <a:ext cx="1600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Tahoma"/>
              </a:rPr>
              <a:t>GEOGRAF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3657600"/>
            <a:ext cx="17528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Tahoma"/>
              </a:rPr>
              <a:t>ITALIA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200400"/>
            <a:ext cx="190476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Tahoma"/>
              </a:rPr>
              <a:t>STO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90640" y="2743200"/>
            <a:ext cx="217188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Tahoma"/>
              </a:rPr>
              <a:t>FRANCE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6248520" cy="10670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L MONITORAGGIO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IORGANIZZAZIONE DEI CURRI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76520" y="2086920"/>
            <a:ext cx="7086600" cy="385272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288000" tIns="288000" bIns="0" anchor="ctr">
            <a:spAutoFit/>
          </a:bodyPr>
          <a:p>
            <a:pPr marL="182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’indagine prevede una seconda parte relativa all’</a:t>
            </a:r>
            <a:r>
              <a:rPr b="1" i="1" lang="en-US" sz="2400" spc="-1" strike="noStrike">
                <a:solidFill>
                  <a:srgbClr val="003366"/>
                </a:solidFill>
                <a:latin typeface="Tahoma"/>
              </a:rPr>
              <a:t>analisi qualitativa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i progetti inviati che concorrerà a definire il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complessivo rapporto di monitoraggi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Gli esiti potranno rappresentare anche la base per analisi più attente e approfondite, oltre che la premessa per ulteriori riflessioni.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120" y="762120"/>
            <a:ext cx="4876920" cy="838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L MONITORAGG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447920" y="3726360"/>
            <a:ext cx="7543800" cy="145368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288000" tIns="288000" bIns="0" anchor="ctr">
            <a:spAutoFit/>
          </a:bodyPr>
          <a:p>
            <a:pPr marL="182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3"/>
              </a:rPr>
              <a:t>Progetto “Educazione alla Cittadinanza e alla Solidarietà: la cultura dei diritti uman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33720" y="685800"/>
            <a:ext cx="4876560" cy="838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ONITORAGG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70572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LA DOCUMEN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2971800"/>
            <a:ext cx="6762600" cy="1622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ito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basilicata.istruzion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Nodo – Scuole in rete – Periodico dell’U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perte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600200" y="228600"/>
            <a:ext cx="7391520" cy="6477120"/>
          </a:xfrm>
          <a:prstGeom prst="rect">
            <a:avLst/>
          </a:prstGeom>
          <a:gradFill rotWithShape="0">
            <a:gsLst>
              <a:gs pos="0">
                <a:srgbClr val="ad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lIns="180000" rIns="180000" tIns="180000" bIns="180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 progetti per l’Europa sono uno strumento per mettere gli studenti e le studentesse nelle condizioni di sapersi orientare nella complessità del presente in un’ottica europea e sono da considerarsi “FERRI DEL MESTIERE” per la valigetta ventiquattrore della professionalità – docente: di un insegnante capace di valorizzare le diversità e di predisporre un ambiente didattico che sappia dare a tutti e a ciascu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ladimir Script"/>
              </a:rPr>
              <a:t>Angela Gra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28800" y="4114800"/>
            <a:ext cx="213372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7225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6781680" cy="50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7407" t="17614" r="0" b="0"/>
          <a:stretch/>
        </p:blipFill>
        <p:spPr>
          <a:xfrm>
            <a:off x="44280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3200" y="7632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1676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21069600">
            <a:off x="2819160" y="2057040"/>
            <a:ext cx="5105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21128578"/>
                <a:gd name="adj2" fmla="val 6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La valigia del millennio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76520" y="2136600"/>
            <a:ext cx="7315200" cy="410112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180000" anchor="ctr">
            <a:spAutoFit/>
          </a:bodyPr>
          <a:p>
            <a:pPr marL="385920" indent="-38592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UNA SCUOLA RINNOVATA NELLE FINALITA’, NEI CONTENUTI, NEI METOD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ALCUNE   PRIO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PROMOZIONE DELLA PERSONA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MIGLIORAMENTO DEI LIVELLI DI APPRENDIMENTO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EDUCARE AI COMPORTAMENTI: EDUCAZIONE ALLA CONVIVENZA CIVIL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LE URGENZE EDU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813680"/>
            <a:ext cx="6705720" cy="497088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180000" anchor="ctr">
            <a:spAutoFit/>
          </a:bodyPr>
          <a:p>
            <a:pPr marL="284040" indent="-284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a cultura del Serviz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a cultura del Territo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a Cultura di un Progetto Educativo Unita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a cultura della Documentaz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a cultura della verifica/valut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70572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Tahoma"/>
              </a:rPr>
              <a:t>LA POLITICA SCOLASTICA DELL’U.S.R. LA BASILICATA: UNA REGIONE IN RE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05720" y="1968480"/>
            <a:ext cx="1763640" cy="1765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</p:spTree>
  </p:cSld>
  <p:transition spd="slow"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28800" y="2477880"/>
            <a:ext cx="7010280" cy="4287600"/>
          </a:xfrm>
          <a:prstGeom prst="foldedCorner">
            <a:avLst>
              <a:gd name="adj" fmla="val 11333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440000" tIns="360000" bIns="180000" anchor="ctr">
            <a:spAutoFit/>
          </a:bodyPr>
          <a:p>
            <a:pPr marL="284040" indent="-284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a legge di Riforma n. 53/2003 e le indicazioni nazionali individuano l’Educazione alla Convivenza Civile come obiettivo prioritario per la formazione dell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1447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ahoma"/>
              </a:rPr>
              <a:t>PIANO di AZIONE INTEGRATO EDUCAZIONE alla CONVIVENZA CIVILE in BASILIC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D00313_" descr=""/>
          <p:cNvPicPr/>
          <p:nvPr/>
        </p:nvPicPr>
        <p:blipFill>
          <a:blip r:embed="rId3"/>
          <a:stretch/>
        </p:blipFill>
        <p:spPr>
          <a:xfrm>
            <a:off x="7174080" y="3429000"/>
            <a:ext cx="15127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1801800"/>
            <a:ext cx="7619760" cy="5005800"/>
          </a:xfrm>
          <a:prstGeom prst="foldedCorner">
            <a:avLst>
              <a:gd name="adj" fmla="val 334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ngela Granata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Referente Regionale del Proget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Giacinta Campione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Tecnico, Esper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Emilio Lastrucci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ocente Università degli Studi di Basilic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ntonietta De Michele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Presidente IRRE Basilicata o suo deleg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ario Sarli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Presidente CSV Basilicata o suo deleg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Osvaldo Carnovale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Scolastico ISIS “Morra”  Mate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aria Catanzariti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Scolastico Liceo-Ginnasio Parit. P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Giuseppe Coviello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. Scol. I.C. “Claps” Avigliano Lagopes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ntonella Forlenza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Tutor Docente Liceo Classico Duni Mate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Isabella Zaccagnino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Tutor Docente I.C. Lagopesole ITIS P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ngelo Berillo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Tutor Docente ITC ”Nitti” Potenz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addalena Marcone,</a:t>
            </a:r>
            <a:r>
              <a:rPr b="1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Tutor Docente SMS “N. Sole” Sen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934320" cy="1524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IL GRUPPO DI PROGETTO</a:t>
            </a: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“EDUCAZIONE ALLA CITTADINANZA E ALLA SOLIDARIET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À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7407" t="17614" r="0" b="0"/>
          <a:stretch/>
        </p:blipFill>
        <p:spPr>
          <a:xfrm>
            <a:off x="290520" y="1752480"/>
            <a:ext cx="852480" cy="495144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467000" cy="1460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1057320"/>
            <a:ext cx="7086600" cy="5831640"/>
          </a:xfrm>
          <a:prstGeom prst="foldedCorner">
            <a:avLst>
              <a:gd name="adj" fmla="val 334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ngela Granata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Referente Regionale e Coordinat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Giacinta Campione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Tecnico, Esper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aria Luisa Sabino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Referente e-learn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ntonietta De Michele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Presidente IRRE Basilic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Vittorio Pace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ITC “L. da Vinci” Pot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Francesco Mauro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SMS “Granata” Rionero (P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. Concetta Santoro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irigente L. Classico “Duni” Mate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Leonardo Iannuzzi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SMS “Torraca” Mate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ichele Pinto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.D. 1° Melf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Vincenzo Duni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ocente L. Scientifico “Alighieri” Mate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aria Di Girolamo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Docente ITC “L. da Vinci” Potenz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Carmine Vazza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                                  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Maria Massa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Rappresentante AE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Vito Telesca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, </a:t>
            </a:r>
            <a:r>
              <a:rPr b="0" i="1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Responsabile Informagiov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75960"/>
            <a:ext cx="6400800" cy="9903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66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IL NUCLEO D’INTERVENTO</a:t>
            </a: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“L’EUROPA DELL’ISTRUZI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3870360"/>
            <a:ext cx="38098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nsegnamento della 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733920"/>
            <a:ext cx="25909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L’Europa dell’Istr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3886200" cy="100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Educazione alla Cittadinanza e alla Solidarie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la Cultura dei Diritti Um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438280"/>
            <a:ext cx="2514600" cy="398880"/>
          </a:xfrm>
          <a:prstGeom prst="rect">
            <a:avLst/>
          </a:pr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Studenti in S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4441680"/>
            <a:ext cx="2590920" cy="1654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255276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00200" y="838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52760" cy="162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3520" y="380880"/>
            <a:ext cx="8076960" cy="6019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 Black"/>
              </a:rPr>
              <a:t>Piano di Azione Educazione alla Convivenza Civile in Basilicat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strips dir="l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900"/>
                            </p:stCondLst>
                            <p:childTnLst>
                              <p:par>
                                <p:cTn id="2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4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900"/>
                            </p:stCondLst>
                            <p:childTnLst>
                              <p:par>
                                <p:cTn id="2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4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8:28:49Z</dcterms:created>
  <dc:creator>..</dc:creator>
  <dc:description/>
  <dc:language>en-US</dc:language>
  <cp:lastModifiedBy>parkhotel</cp:lastModifiedBy>
  <dcterms:modified xsi:type="dcterms:W3CDTF">2005-09-27T11:47:36Z</dcterms:modified>
  <cp:revision>70</cp:revision>
  <dc:subject/>
  <dc:title>UFFICIO SCOLASTICO REGIONALE BASILICATA</dc:title>
</cp:coreProperties>
</file>