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1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3C7-C5AB-47EB-9EE8-107EC93F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7A3-2BBE-4F25-B510-ABE2DC72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459-F611-44FD-A1DE-5037F6DA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DDD-CC1E-4C7E-9D7E-8E71C9DF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6EB-B1D7-4FB0-A24D-DD2B97E2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293-977A-4A42-BEF2-5B587CC9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2D5-89E7-4FF7-84F4-FC01C8B8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895-F40B-4507-8CF5-D44B8B52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B57-BAF5-4267-9B9A-EBF51CF5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FD3-38E3-4B7A-99E6-FACE3E7C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42D-4D0C-4012-8D35-1EFD6611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301-FDE2-40C2-A72D-9BF8B9FC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FAA5-1226-4C4A-A7ED-6E80D66E8B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struzione.it/buongiorno_europa/index.s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C:/Documents%20and%20Settings/ParkHotel/Desktop/_%20&#160;MIUR%20-%20Buongiorno%20Europa!%20&#160;COMPLETA.htm" TargetMode="External"/><Relationship Id="rId3" Type="http://schemas.openxmlformats.org/officeDocument/2006/relationships/hyperlink" Target="file:///C:/Documents%20and%20Settings/ParkHotel/Desktop/_%20&#160;MIUR%20-%20Buongiorno%20Europa!%20&#160;COMPLETA.htm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" Target="slide18.xm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143000"/>
            <a:ext cx="7772400" cy="37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99"/>
                </a:solidFill>
                <a:latin typeface="Times New Roman"/>
              </a:rPr>
              <a:t>Europa dell’Istruzi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Potenza 26-09-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99"/>
                </a:solidFill>
                <a:latin typeface="Times New Roman"/>
              </a:rPr>
              <a:t>Suzanne 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C49-6A16-49A6-83BF-3BF9C4CFEE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053800" y="1752480"/>
            <a:ext cx="563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ntro il 2010, almeno l'8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ella popolazione ventidue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ell'Unione europea dovreb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ere completato un ciclo 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struzione secondaria superi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460-FD4E-4142-B832-E2DEA9C8EF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76312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539-B769-48D3-87D9-5B79634770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2600" y="1828800"/>
            <a:ext cx="5493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ntro il 2010, la percentu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ei quindicenni con sc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apacità di lettura dovreb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iminuire nell'Unione europ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lmeno del 20% rispetto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451-12D7-4073-A63A-3B614CD825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642960"/>
            <a:ext cx="8534160" cy="598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DCB-B18E-4F94-88BB-06F7E3CF78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71120" y="990720"/>
            <a:ext cx="5622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ntro il 2010, il livello medio 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artecip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ll'apprendimento lungo tu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'arco della vita dovreb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ttestarsi nell'Unione europ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lmeno al 12,5% d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opolazione adulta in e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avorativa (fascia di e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resa tra 25 e 64 an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CD1-D1BC-42F6-B4BA-815DAF3AA2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F37-3420-40AD-83CF-58D10CF0FC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89840" y="990720"/>
            <a:ext cx="347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Altri benchmar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E84-0735-4A15-BD2A-61CC79F26B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514440"/>
            <a:ext cx="8305920" cy="603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80C-8DA9-4D2A-A389-2DC270DAFA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609480"/>
            <a:ext cx="82296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a promozione delle attività europee e internazionali nella scu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Quali scuole hanno partecipato di più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ove sono collocate queste scuole sul territor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 quali ordini di scuole sono distribuiti i progett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n quali risultat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me trasmettere agli altri le buone pratic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me aiutare a produrre megl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 progetti hanno rappresentato una crescita per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cuo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103-06AE-4AE9-B928-A220F4FB8D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228600"/>
            <a:ext cx="82296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NewRoman"/>
              </a:rPr>
              <a:t>Istituzione di un nucleo di interv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99"/>
                </a:solidFill>
                <a:latin typeface="Times New Roman"/>
              </a:rPr>
              <a:t>“…</a:t>
            </a:r>
            <a:r>
              <a:rPr b="1" i="1" lang="it-IT" sz="2800" spc="-1" strike="noStrike">
                <a:solidFill>
                  <a:srgbClr val="000099"/>
                </a:solidFill>
                <a:latin typeface="Times New Roman"/>
              </a:rPr>
              <a:t>.è  opportuno  che  ogni  Ufficio  scolastico  regionale  individui  all’interno  de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i="1" lang="it-IT" sz="2800" spc="-1" strike="noStrike">
                <a:solidFill>
                  <a:srgbClr val="000099"/>
                </a:solidFill>
                <a:latin typeface="Times New Roman"/>
              </a:rPr>
              <a:t>propri  Uffici  un  nucleo  di  intervento  che  svolga  in  collaborazione  con  l’Amministrazione centrale  azioni  di  promozione  e  sostegno  alle  attività  progettuali  e  di  monitoraggio  e  di disseminazione di processi,  risultati e prodotti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7C9-7454-43A3-B83F-E6C55166FC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1143000"/>
            <a:ext cx="723924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a Direttiva del Ministr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21 giugno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er lo sviluppo e promozione della Dimensione europea dell’Edu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NewRoman"/>
              </a:rPr>
              <a:t>Informazione sul programma dell’UE “Istruzione e formazione 201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NewRoman"/>
              </a:rPr>
              <a:t>Promozione delle attività europee e internazionali nella scu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CFC-F514-4CF1-A715-566E8966C3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62120" y="0"/>
          <a:ext cx="9207360" cy="639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9207360" cy="63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25F-65FC-44D1-B939-A3CDE79AA6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34290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iscussioni on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9718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nfronto tra reg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0960" y="99072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Uscire dall’autoreferenzia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3440" y="1143000"/>
            <a:ext cx="5650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Importanza degli scambi informali di id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e delle relazioni interperson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9000" y="4038480"/>
            <a:ext cx="54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vviare una collaborazione interregional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3480" y="4876920"/>
            <a:ext cx="71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NewRoman"/>
              </a:rPr>
              <a:t>Avviare collaborazioni con la DGAI (protocolli d’inte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90920" y="304920"/>
            <a:ext cx="57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Un modo diverso di lavo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FF4-1288-4577-AC5D-0E86F97E7B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66680" y="457200"/>
            <a:ext cx="63486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Le azioni da svolg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“…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.per un coordinamento effic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fra soggetti e attività, volto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monitoraggio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delle esperien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realizzate, alla </a:t>
            </a:r>
            <a:r>
              <a:rPr b="0" i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diffus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delle migliori pratiche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alla realizzazione d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interventi compensativ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ul territorio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D80-CE24-413E-A314-D8BD9DCA70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8080" y="76212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Indicazioni oper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362320"/>
            <a:ext cx="89917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r>
              <a:rPr b="1" lang="it-IT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conoscere l’e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 </a:t>
            </a:r>
            <a:r>
              <a:rPr b="1" lang="it-IT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individuare scuole p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costituire reti di scuole, interistituzionali, reti tema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  </a:t>
            </a:r>
            <a:r>
              <a:rPr b="1" lang="it-IT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mettere in piedi strutture di supporto e di accompagnamento alla progettua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   </a:t>
            </a:r>
            <a:r>
              <a:rPr b="1" lang="it-IT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svolgere azioni di monitoraggio e 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lang="it-IT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seminare i processi, risultati e prodotti, </a:t>
            </a:r>
            <a:r>
              <a:rPr b="1" lang="it-IT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scambiare buone prati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lang="it-IT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ostenere l’innov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6E9-CC52-49B2-AE71-5C92121002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184320"/>
            <a:ext cx="83059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L’avviamento del lavoro tra il gruppo di lavoro della DG Affari Internazionali del MI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e i 23 nuclei d’intervento reg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Riunioni presso il MIUR con uno o due rappresentanti i nuclei reg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La conferenza nazionale dei giorni 8 e 9 febbraio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3 seminari di formazione a maggio a Torino, Senigallia, Mara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E1E-0BFF-4B98-B0E6-3467170A44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1371600"/>
            <a:ext cx="8515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l lavoro in cor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a rilevazione delle attività esist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’istituzione di scuole p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l sito web Europa dell’Istruzione (concorso per il log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D34-4B8F-4096-881B-1BBF84A144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57680" y="1320840"/>
            <a:ext cx="67003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Le reti temati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pprendimento delle lingue stran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 contesto favorevole alle lingu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ducazione all’Europ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7C7-40C5-4A6D-AF11-6FA3D3D4D9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86680" y="2006640"/>
            <a:ext cx="423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it-IT" sz="3200" spc="-1" strike="noStrike">
                <a:solidFill>
                  <a:srgbClr val="000099"/>
                </a:solidFill>
                <a:latin typeface="Comic Sans MS"/>
              </a:rPr>
              <a:t>Buongiorno Europ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Comic Sans MS"/>
              </a:rPr>
              <a:t>www.istruzione.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Torna alla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3581280"/>
            <a:ext cx="7292880" cy="685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27560" y="44449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21240" y="4800600"/>
            <a:ext cx="77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irezione Generale Affari Internaz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BE6-54CD-4728-BC32-CD489DA08A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936840" y="388620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5480" y="0"/>
            <a:ext cx="21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lle scuo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etti, azion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13716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'archivio delle buone pratic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502920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um 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7640" y="25146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orse on 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2880" y="56386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iscriver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88920" y="117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89640" y="57456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7640" y="312408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uto o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2470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5562720"/>
            <a:ext cx="224316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UOLE P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60" y="6400800"/>
            <a:ext cx="269244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TI TEMA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93960" y="95580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Statis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0960" y="5943600"/>
            <a:ext cx="309780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TI MULTIAT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2880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DIRETTIVA E. I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04920" y="2286000"/>
            <a:ext cx="151128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209680" y="0"/>
            <a:ext cx="4521240" cy="5562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133720" y="0"/>
            <a:ext cx="464796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028-19C1-4E7F-8BD4-8157A1E4FA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500"/>
                            </p:stCondLst>
                            <p:childTnLst>
                              <p:par>
                                <p:cTn id="8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685800"/>
            <a:ext cx="755964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l contesto europeo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struzione e formazione 2010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Geneva"/>
              </a:rPr>
              <a:t>In seguito al Consiglio europeo di </a:t>
            </a:r>
            <a:r>
              <a:rPr b="1" i="1" lang="en-US" sz="2400" spc="-1" strike="noStrike">
                <a:solidFill>
                  <a:srgbClr val="000066"/>
                </a:solidFill>
                <a:latin typeface="Geneva"/>
              </a:rPr>
              <a:t>Lisbona 23 e 24 marzo 2000</a:t>
            </a:r>
            <a:r>
              <a:rPr b="0" i="1" lang="en-US" sz="2400" spc="-1" strike="noStrike">
                <a:solidFill>
                  <a:srgbClr val="000066"/>
                </a:solidFill>
                <a:latin typeface="Geneva"/>
              </a:rPr>
              <a:t>, sono stati defin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Geneva"/>
              </a:rPr>
              <a:t>i concreti obiettivi futuri dei sistemi di istruzione e di formazione</a:t>
            </a:r>
            <a:r>
              <a:rPr b="0" i="1" lang="en-US" sz="2400" spc="-1" strike="noStrike">
                <a:solidFill>
                  <a:srgbClr val="000066"/>
                </a:solidFill>
                <a:latin typeface="Geneva"/>
              </a:rPr>
              <a:t>, che consentiranno a tutti i cittadini europei di partecipare alla nuova società della conoscenza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E l’individuazione di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indicatori comuni per le 5 aree tematiche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 prioritarie (maggio 2003)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72F-3AC0-4655-BEA0-DEEA17C024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17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17b"/>
                </a:solidFill>
                <a:latin typeface="Times New Roman"/>
              </a:rPr>
              <a:t>aumentare la qualità e l'efficacia dei sistemi di istruzione e di formazione nell'Unione europe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17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17b"/>
                </a:solidFill>
                <a:latin typeface="Times New Roman"/>
              </a:rPr>
              <a:t>facilitare l'accesso ai sistemi di istruzione e di formazion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17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17b"/>
                </a:solidFill>
                <a:latin typeface="Times New Roman"/>
              </a:rPr>
              <a:t>aprire i sistemi di istruzione e formazione. al mondo este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8560" y="457200"/>
            <a:ext cx="906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li obiettivi comuni approvati nel 2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343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oltre, sono stati definiti tredici sotto obiettivi concreti e, per ciascuno di essi, questioni fondamentali da affrontare, nonché un elenco orientativo di indicatori per misurarne l'attuazi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1A9-6DB2-41B6-8E17-CFAB8F0731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09480" y="1752480"/>
            <a:ext cx="8000280" cy="2104920"/>
            <a:chOff x="609480" y="1752480"/>
            <a:chExt cx="8000280" cy="2104920"/>
          </a:xfrm>
        </p:grpSpPr>
        <p:sp>
          <p:nvSpPr>
            <p:cNvPr id="49" name=""/>
            <p:cNvSpPr/>
            <p:nvPr/>
          </p:nvSpPr>
          <p:spPr>
            <a:xfrm>
              <a:off x="609480" y="1752480"/>
              <a:ext cx="8000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1752480"/>
              <a:ext cx="80002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4400" spc="-1" strike="noStrike">
                  <a:solidFill>
                    <a:srgbClr val="000099"/>
                  </a:solidFill>
                  <a:latin typeface="Times New Roman"/>
                </a:rPr>
                <a:t>5 indicatori (Benchmark) per la valutazione dei sistemi di istruzione e formazion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480" y="2611080"/>
              <a:ext cx="800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C0C-E1AD-456F-A7B0-469D7EC64A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1284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1520" y="1143000"/>
            <a:ext cx="4876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ntro il 2010, nell'UE 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ovrebbe pervenire ad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ercentuale media n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uperiore al 10% 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bbandoni scolast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emat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300-D19A-4911-B197-5F5CA0D572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05560" cy="579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961-8F5C-4333-80C1-C1E94F4E86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76760" y="1295280"/>
            <a:ext cx="5520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l totale dei laureati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tematica, scien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cnologie nell'Unione europ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ovrebbe aumentare alm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el 15% entro il 2010 e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ntempo dovrebbe diminu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o squilibrio tra i se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A4B-B900-4705-B522-6937C15AD5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914400"/>
            <a:ext cx="8382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737cc"/>
                </a:solidFill>
                <a:latin typeface="Wingdings"/>
                <a:ea typeface="Wingdings"/>
              </a:rPr>
              <a:t></a:t>
            </a:r>
            <a:r>
              <a:rPr b="1" lang="it-IT" sz="3200" spc="-1" strike="noStrike">
                <a:solidFill>
                  <a:srgbClr val="3737cc"/>
                </a:solidFill>
                <a:latin typeface="Arial"/>
              </a:rPr>
              <a:t>Il Benchmark: sarà raggiunto prima del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737cc"/>
                </a:solidFill>
                <a:latin typeface="Wingdings"/>
                <a:ea typeface="Wingdings"/>
              </a:rPr>
              <a:t></a:t>
            </a:r>
            <a:r>
              <a:rPr b="1" lang="it-IT" sz="3200" spc="-1" strike="noStrike">
                <a:solidFill>
                  <a:srgbClr val="3737cc"/>
                </a:solidFill>
                <a:latin typeface="Arial"/>
              </a:rPr>
              <a:t>Forte crescita nell’Europa meridionale e dell’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737cc"/>
                </a:solidFill>
                <a:latin typeface="Wingdings"/>
                <a:ea typeface="Wingdings"/>
              </a:rPr>
              <a:t></a:t>
            </a:r>
            <a:r>
              <a:rPr b="1" lang="it-IT" sz="3200" spc="-1" strike="noStrike">
                <a:solidFill>
                  <a:srgbClr val="3737cc"/>
                </a:solidFill>
                <a:latin typeface="Arial"/>
              </a:rPr>
              <a:t>Crescita delle laureate : 2000: +28% 2001: +3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737cc"/>
                </a:solidFill>
                <a:latin typeface="Wingdings"/>
                <a:ea typeface="Wingdings"/>
              </a:rPr>
              <a:t></a:t>
            </a:r>
            <a:r>
              <a:rPr b="1" lang="it-IT" sz="3200" spc="-1" strike="noStrike">
                <a:solidFill>
                  <a:srgbClr val="3737cc"/>
                </a:solidFill>
                <a:latin typeface="Arial"/>
              </a:rPr>
              <a:t>La Cina ha superato la Ue nel 2003 (810 000 laureati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737cc"/>
                </a:solidFill>
                <a:latin typeface="Arial"/>
              </a:rPr>
              <a:t>M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62E-47CC-472B-8055-763DD26CAE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03:11Z</dcterms:created>
  <dc:creator>suzanne.ely</dc:creator>
  <dc:description/>
  <dc:language>en-US</dc:language>
  <cp:lastModifiedBy>parkhotel</cp:lastModifiedBy>
  <dcterms:modified xsi:type="dcterms:W3CDTF">2005-09-27T11:49:08Z</dcterms:modified>
  <cp:revision>67</cp:revision>
  <dc:subject/>
  <dc:title>Presentazione di PowerPoint</dc:title>
</cp:coreProperties>
</file>