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A89-D8E4-47FC-9671-8BC20D0C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477-C00B-4E38-B397-CF1CD2F0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876-37EB-4878-80CE-B7B09F7E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1BD-F700-4BE2-BDDE-F6DB0371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632-96EA-4F16-A1C9-66E4674F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1DA-7A46-445A-B698-F5142071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4C8-79C3-4254-8CA1-8057232A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709-C826-441B-94EE-27261179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7FA-C0B3-4223-84EF-6ECA9451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18E-4A0F-44C2-A956-BE9015A2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F58-2747-4EC3-A9C9-DA4775FE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F86-A0F6-4F96-843E-2B11E15E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8103-AE22-4B11-8F31-AD7EE36F63A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841960" y="5229360"/>
            <a:ext cx="30204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aluisa Sabino – USR Basilic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barra"/>
          <p:cNvPicPr/>
          <p:nvPr/>
        </p:nvPicPr>
        <p:blipFill>
          <a:blip r:embed="rId1"/>
          <a:stretch/>
        </p:blipFill>
        <p:spPr>
          <a:xfrm>
            <a:off x="841320" y="2155680"/>
            <a:ext cx="6438960" cy="200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ragazzi"/>
          <p:cNvPicPr/>
          <p:nvPr/>
        </p:nvPicPr>
        <p:blipFill>
          <a:blip r:embed="rId2"/>
          <a:stretch/>
        </p:blipFill>
        <p:spPr>
          <a:xfrm>
            <a:off x="755640" y="1268280"/>
            <a:ext cx="3952800" cy="2266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2008"/>
          <p:cNvPicPr/>
          <p:nvPr/>
        </p:nvPicPr>
        <p:blipFill>
          <a:blip r:embed="rId3"/>
          <a:stretch/>
        </p:blipFill>
        <p:spPr>
          <a:xfrm>
            <a:off x="4716360" y="1268280"/>
            <a:ext cx="265752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372360" y="4076640"/>
            <a:ext cx="1885680" cy="21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116000" y="4365720"/>
            <a:ext cx="387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ti Statistici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333360"/>
          <a:ext cx="9144000" cy="636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333360"/>
          <a:ext cx="9144000" cy="636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189000"/>
          <a:ext cx="9144000" cy="63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476280"/>
          <a:ext cx="9144000" cy="584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404640"/>
          <a:ext cx="9144000" cy="584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404640"/>
          <a:ext cx="9144000" cy="584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333360"/>
          <a:ext cx="9144000" cy="584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333360"/>
          <a:ext cx="9144000" cy="584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549360"/>
          <a:ext cx="8388360" cy="536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9360"/>
                    <a:ext cx="83883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333360"/>
          <a:ext cx="882000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882000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260280"/>
          <a:ext cx="9144000" cy="636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0:33:36Z</dcterms:created>
  <dc:creator/>
  <dc:description/>
  <dc:language>en-US</dc:language>
  <cp:lastModifiedBy>marilisa</cp:lastModifiedBy>
  <dcterms:modified xsi:type="dcterms:W3CDTF">2008-06-18T09:50:26Z</dcterms:modified>
  <cp:revision>13</cp:revision>
  <dc:subject/>
  <dc:title>Diapositiva 1</dc:title>
</cp:coreProperties>
</file>