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AD24-0413-4213-9125-134EE5C347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3399"/>
                </a:solidFill>
                <a:latin typeface="Arial"/>
              </a:rPr>
              <a:t>forum, materiali, attività laboratoriali, apporti delle associazioni professionali, riflessioni con l’esperto in presenza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FB30-E9CF-4C3D-BAF5-52D4E90E4A8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CB9-5766-4146-BB6D-07DC4505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01B-964B-4E19-8B8B-5EC05671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DBA-ADC0-4938-B919-744EFF21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49B-A8B8-4066-B7E0-EABB6DAC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AC2-6422-4037-8CF3-D21B5E2D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C85-D30E-414F-8D73-1FBFED25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3DE-93F4-44A2-A59A-21F69A77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F99-3814-4E54-B17E-E3288229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E17-6509-477D-BE15-C3B1CA4E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80C-085C-4EA6-BBB0-6D4FFF0B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C6B8-C118-430C-92C5-50A84887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CD7-4CB9-42B8-903F-AE8C384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1205-2D28-4C6A-A863-E2BF8CA40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5877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coletta Biferale, Stefania Gugliotta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Ufficio Lingue Ministero Pubblica 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560" y="1341000"/>
            <a:ext cx="792036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Piano di formazione linguis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e metodologico-didat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per gli insegnanti della scuola pri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emblema_gr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828720" cy="718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1200" y="1052640"/>
            <a:ext cx="46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Ministero della Pubblica 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3141720"/>
            <a:ext cx="82677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003399"/>
                    </a:gs>
                  </a:gsLst>
                  <a:lin ang="5400000"/>
                </a:gradFill>
                <a:latin typeface="Times New Roman"/>
              </a:rPr>
              <a:t>Il progetto: a che punto siamo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00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0033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003399"/>
                    </a:gs>
                  </a:gsLst>
                  <a:lin ang="5400000"/>
                </a:gradFill>
                <a:latin typeface="Times New Roman"/>
              </a:rPr>
              <a:t>Quali prospett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0033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aratteristiche dei corsi di </a:t>
            </a:r>
            <a:br>
              <a:rPr sz="3600"/>
            </a:b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etodologia e didat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3141720"/>
            <a:ext cx="18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e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59280" y="2637000"/>
            <a:ext cx="2879640" cy="1296720"/>
            <a:chOff x="3059280" y="2637000"/>
            <a:chExt cx="2879640" cy="1296720"/>
          </a:xfrm>
        </p:grpSpPr>
        <p:sp>
          <p:nvSpPr>
            <p:cNvPr id="100" name=""/>
            <p:cNvSpPr/>
            <p:nvPr/>
          </p:nvSpPr>
          <p:spPr>
            <a:xfrm>
              <a:off x="3132000" y="2637000"/>
              <a:ext cx="2735280" cy="129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59280" y="278136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Verdana"/>
                </a:rPr>
                <a:t>20 ore in presen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012000" y="2276640"/>
            <a:ext cx="2881080" cy="1008000"/>
            <a:chOff x="6012000" y="2276640"/>
            <a:chExt cx="2881080" cy="1008000"/>
          </a:xfrm>
        </p:grpSpPr>
        <p:sp>
          <p:nvSpPr>
            <p:cNvPr id="103" name=""/>
            <p:cNvSpPr/>
            <p:nvPr/>
          </p:nvSpPr>
          <p:spPr>
            <a:xfrm>
              <a:off x="6012000" y="2276640"/>
              <a:ext cx="24224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27640" y="2349360"/>
              <a:ext cx="266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Verdana"/>
                </a:rPr>
                <a:t>20 ore a distan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55640" y="5661000"/>
            <a:ext cx="3672000" cy="792360"/>
            <a:chOff x="755640" y="5661000"/>
            <a:chExt cx="3672000" cy="792360"/>
          </a:xfrm>
        </p:grpSpPr>
        <p:sp>
          <p:nvSpPr>
            <p:cNvPr id="106" name=""/>
            <p:cNvSpPr/>
            <p:nvPr/>
          </p:nvSpPr>
          <p:spPr>
            <a:xfrm>
              <a:off x="755640" y="5661000"/>
              <a:ext cx="367200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6920" y="5805360"/>
              <a:ext cx="36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Contratto personalizz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292720" y="5661000"/>
            <a:ext cx="3456000" cy="792360"/>
            <a:chOff x="5292720" y="5661000"/>
            <a:chExt cx="3456000" cy="792360"/>
          </a:xfrm>
        </p:grpSpPr>
        <p:sp>
          <p:nvSpPr>
            <p:cNvPr id="109" name=""/>
            <p:cNvSpPr/>
            <p:nvPr/>
          </p:nvSpPr>
          <p:spPr>
            <a:xfrm>
              <a:off x="5292720" y="5661000"/>
              <a:ext cx="345600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2840" y="5856120"/>
              <a:ext cx="274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Verdana"/>
                </a:rPr>
                <a:t>Integrazione percor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269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mpetenza minima per potere affrontare le tema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372360" y="1341360"/>
            <a:ext cx="1655640" cy="647640"/>
            <a:chOff x="6372360" y="1341360"/>
            <a:chExt cx="1655640" cy="647640"/>
          </a:xfrm>
        </p:grpSpPr>
        <p:sp>
          <p:nvSpPr>
            <p:cNvPr id="113" name=""/>
            <p:cNvSpPr/>
            <p:nvPr/>
          </p:nvSpPr>
          <p:spPr>
            <a:xfrm>
              <a:off x="6659640" y="1341360"/>
              <a:ext cx="115236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72360" y="1413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Verdana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00000" y="43657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alità del 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932360" y="4221000"/>
            <a:ext cx="3168720" cy="1295640"/>
            <a:chOff x="4932360" y="4221000"/>
            <a:chExt cx="3168720" cy="1295640"/>
          </a:xfrm>
        </p:grpSpPr>
        <p:sp>
          <p:nvSpPr>
            <p:cNvPr id="117" name=""/>
            <p:cNvSpPr/>
            <p:nvPr/>
          </p:nvSpPr>
          <p:spPr>
            <a:xfrm>
              <a:off x="4932360" y="4221000"/>
              <a:ext cx="3168720" cy="129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76720" y="4437000"/>
              <a:ext cx="280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Verdana"/>
                </a:rPr>
                <a:t>Sviluppo professionale in coerenza col profilo di us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9" name=""/>
          <p:cNvCxnSpPr>
            <a:stCxn id="111" idx="3"/>
            <a:endCxn id="114" idx="0"/>
          </p:cNvCxnSpPr>
          <p:nvPr/>
        </p:nvCxnSpPr>
        <p:spPr>
          <a:xfrm flipV="1">
            <a:off x="4642920" y="1412640"/>
            <a:ext cx="2558520" cy="306720"/>
          </a:xfrm>
          <a:prstGeom prst="bentConnector4">
            <a:avLst>
              <a:gd name="adj1" fmla="val 33760"/>
              <a:gd name="adj2" fmla="val 174735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5" idx="3"/>
            <a:endCxn id="117" idx="0"/>
          </p:cNvCxnSpPr>
          <p:nvPr/>
        </p:nvCxnSpPr>
        <p:spPr>
          <a:xfrm flipV="1">
            <a:off x="3348000" y="4220640"/>
            <a:ext cx="3169440" cy="556560"/>
          </a:xfrm>
          <a:prstGeom prst="curvedConnector5">
            <a:avLst>
              <a:gd name="adj1" fmla="val 24991"/>
              <a:gd name="adj2" fmla="val 70550"/>
              <a:gd name="adj3" fmla="val 24991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0" idx="0"/>
            <a:endCxn id="103" idx="0"/>
          </p:cNvCxnSpPr>
          <p:nvPr/>
        </p:nvCxnSpPr>
        <p:spPr>
          <a:xfrm flipH="1" flipV="1" rot="5400000">
            <a:off x="5681520" y="1095120"/>
            <a:ext cx="361080" cy="2723040"/>
          </a:xfrm>
          <a:prstGeom prst="curvedConnector5">
            <a:avLst>
              <a:gd name="adj1" fmla="val 163373"/>
              <a:gd name="adj2" fmla="val 49993"/>
              <a:gd name="adj3" fmla="val 163373"/>
            </a:avLst>
          </a:prstGeom>
          <a:ln w="9360">
            <a:solidFill>
              <a:srgbClr val="333399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187280" y="3573360"/>
            <a:ext cx="1081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515772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2349360"/>
            <a:ext cx="288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l percorso di metodologia- didat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Parte integrante della 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hi ha il livello B1, deve fare questo percorso per avere l’attestato f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E-learning integ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Offre una serie di servizi ed attività diversificate ma sarà organizzata per nuclei fond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 nuclei fonda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Scelta delle asso. prof. e del CTS su contributi e lab. ritenuti priori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Enfasi sulle attività prat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Selezione per ogni nucleo di max.3 contribu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Riconsiderazione dei forum privilegiando docenti di scuola primaria autori di contrib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36360" y="-171360"/>
            <a:ext cx="3600360" cy="3025800"/>
          </a:xfrm>
          <a:prstGeom prst="ellipse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62064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  <a:ea typeface="Times New Roman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468360" y="189000"/>
            <a:ext cx="460872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cquisizione e apprendi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fattore età, strategia di correzione, affettivit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92720" y="0"/>
            <a:ext cx="3600360" cy="2565360"/>
          </a:xfrm>
          <a:prstGeom prst="ellipse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47628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  <a:ea typeface="Times New Roman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333360"/>
            <a:ext cx="460836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Didattica ling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’ascolto e il parlato, l’approccio lessicale, la funzione del gio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252360" y="3451320"/>
            <a:ext cx="4373640" cy="2786040"/>
          </a:xfrm>
          <a:prstGeom prst="ellipse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4221000"/>
            <a:ext cx="24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  <a:ea typeface="Times New Roman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252360" y="3933720"/>
            <a:ext cx="446400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Progettazione e verif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traguardi/ descrittori scuola primaria e esplicitazione in compiti, saper fare, valutazione e auto-valuta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64000" y="3141720"/>
            <a:ext cx="3600720" cy="3025800"/>
          </a:xfrm>
          <a:prstGeom prst="ellipse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3372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  <a:ea typeface="Times New Roman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3867120"/>
            <a:ext cx="4608360" cy="2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Lingua e cul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contesti plurilingue e interculturali con attività e esperien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1844640"/>
            <a:ext cx="4321440" cy="2378160"/>
          </a:xfrm>
          <a:prstGeom prst="ellipse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23493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  <a:ea typeface="Times New Roman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95640" y="2205000"/>
            <a:ext cx="460836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Tecnologie e materi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supporti multimedia, TV autentica con programi e canzo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evt="end">
                                        <p:tn val="467"/>
                                      </p:cond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4" dur="1" fill="hold">
                                    <p:stCondLst>
                                      <p:cond evt="end">
                                        <p:tn val="481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0"/>
                            </p:stCondLst>
                            <p:childTnLst>
                              <p:par>
                                <p:cTn id="4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evt="end">
                                        <p:tn val="495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2" dur="1" fill="hold">
                                    <p:stCondLst>
                                      <p:cond evt="end">
                                        <p:tn val="509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500"/>
                            </p:stCondLst>
                            <p:childTnLst>
                              <p:par>
                                <p:cTn id="5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evt="end">
                                        <p:tn val="523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ali prospet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iteri comuni, contesti specifici da valorizz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ssibilità di estendere iniziative premi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minari per 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nitoraggio costante della qualità e degli obiettivi da raggiung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oluzione verso un’architettura di formazione permanente e valorizzazione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on lavoro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Tommaso Padoa Schioppa"/>
          <p:cNvPicPr/>
          <p:nvPr/>
        </p:nvPicPr>
        <p:blipFill>
          <a:blip r:embed="rId1"/>
          <a:stretch/>
        </p:blipFill>
        <p:spPr>
          <a:xfrm>
            <a:off x="611280" y="1341360"/>
            <a:ext cx="7489800" cy="476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 che punto siamo: situazione regi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- Docenti in formazione 2005/06: 3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- Docenti certificati: 0 (PP e 1446/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- Docenti ora in formazione: 237 con dispersione del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47% (solo 172 continuano la formazi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tima docenti certificati nel 2009: 2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tima docenti che restano da formare: ca.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Arial"/>
              </a:rPr>
              <a:t>A che punto siamo: iscritti in piattaforma Puntoedu ling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Corsisti iscritti lingua 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2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Formatori lingua iscritti  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19 (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Corsisti iscritti metodologia</a:t>
            </a: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E-tutor iscritti</a:t>
            </a: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7164360" y="5734080"/>
            <a:ext cx="647640" cy="358920"/>
          </a:xfrm>
          <a:custGeom>
            <a:avLst/>
            <a:gdLst>
              <a:gd name="textAreaLeft" fmla="*/ 113400 w 647640"/>
              <a:gd name="textAreaRight" fmla="*/ 469800 w 64764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3399"/>
                </a:solidFill>
                <a:latin typeface="Arial"/>
              </a:rPr>
              <a:t>A questo pun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a formazione dei formatori ma anche dei doc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l profilo come patto 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standard per le prove fi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 supporti (RAI e Indi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borse di 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 novità per i laboratori di ling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 nuclei fondanti per la metodolo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9625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split dir="out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aratteristiche dei corsi di ling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560" y="3141720"/>
            <a:ext cx="180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e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59280" y="2637000"/>
            <a:ext cx="2879640" cy="1296720"/>
            <a:chOff x="3059280" y="2637000"/>
            <a:chExt cx="2879640" cy="1296720"/>
          </a:xfrm>
        </p:grpSpPr>
        <p:sp>
          <p:nvSpPr>
            <p:cNvPr id="64" name=""/>
            <p:cNvSpPr/>
            <p:nvPr/>
          </p:nvSpPr>
          <p:spPr>
            <a:xfrm>
              <a:off x="3132000" y="2637000"/>
              <a:ext cx="2735280" cy="129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59280" y="278136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Verdana"/>
                </a:rPr>
                <a:t>da nessuna competenza a 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156360" y="2421000"/>
            <a:ext cx="2376360" cy="792000"/>
            <a:chOff x="6156360" y="2421000"/>
            <a:chExt cx="2376360" cy="792000"/>
          </a:xfrm>
        </p:grpSpPr>
        <p:sp>
          <p:nvSpPr>
            <p:cNvPr id="67" name=""/>
            <p:cNvSpPr/>
            <p:nvPr/>
          </p:nvSpPr>
          <p:spPr>
            <a:xfrm>
              <a:off x="6156360" y="2421000"/>
              <a:ext cx="216072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56360" y="2565360"/>
              <a:ext cx="23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Verdana"/>
                  <a:hlinkClick r:id="rId1" action="ppaction://hlinksldjump"/>
                </a:rPr>
                <a:t>350/380</a:t>
              </a:r>
              <a:r>
                <a:rPr b="0" lang="en-US" sz="2400" spc="-1" strike="noStrike" u="sng">
                  <a:solidFill>
                    <a:srgbClr val="333399"/>
                  </a:solidFill>
                  <a:uFillTx/>
                  <a:latin typeface="Verdana"/>
                </a:rPr>
                <a:t> 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5640" y="5805360"/>
            <a:ext cx="3672000" cy="576360"/>
            <a:chOff x="755640" y="5805360"/>
            <a:chExt cx="3672000" cy="576360"/>
          </a:xfrm>
        </p:grpSpPr>
        <p:sp>
          <p:nvSpPr>
            <p:cNvPr id="70" name=""/>
            <p:cNvSpPr/>
            <p:nvPr/>
          </p:nvSpPr>
          <p:spPr>
            <a:xfrm>
              <a:off x="755640" y="5805360"/>
              <a:ext cx="3672000" cy="57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6920" y="5805360"/>
              <a:ext cx="36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Entry 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292720" y="5661000"/>
            <a:ext cx="3456000" cy="792360"/>
            <a:chOff x="5292720" y="5661000"/>
            <a:chExt cx="3456000" cy="792360"/>
          </a:xfrm>
        </p:grpSpPr>
        <p:sp>
          <p:nvSpPr>
            <p:cNvPr id="73" name="">
              <a:hlinkClick r:id="rId2" action="ppaction://hlinksldjump"/>
            </p:cNvPr>
            <p:cNvSpPr/>
            <p:nvPr/>
          </p:nvSpPr>
          <p:spPr>
            <a:xfrm>
              <a:off x="5292720" y="5661000"/>
              <a:ext cx="345600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78560" y="5805360"/>
              <a:ext cx="30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Verdana"/>
                </a:rPr>
                <a:t>Certificazione fin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826920" y="1125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Competenza minima per insegnare la lingua nella scuola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372360" y="1341360"/>
            <a:ext cx="1655640" cy="647640"/>
            <a:chOff x="6372360" y="1341360"/>
            <a:chExt cx="1655640" cy="647640"/>
          </a:xfrm>
        </p:grpSpPr>
        <p:sp>
          <p:nvSpPr>
            <p:cNvPr id="77" name=""/>
            <p:cNvSpPr/>
            <p:nvPr/>
          </p:nvSpPr>
          <p:spPr>
            <a:xfrm>
              <a:off x="6659640" y="1341360"/>
              <a:ext cx="115236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72360" y="1413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Verdana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900000" y="436572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umero docenti per 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932360" y="4221000"/>
            <a:ext cx="3168720" cy="1295640"/>
            <a:chOff x="4932360" y="4221000"/>
            <a:chExt cx="3168720" cy="1295640"/>
          </a:xfrm>
        </p:grpSpPr>
        <p:sp>
          <p:nvSpPr>
            <p:cNvPr id="81" name=""/>
            <p:cNvSpPr/>
            <p:nvPr/>
          </p:nvSpPr>
          <p:spPr>
            <a:xfrm>
              <a:off x="4932360" y="4221000"/>
              <a:ext cx="3168720" cy="129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76720" y="4437000"/>
              <a:ext cx="280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Verdana"/>
                </a:rPr>
                <a:t>non superiore a 20 unit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3" name=""/>
          <p:cNvCxnSpPr>
            <a:stCxn id="75" idx="3"/>
            <a:endCxn id="78" idx="0"/>
          </p:cNvCxnSpPr>
          <p:nvPr/>
        </p:nvCxnSpPr>
        <p:spPr>
          <a:xfrm flipV="1">
            <a:off x="4642920" y="1412640"/>
            <a:ext cx="2558520" cy="306720"/>
          </a:xfrm>
          <a:prstGeom prst="bentConnector4">
            <a:avLst>
              <a:gd name="adj1" fmla="val 33760"/>
              <a:gd name="adj2" fmla="val 174735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9" idx="3"/>
            <a:endCxn id="81" idx="0"/>
          </p:cNvCxnSpPr>
          <p:nvPr/>
        </p:nvCxnSpPr>
        <p:spPr>
          <a:xfrm flipV="1">
            <a:off x="3348000" y="4220640"/>
            <a:ext cx="3169440" cy="556560"/>
          </a:xfrm>
          <a:prstGeom prst="curvedConnector5">
            <a:avLst>
              <a:gd name="adj1" fmla="val 24991"/>
              <a:gd name="adj2" fmla="val 70550"/>
              <a:gd name="adj3" fmla="val 24991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4" idx="0"/>
            <a:endCxn id="67" idx="0"/>
          </p:cNvCxnSpPr>
          <p:nvPr/>
        </p:nvCxnSpPr>
        <p:spPr>
          <a:xfrm flipH="1" flipV="1" rot="5400000">
            <a:off x="5760720" y="1160280"/>
            <a:ext cx="216720" cy="2737080"/>
          </a:xfrm>
          <a:prstGeom prst="curvedConnector5">
            <a:avLst>
              <a:gd name="adj1" fmla="val 205823"/>
              <a:gd name="adj2" fmla="val 50000"/>
              <a:gd name="adj3" fmla="val 205823"/>
            </a:avLst>
          </a:prstGeom>
          <a:ln w="9360">
            <a:solidFill>
              <a:srgbClr val="333399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1187280" y="3573360"/>
            <a:ext cx="1081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515772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2349360"/>
            <a:ext cx="288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Le modalità di frui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evalentemente in presenza (corsi intensivi, estensivi, mi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lessibilità attraver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iziative opzionali a distanza in auto-formazione  (novità dei laboratori) per un massimo del 1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filo linguistico del docente di lingua (scuola prim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333399"/>
                </a:solidFill>
                <a:latin typeface="Arial"/>
              </a:rPr>
              <a:t>Cos’è il lab sincro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2520" y="1268280"/>
            <a:ext cx="8642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per corsisti con livello</a:t>
            </a: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333399"/>
                </a:solidFill>
                <a:latin typeface="Symbol"/>
                <a:ea typeface="Symbol"/>
              </a:rPr>
              <a:t></a:t>
            </a: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 A2</a:t>
            </a: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e in futuro per chi finisce la 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un percorso opzionale (pacchetti di ca 5 ore)  da negoziare in sede di patto forma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Temi diversificati ed in particolare fiction RAI e prodotti TV per bambini in cui vi sono sessioni preliminari, lavoro autonomo, conversazione sincr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l profilo lingui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me nucleo centrale di competenze per insegnare (linguistiche generali + lingua di classe, professionali, consapevolezza linguist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Partendo dal Framework e dettagliando ambiti e contesti d’uso ad hoc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Sviluppando la professiona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Attivando processi di consapevolezza lingui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 valuta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cura dei CLA ma secondo un format condiviso e il raccordo tra scuola e univers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vello B1 e 5 a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iteri comuni per la tipologia delle prove e le procedure di somminist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erenza con il profilo del docente di scuola pri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iferale - Gugliotta</a:t>
            </a:r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9:56:10Z</dcterms:created>
  <dc:creator>MIUR</dc:creator>
  <dc:description/>
  <dc:language>en-US</dc:language>
  <cp:lastModifiedBy>portatil</cp:lastModifiedBy>
  <dcterms:modified xsi:type="dcterms:W3CDTF">2007-09-18T07:23:54Z</dcterms:modified>
  <cp:revision>108</cp:revision>
  <dc:subject/>
  <dc:title>Seminario intensivo per moderatori di attività sincrona</dc:title>
</cp:coreProperties>
</file>