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2683-3B0F-4476-BC56-4E898DF15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8D5B-7C52-4550-9390-6D3FAC6AA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0771-6E42-4CA6-8F58-3F6F8CF07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139B-9784-4B2E-A39A-D1762B3537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FC2D-96D5-44BB-94AE-48535DE8EA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11A7-42A6-49A4-B68D-E11AFD1F5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46EC-6A41-4045-B081-A093870E2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BAD4-D8D8-49A2-BDCB-F9321094C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98A0-8FC7-43AF-A275-685E3C434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D963-D6A0-48BE-8D3B-5DBE5AA99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EE93-572E-411F-B640-683C8D7CE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4260-E505-4858-97E5-8420A886D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-243000"/>
            <a:ext cx="11925360" cy="3809880"/>
            <a:chOff x="-3238560" y="-24300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442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-24300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280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250920" y="623736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66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66"/>
                </a:solidFill>
                <a:latin typeface="Verdana"/>
              </a:rPr>
              <a:t>Diapositiva </a:t>
            </a:r>
            <a:fld id="{7CB8B0A9-5957-49D9-8B35-A6EA232B012B}" type="slidenum">
              <a:rPr b="1" lang="en-US" sz="1000" spc="-1" strike="noStrike">
                <a:solidFill>
                  <a:srgbClr val="006666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6666"/>
                </a:solidFill>
                <a:latin typeface="Verdana"/>
              </a:rPr>
              <a:t>/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2000" y="189000"/>
            <a:ext cx="74548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ntro Linguistico di Aten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42920" y="2781360"/>
            <a:ext cx="7705800" cy="1942920"/>
          </a:xfrm>
          <a:prstGeom prst="rect">
            <a:avLst/>
          </a:prstGeom>
          <a:solidFill>
            <a:srgbClr val="e3f1f1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971640" y="2971800"/>
            <a:ext cx="77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6666"/>
                </a:solidFill>
                <a:latin typeface="Verdana"/>
              </a:rPr>
              <a:t>Collaborative Lear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6666"/>
                </a:solidFill>
                <a:latin typeface="Verdana"/>
              </a:rPr>
              <a:t>per l’insegnamento dell’ingle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6666"/>
                </a:solidFill>
                <a:latin typeface="Verdana"/>
              </a:rPr>
              <a:t>nella scuola primar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532720" y="112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7023-FE91-4CA1-9F53-1F5C83681E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71640" y="159876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6666"/>
                </a:solidFill>
                <a:latin typeface="Verdana"/>
              </a:rPr>
              <a:t>Collaborative learning per l’inseg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6666"/>
                </a:solidFill>
                <a:latin typeface="Verdana"/>
              </a:rPr>
              <a:t>dell’inglese nella scuola pri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186920" y="2491920"/>
            <a:ext cx="770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: responsabile della certificazione fin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o degli obiettivi dell’interazione fra CLA e US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re un clima disteso per lo svolgimento delle prov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766764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810108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532720" y="112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6266-E929-4AE8-967C-3D7AEDF655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71640" y="1628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Cont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8099280" y="112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532720" y="112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24200" y="4873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cla@unibas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3240" y="473544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24200" y="234936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Via Nazario Sauro, 8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82800" y="5354640"/>
            <a:ext cx="682560" cy="762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24200" y="35830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0971/202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24200" y="4203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0971/2023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014480" y="2386080"/>
            <a:ext cx="533160" cy="509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24200" y="29448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Lunedì-Giovedì, 10.00-1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941400" y="2732040"/>
            <a:ext cx="67788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903240" y="3338640"/>
            <a:ext cx="876240" cy="671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882720" y="4059360"/>
            <a:ext cx="752400" cy="761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08000" y="5565600"/>
            <a:ext cx="57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66"/>
                </a:solidFill>
                <a:latin typeface="Verdana"/>
              </a:rPr>
              <a:t>http://www.unibas.it/centri/Hom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3280" y="4076640"/>
            <a:ext cx="352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razie per l'attenzion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2B59-253B-46E5-8128-907B2562C8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89F9-BBC3-4D59-8C5C-0761999F34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66764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10108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532720" y="112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16000" y="2133720"/>
          <a:ext cx="7201080" cy="4214520"/>
        </p:xfrm>
        <a:graphic>
          <a:graphicData uri="http://schemas.openxmlformats.org/drawingml/2006/table">
            <a:tbl>
              <a:tblPr/>
              <a:tblGrid>
                <a:gridCol w="1913040"/>
                <a:gridCol w="1093680"/>
                <a:gridCol w="4194360"/>
              </a:tblGrid>
              <a:tr h="715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Basic 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Breakthrou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(</a:t>
                      </a:r>
                      <a:r>
                        <a:rPr b="0" i="1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Introduttivo</a:t>
                      </a: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Ways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(</a:t>
                      </a:r>
                      <a:r>
                        <a:rPr b="0" i="1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Intermedio</a:t>
                      </a: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Independent 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Thres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(</a:t>
                      </a:r>
                      <a:r>
                        <a:rPr b="0" i="1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Soglia</a:t>
                      </a: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Va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(</a:t>
                      </a:r>
                      <a:r>
                        <a:rPr b="0" i="1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Indipendente</a:t>
                      </a: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Proficient 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ffective Operational Pro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(</a:t>
                      </a:r>
                      <a:r>
                        <a:rPr b="0" i="1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Autonomo</a:t>
                      </a: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Mast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(</a:t>
                      </a:r>
                      <a:r>
                        <a:rPr b="0" i="1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Padronanza</a:t>
                      </a: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564000" y="1484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Tabella CE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46D9-03FD-46F1-9AC8-9D5356597A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766764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810108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532720" y="112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5661000"/>
            <a:ext cx="0" cy="57636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5661000"/>
            <a:ext cx="129528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68360" y="5084640"/>
            <a:ext cx="0" cy="57636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5084640"/>
            <a:ext cx="129564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4508640"/>
            <a:ext cx="0" cy="57600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4508640"/>
            <a:ext cx="129528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3933720"/>
            <a:ext cx="0" cy="57636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59280" y="3933720"/>
            <a:ext cx="129528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56360" y="3357720"/>
            <a:ext cx="0" cy="57600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3357720"/>
            <a:ext cx="129528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2781360"/>
            <a:ext cx="0" cy="57636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51640" y="2781360"/>
            <a:ext cx="129564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87280" y="5805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465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40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67640" y="2924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144612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20277600">
            <a:off x="2700360" y="3429000"/>
            <a:ext cx="1871640" cy="504720"/>
          </a:xfrm>
          <a:prstGeom prst="rightArrow">
            <a:avLst>
              <a:gd name="adj1" fmla="val 50000"/>
              <a:gd name="adj2" fmla="val 9270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8D30-0F1F-4CFA-A9FC-3FC36F7812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26920" y="148428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6666"/>
                </a:solidFill>
                <a:latin typeface="Verdana"/>
              </a:rPr>
              <a:t>Tabella Equipa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66764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810108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532720" y="112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16000" y="2276640"/>
          <a:ext cx="7272360" cy="3546360"/>
        </p:xfrm>
        <a:graphic>
          <a:graphicData uri="http://schemas.openxmlformats.org/drawingml/2006/table">
            <a:tbl>
              <a:tblPr/>
              <a:tblGrid>
                <a:gridCol w="1817640"/>
                <a:gridCol w="1819440"/>
                <a:gridCol w="1817640"/>
                <a:gridCol w="18176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Facol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Ling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nte Certific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Livello di Part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f1f1"/>
                    </a:solidFill>
                  </a:tcPr>
                </a:tc>
              </a:tr>
              <a:tr h="414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Agr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Franc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Al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ELF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Ingl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Cambri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P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Ingl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Tri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ISE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Ingegn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Ingl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Cambri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Ingl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Tri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ISE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Sci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Ingl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Cambri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Ingl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Tri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ISE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A9DD-196F-4100-9CEA-EBA2897260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1640" y="15987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Fondato nel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369800" y="2859120"/>
            <a:ext cx="731340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                        </a:t>
            </a: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Presidenti del C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Cosimo Damiano Fonseca, storico         2000 - 20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(già Rettore dell’Ateneo Lucan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Valeria    Sperti               , francesista   2002 -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Vincenzo Caputo             , ingegnere     2006 - ...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                                           </a:t>
            </a: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geotecnic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766764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810108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532720" y="112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6107-6E42-4A85-9321-8494A5C9D1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1640" y="15987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Personale con specifiche competenze lingu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69800" y="2859120"/>
            <a:ext cx="731340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11 esperti di madre lingua                         “lettori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(inglese, francese, spagnolo, tedesc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Direttore Tecnico            dott.       Piero Raffael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collaboratori linguistici    dott.       Marco Albane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                                        </a:t>
            </a: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dott. ssa  Maria Tricaric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766764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810108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532720" y="112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A456-D491-4D35-BFCF-4BC085B5D2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1640" y="15987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Compito primario del C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69800" y="2491920"/>
            <a:ext cx="7313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Insegnamento delle lingue straniere a tutti gli allie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dell’Ateneo Luc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... non solo agli allievi del Corso di Lingue del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Facoltà di Lettere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... ma anche agli allievi dei Corsi di Laurea di tut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le Facoltà, Scientifiche ed Umanisti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766764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810108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2720" y="112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2E1F-1121-4FE1-8D52-231177DC4C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71640" y="15987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Nuove iniziative, a partire dal 2006-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69800" y="2491920"/>
            <a:ext cx="75229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Offerta formativa all’interno dell’Atene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- miglioramento ed amplia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Offerta formativa all’esterno dell’Atene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- ampia disponibilità ad interagire con il mondo este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Interlocutore preferenziale: il mondo della scuol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nostra naturale interfac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766764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810108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532720" y="112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F850-FC17-40AA-97F4-1A6690FE0A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71640" y="15987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L’offerta formativa all’interno dell’Ate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369800" y="2491920"/>
            <a:ext cx="75229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- miglioram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placement test per tutte le matricole dell’atene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(... a proposito di interfacciamento .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- ampliam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Corsi di lingua anche p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- Personale Tecnico Amministrativ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- Allievi dei Corsi di Dottora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66"/>
                </a:solidFill>
                <a:latin typeface="Verdana"/>
              </a:rPr>
              <a:t>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766764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810108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532720" y="112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0ABF-99A8-4561-A29C-C317164AB7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71640" y="15987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L’offerta formativa all’esterno dell’Ate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186920" y="2491920"/>
            <a:ext cx="770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Corsi di lingua per soggetti pubblici e privat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- alcuni in via di svolgi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- alcuni in via di defini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66764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810108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532720" y="112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8925-F108-472A-B253-7226391EA9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71640" y="15987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L’interazione con l’Ufficio Scolastico Reg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186920" y="2491920"/>
            <a:ext cx="770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ue interlocutori di rifer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ott. Franco Inglese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Direttore Genera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ott. ssa Marialuisa Sabin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Referente Regionale Lingue Stranier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66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766764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810108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532720" y="112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0FEB-5804-4F3F-8D70-E4EC7BD945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15987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Alcune iniziative in co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86920" y="2491920"/>
            <a:ext cx="770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giornata di studio sulla lingua tedes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l progetto Poseid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llaborative Learning per l’insegnamen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ell’Inglese nella scuola prim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766764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8101080" y="112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532720" y="1125360"/>
            <a:ext cx="432000" cy="43200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D229-6D3E-4BE3-9364-8C4E529D26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5:52:56Z</dcterms:created>
  <dc:creator>Pers. Tec. Spec. CLA</dc:creator>
  <dc:description/>
  <dc:language>en-US</dc:language>
  <cp:lastModifiedBy>Caputo</cp:lastModifiedBy>
  <dcterms:modified xsi:type="dcterms:W3CDTF">2007-09-16T22:55:22Z</dcterms:modified>
  <cp:revision>94</cp:revision>
  <dc:subject/>
  <dc:title>Centro Linguistico di Ateneo  cla@unibas.it http://www.unibas.it/centri/cla/Home.htm </dc:title>
</cp:coreProperties>
</file>