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ECB-A5C7-4465-AE1F-E7330E8C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797-9E79-40C1-AC6B-A829755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A88-C5CE-4D80-BDB2-EF75E62A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909-D89B-458A-9135-C5BD2A46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2A1-8D88-462A-A0F5-28A3860F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6A4-B32D-4B03-BDC8-EA3B5DF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FB2-51ED-4B64-AC5A-83EE25AD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25B-E15B-4C3E-B266-6ADED05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476-744F-4E28-93FC-F6171CAD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77C-E563-43AE-983E-D4DA52B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B8B-A57A-4511-94B1-4B182016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A6E-899E-4803-8B6C-F5E07BF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01A3-E4F8-4C70-B637-AD73BD25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0"/>
            <a:ext cx="1447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815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4816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910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41360"/>
            <a:ext cx="9144000" cy="59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llaborative Learning per l’insegnamento dell’Inglese nella scuola primaria</a:t>
            </a:r>
            <a:r>
              <a:rPr b="1" i="1" lang="it-IT" sz="1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PR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Apertura Lavori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Giuseppe De Rosa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Dirigente ITC “A. Loperfido” Ma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Maria Antezza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Presidente Consiglio Regionale Basilic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Saluti istituzionali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Franco Inglese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Direttore Generale USR Basilic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Mario Trifiletti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Dirigente U.S.P. Mate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La formazione in Basilicata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Antonio Autilio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Assessore Cultura e Formazione – Regione Basilic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iano di Formazione Inglese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Nicoletta Biferale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MPI - Dipartimento per l’istruzione  -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er i docenti di scuola primaria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Direzione Generale per il personale della scuola - Ufficio 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Nuova risistemazione piattaforma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Valentina Toci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Agenzia Nazionale per lo </a:t>
            </a: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Sviluppo dell’Autonomia Scolastica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(ex IND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untoEdu Li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Il divertinglese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Mario Orsini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Rai Educational - </a:t>
            </a: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oordinatore del progetto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1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“Il Divertinglese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Lingue e Riforma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Francesco Fasolino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Dirigente Tecnico USR Basilici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ertificazione finale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Piero RAFFAELLI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Direttore Centro Linguistico di Ateneo – </a:t>
            </a: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Università della Basilicat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onclusioni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4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Marialuisa Sabino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Referente Regionale Lingue Straniere -  USR Basilic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	</a:t>
            </a: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Arial Unicode MS"/>
              </a:rPr>
              <a:t>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Ore 14.30 – 15.30 - direttori dei corsi: motivazione e partecipazi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Ore 14.30 – 17.30 Workshop paralleli (20 corsisti ca.) moderati dai formatori lucani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	</a:t>
            </a:r>
            <a:r>
              <a:rPr b="1" lang="it-IT" sz="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Supporti e attività connesse allo sviluppo delle abilità  comunicative</a:t>
            </a:r>
            <a:r>
              <a:rPr b="1" lang="it-IT" sz="1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B_marchio_350x163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1143000" cy="693720"/>
          </a:xfrm>
          <a:prstGeom prst="rect">
            <a:avLst/>
          </a:prstGeom>
          <a:ln w="0">
            <a:noFill/>
          </a:ln>
        </p:spPr>
      </p:pic>
      <p:pic>
        <p:nvPicPr>
          <p:cNvPr id="47" name="logo-USR" descr=""/>
          <p:cNvPicPr/>
          <p:nvPr/>
        </p:nvPicPr>
        <p:blipFill>
          <a:blip r:embed="rId3"/>
          <a:stretch/>
        </p:blipFill>
        <p:spPr>
          <a:xfrm>
            <a:off x="2411280" y="765000"/>
            <a:ext cx="177192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divertinglese" descr=""/>
          <p:cNvPicPr/>
          <p:nvPr/>
        </p:nvPicPr>
        <p:blipFill>
          <a:blip r:embed="rId4"/>
          <a:stretch/>
        </p:blipFill>
        <p:spPr>
          <a:xfrm>
            <a:off x="6588000" y="765000"/>
            <a:ext cx="2057400" cy="641520"/>
          </a:xfrm>
          <a:prstGeom prst="rect">
            <a:avLst/>
          </a:prstGeom>
          <a:ln w="0">
            <a:noFill/>
          </a:ln>
        </p:spPr>
      </p:pic>
      <p:pic>
        <p:nvPicPr>
          <p:cNvPr id="49" name="ANSAS" descr=""/>
          <p:cNvPicPr/>
          <p:nvPr/>
        </p:nvPicPr>
        <p:blipFill>
          <a:blip r:embed="rId5"/>
          <a:stretch/>
        </p:blipFill>
        <p:spPr>
          <a:xfrm>
            <a:off x="4500720" y="765000"/>
            <a:ext cx="1523880" cy="547920"/>
          </a:xfrm>
          <a:prstGeom prst="rect">
            <a:avLst/>
          </a:prstGeom>
          <a:ln w="0">
            <a:noFill/>
          </a:ln>
        </p:spPr>
      </p:pic>
      <p:pic>
        <p:nvPicPr>
          <p:cNvPr id="50" name="logo_MPI_a1" descr=""/>
          <p:cNvPicPr/>
          <p:nvPr/>
        </p:nvPicPr>
        <p:blipFill>
          <a:blip r:embed="rId6"/>
          <a:stretch/>
        </p:blipFill>
        <p:spPr>
          <a:xfrm>
            <a:off x="0" y="76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07:17:19Z</dcterms:created>
  <dc:creator>itcpa</dc:creator>
  <dc:description/>
  <dc:language>en-US</dc:language>
  <cp:lastModifiedBy>portatil</cp:lastModifiedBy>
  <dcterms:modified xsi:type="dcterms:W3CDTF">2007-09-18T07:05:59Z</dcterms:modified>
  <cp:revision>13</cp:revision>
  <dc:subject/>
  <dc:title>ISTITUTO TECNICO COMMERCIALE “A. LOPERFIDO” MATERA  </dc:title>
</cp:coreProperties>
</file>