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08960"/>
            <a:ext cx="2971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239-C0FC-420F-86D6-7BD0D777155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5400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04840"/>
            <a:ext cx="54864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qui in poi emerge il valore aggiunto che un ambiente blended può dare anche non solo al corsista ma anche ad un tutor che lo utilizza nel modo gius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BDC-F0AF-4557-A345-C18ECDBB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5BB-5ABF-4C6A-B6D6-C99781A2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811-7B32-4871-AD0F-956EB51C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634-6562-45E6-8D12-6B4115AF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C9E-7AFF-46F7-948D-9C91DAB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691-776D-46D0-A216-E8CB34F3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187-1C5D-49E4-ADAB-81070F9D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610-A966-42CE-9989-94027EEA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195-F74C-4295-A728-81C1BC19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5F7-2B2B-4674-8E1F-E1578C5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473-634E-49ED-8A92-9DE95CC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0E3-3DB2-4A81-966D-05171CC4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1798-8342-4519-AFF2-BE443224C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133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Formazione linguist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per gli insegnanti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della scuola prim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8680" y="6039000"/>
            <a:ext cx="4872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Didattica e form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Seminario formatori di L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33520"/>
            <a:ext cx="8991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rea linguistico comunicativa: evi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lte le aspettative sui diversi versanti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(questionario aspettative corsisti)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ercentuali superiori al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90%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si registrano in relazione al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otenziamento degli aspetti linguistici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Il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94,13%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si pone lo scopo di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pprendere conoscenze spendibili nella vita personale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iminuiscono le percentuali rispetto a: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- Conseguire il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ivello linguistico B1 (89,84%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- Recuperare materiali utili per l’apprendimento o il potenziamento della lingua inglese (87,74%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- Potere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insegnare la lingua inglese nella scuola primaria (76,72%)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reparazione all’esame di certificazione finale esterna (72,27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533520"/>
            <a:ext cx="89917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rea linguistica-comunicativa: elementi posi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L’opinione dei cors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Molto alta la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oddisfazione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dei corsisti verso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l’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esperienz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 conclusa. Leggermente meno soddisfatto è chi esce dal percorso formativo per il raggiungimento del livello B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(Questionario intermedio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93,25%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delle risposte si colloca sui valori 6=completamente soddisfatto, 3, 4;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questionario finale (B1) (83,49%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rmatori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Alto il grado di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disponibilità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(il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97,36%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dei valori si colloca su “6, 5, 4”),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competenza (96,39%),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 chiarezza (91,83%), capacità di motivare i corsisti (87,0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L’opinio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dei form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Molto alto il grado di soddisfazione dei formatori verso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’esperienza formativ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l 32,94% si giudica completamente soddisfatto, il 50,59% indica il valore “5”, il 14,12% “4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l’efficacia del percorso in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ermini di apprendimento dei corsisti.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L’89,41% delle risposte si colloca sui valori: “6= alto”, “5”, “4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99172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Area linguistica-comunicativa: elementi cr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Offerta RAI e sincr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99"/>
                </a:solidFill>
                <a:uFillTx/>
                <a:latin typeface="Arial"/>
              </a:rPr>
              <a:t>L’opinione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it-IT" sz="1600" spc="-1" strike="noStrike" u="sng">
                <a:solidFill>
                  <a:srgbClr val="003399"/>
                </a:solidFill>
                <a:uFillTx/>
                <a:latin typeface="Arial"/>
              </a:rPr>
              <a:t>dei form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Bassa percentuale dei formatori che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si sono serviti dei materiali sul sito Rai: 20,24 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Si alza leggermente l’uso dei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materiali presenti in PuntoEdu risorse: 36,90%.</a:t>
            </a:r>
            <a:br>
              <a:rPr sz="1600"/>
            </a:b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99"/>
                </a:solidFill>
                <a:uFillTx/>
                <a:latin typeface="Arial"/>
              </a:rPr>
              <a:t>Il punto di vista dei corsi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Arial"/>
              </a:rPr>
              <a:t>Trasmissioni 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Bassa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la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fruizione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: solo il 17,36% le ha seguite. L’11,98% dei rispondenti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non era a conoscenza dell’iniziativa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Arial"/>
              </a:rPr>
              <a:t>Sincr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Alta la percentuale di chi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non ha partecipato agli eventi sincroni: 90,32%.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Diverse le motivazioni: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difficoltà tecnologiche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hanno scoraggiato la fruizione: 33,42%; eccessivo l’impegno in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termini di tempo: 32,07%;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difficoltà di alcuni corsisti a sperimentare una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metodologia innovativa (23,91% ).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uperare le criticità: l’evoluzione del modello nell’area comunicativo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286000"/>
            <a:ext cx="83055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È stato avviato un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progetto di ricercazione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su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profilo delle competenze linguistiche in uscita del docente (livello B1)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atto a garantire una maggiore omogeneità nazionale e supportare sia i formatori che i corsisti coinvolti nel piano di form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Sono state progettate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nuove attività di conversazione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secondo un modello che permetta una maggiore condivisione e partecipazione da parte dei corsi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Area comunicativo lingu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Progettazione 2007/2008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160" y="15228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alità di fruizione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2920" y="1125360"/>
            <a:ext cx="3133800" cy="3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zione de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cc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46080" y="1130400"/>
            <a:ext cx="5162760" cy="10314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a prenotazione ad un laboratorio prev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’iscrizione ad un gruppo di attività (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pacchett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ssegnano 5 ore di frui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8" idx="3"/>
            <a:endCxn id="109" idx="1"/>
          </p:cNvCxnSpPr>
          <p:nvPr/>
        </p:nvCxnSpPr>
        <p:spPr>
          <a:xfrm>
            <a:off x="3276720" y="1304640"/>
            <a:ext cx="358920" cy="345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79280" y="3067200"/>
            <a:ext cx="3133800" cy="3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onoscimento delle 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3036960"/>
            <a:ext cx="5257800" cy="12484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i docenti in formazione vengono riconosciute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ssimo 10 ore di fruizione equivalenti al 10% del monte ore annuale. 10 ore equivalgono a 2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pacchetti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1" idx="3"/>
            <a:endCxn id="112" idx="1"/>
          </p:cNvCxnSpPr>
          <p:nvPr/>
        </p:nvCxnSpPr>
        <p:spPr>
          <a:xfrm>
            <a:off x="3312720" y="3246480"/>
            <a:ext cx="322920" cy="41976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79280" y="5168880"/>
            <a:ext cx="3133800" cy="3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zioni Classi Virt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167440"/>
            <a:ext cx="5257800" cy="9169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i docente è abbinato ad un moderatore per la durata dell’intero pacchetto e una classe virtuale. I partecipanti ad ogni pacchetto sono max.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4" idx="3"/>
            <a:endCxn id="115" idx="1"/>
          </p:cNvCxnSpPr>
          <p:nvPr/>
        </p:nvCxnSpPr>
        <p:spPr>
          <a:xfrm>
            <a:off x="3312720" y="5347800"/>
            <a:ext cx="322920" cy="28332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0160" y="15228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alità di fruizione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143000"/>
            <a:ext cx="3133800" cy="3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cc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962520"/>
            <a:ext cx="3133800" cy="3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505320"/>
            <a:ext cx="5410440" cy="29451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Il pacchetto inizia con una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sessione preliminare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in sincrono in cui i docenti vengono guidati dal moderatore per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condividere temi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materiali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autentici ed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attività didattiche (1 ora e 30);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il docente in autonomia o con il gruppo di colleghi della CV svolge alcune attività consigliate dal moderatore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(visione programma in TV o in videosteraming, weblearning in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asincron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; riflessione sull’uso didattico dei materiali…)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(2 ore);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il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docente partecipa alla conversazione guidata vera e propria (1 ora e 30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838080"/>
            <a:ext cx="5562720" cy="2167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I pacchetti sono su due livelli (A2 e B1) e si incentrano su argomenti delle trasmissioni RAI per scopi di sviluppo delle competenze linguistiche (es.: si parte dal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Divertinglese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docenti e si sviluppano </a:t>
            </a:r>
            <a:r>
              <a:rPr b="1" lang="it-IT" sz="1700" spc="-1" strike="noStrike" u="sng">
                <a:solidFill>
                  <a:srgbClr val="333399"/>
                </a:solidFill>
                <a:uFillTx/>
                <a:latin typeface="Arial"/>
              </a:rPr>
              <a:t>attività di tipo linguistico-comunciativo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) e eventualmente altre proposte di argomenti su piattaforma </a:t>
            </a:r>
            <a:r>
              <a:rPr b="1" lang="it-IT" sz="1700" spc="-1" strike="noStrike">
                <a:solidFill>
                  <a:srgbClr val="333399"/>
                </a:solidFill>
                <a:latin typeface="Arial"/>
              </a:rPr>
              <a:t>INDIRE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 per lo sviluppo delle competenze professionali (es.: si parte dal </a:t>
            </a:r>
            <a:r>
              <a:rPr b="0" i="1" lang="it-IT" sz="1700" spc="-1" strike="noStrike">
                <a:solidFill>
                  <a:srgbClr val="333399"/>
                </a:solidFill>
                <a:latin typeface="Arial"/>
              </a:rPr>
              <a:t>Paese dei balocchi e </a:t>
            </a:r>
            <a:r>
              <a:rPr b="1" lang="it-IT" sz="1700" spc="-1" strike="noStrike" u="sng">
                <a:solidFill>
                  <a:srgbClr val="333399"/>
                </a:solidFill>
                <a:uFillTx/>
                <a:latin typeface="Arial"/>
              </a:rPr>
              <a:t>si riflette sull’uso didattico</a:t>
            </a:r>
            <a:r>
              <a:rPr b="0" i="1" lang="it-IT" sz="17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3"/>
            <a:endCxn id="121" idx="1"/>
          </p:cNvCxnSpPr>
          <p:nvPr/>
        </p:nvCxnSpPr>
        <p:spPr>
          <a:xfrm>
            <a:off x="3133800" y="1322280"/>
            <a:ext cx="295560" cy="602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9" idx="3"/>
            <a:endCxn id="120" idx="1"/>
          </p:cNvCxnSpPr>
          <p:nvPr/>
        </p:nvCxnSpPr>
        <p:spPr>
          <a:xfrm>
            <a:off x="3133440" y="4141800"/>
            <a:ext cx="44820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10798" t="19240" r="11717" b="6684"/>
          <a:stretch/>
        </p:blipFill>
        <p:spPr>
          <a:xfrm>
            <a:off x="395280" y="692280"/>
            <a:ext cx="8209080" cy="588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08560" y="22860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’a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285400">
            <a:off x="1258560" y="4221000"/>
            <a:ext cx="2376360" cy="1009800"/>
          </a:xfrm>
          <a:custGeom>
            <a:avLst/>
            <a:gdLst>
              <a:gd name="textAreaLeft" fmla="*/ 371160 w 2376360"/>
              <a:gd name="textAreaRight" fmla="*/ 2079360 w 2376360"/>
              <a:gd name="textAreaTop" fmla="*/ 252360 h 1009800"/>
              <a:gd name="textAreaBottom" fmla="*/ 757440 h 1009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2060640"/>
            <a:ext cx="3887640" cy="4392720"/>
          </a:xfrm>
          <a:prstGeom prst="rect">
            <a:avLst/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52440" y="15228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a hom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0" t="0" r="-7080" b="991"/>
          <a:stretch/>
        </p:blipFill>
        <p:spPr>
          <a:xfrm>
            <a:off x="754200" y="620640"/>
            <a:ext cx="770544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40000" y="5229360"/>
            <a:ext cx="3529080" cy="1152360"/>
          </a:xfrm>
          <a:prstGeom prst="rect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942160" cy="4722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2133720"/>
            <a:ext cx="2895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209680"/>
            <a:ext cx="27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a tipologia di laboratori con scadenza mens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argomenti diversi ogni m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um di dialogo e condivisione con il moder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520" y="15228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scrizione offerta livell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64033" t="18512" r="20473" b="35699"/>
          <a:stretch/>
        </p:blipFill>
        <p:spPr>
          <a:xfrm>
            <a:off x="4356000" y="2133720"/>
            <a:ext cx="15112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133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25560" y="853920"/>
            <a:ext cx="1185840" cy="611280"/>
          </a:xfrm>
          <a:prstGeom prst="roundRect">
            <a:avLst>
              <a:gd name="adj" fmla="val 16667"/>
            </a:avLst>
          </a:prstGeom>
          <a:solidFill>
            <a:srgbClr val="e8d1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Form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50200" y="816120"/>
            <a:ext cx="1245960" cy="587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E-t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927600"/>
            <a:ext cx="3465360" cy="1850760"/>
          </a:xfrm>
          <a:prstGeom prst="ellipse">
            <a:avLst/>
          </a:prstGeom>
          <a:solidFill>
            <a:srgbClr val="cf9fff"/>
          </a:solidFill>
          <a:ln w="25560">
            <a:solidFill>
              <a:srgbClr val="003399"/>
            </a:solidFill>
            <a:prstDash val="dash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191120"/>
            <a:ext cx="3006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Ambiente  per la formazione comunicativo-lingu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956520" y="748080"/>
            <a:ext cx="1503360" cy="3416400"/>
          </a:xfrm>
          <a:custGeom>
            <a:avLst/>
            <a:gdLst>
              <a:gd name="textAreaLeft" fmla="*/ 234720 w 1503360"/>
              <a:gd name="textAreaRight" fmla="*/ 1315440 w 1503360"/>
              <a:gd name="textAreaTop" fmla="*/ 853920 h 3416400"/>
              <a:gd name="textAreaBottom" fmla="*/ 2562480 h 3416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0480" y="1897200"/>
            <a:ext cx="171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SCRIVE/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SSOCIA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l cors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404040" y="739440"/>
            <a:ext cx="1650960" cy="3416400"/>
          </a:xfrm>
          <a:custGeom>
            <a:avLst/>
            <a:gdLst>
              <a:gd name="textAreaLeft" fmla="*/ 257760 w 1650960"/>
              <a:gd name="textAreaRight" fmla="*/ 1444680 w 1650960"/>
              <a:gd name="textAreaTop" fmla="*/ 853920 h 3416400"/>
              <a:gd name="textAreaBottom" fmla="*/ 2562480 h 3416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51480" y="3879720"/>
            <a:ext cx="3692520" cy="1901880"/>
          </a:xfrm>
          <a:prstGeom prst="ellipse">
            <a:avLst/>
          </a:prstGeom>
          <a:solidFill>
            <a:srgbClr val="6dc7ff"/>
          </a:solidFill>
          <a:ln w="25560">
            <a:solidFill>
              <a:srgbClr val="003399"/>
            </a:solidFill>
            <a:prstDash val="dashDot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343400"/>
            <a:ext cx="315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Ambiente per la formazione </a:t>
            </a:r>
            <a:br>
              <a:rPr sz="1800"/>
            </a:br>
            <a:r>
              <a:rPr b="1" lang="it-IT" sz="1800" spc="-1" strike="noStrike">
                <a:solidFill>
                  <a:srgbClr val="003399"/>
                </a:solidFill>
                <a:latin typeface="Arial"/>
              </a:rPr>
              <a:t>metodologico - didat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7040" y="1882800"/>
            <a:ext cx="171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SCRIVE/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ASSOCIA</a:t>
            </a:r>
            <a:br>
              <a:rPr sz="2000"/>
            </a:b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il cors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8840" y="1650960"/>
            <a:ext cx="4727880" cy="2367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1671480"/>
            <a:ext cx="4284720" cy="2183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828800"/>
            <a:ext cx="4106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Nel primo incontro in presenza i</a:t>
            </a:r>
            <a:r>
              <a:rPr b="0" lang="it-IT" sz="1800" spc="-1" strike="noStrike">
                <a:solidFill>
                  <a:srgbClr val="a50021"/>
                </a:solidFill>
                <a:latin typeface="Arial"/>
              </a:rPr>
              <a:t> formatori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 e gli </a:t>
            </a:r>
            <a:r>
              <a:rPr b="0" lang="it-IT" sz="1800" spc="-1" strike="noStrike">
                <a:solidFill>
                  <a:srgbClr val="a50021"/>
                </a:solidFill>
                <a:latin typeface="Arial"/>
              </a:rPr>
              <a:t>e-tutor</a:t>
            </a: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  incontrano i propri corsisti </a:t>
            </a:r>
            <a:br>
              <a:rPr sz="1800"/>
            </a:b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e li iscrivono TUTTI ai rispettivi ambie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scrizioni: e-tutor, formato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160" y="1522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fferta livell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1219320"/>
            <a:ext cx="2952720" cy="27367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1295280"/>
            <a:ext cx="27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endario eventi con distinzione della tipologia e data di frui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quanto riguarda le date disponibili in attesa di una partecipazione più consistente i laboratori si svolgeranno alcuni pomeriggi la settim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0872" t="9637" r="13817" b="5710"/>
          <a:stretch/>
        </p:blipFill>
        <p:spPr>
          <a:xfrm>
            <a:off x="0" y="765000"/>
            <a:ext cx="59770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1800" y="2673000"/>
            <a:ext cx="841248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’area metodologico didattica,  ambiente di apprendimento 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 centralità e-tu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81080" y="1284120"/>
            <a:ext cx="4988160" cy="499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440" y="682560"/>
            <a:ext cx="7370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’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-tu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una figura centrale nell’intero percorso formativo: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ACILITATORE, ESPERTO, GESTISCE 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98840" y="1916280"/>
            <a:ext cx="3900240" cy="2350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71640"/>
            <a:ext cx="9144000" cy="927000"/>
          </a:xfrm>
          <a:custGeom>
            <a:avLst/>
            <a:gdLst>
              <a:gd name="textAreaLeft" fmla="*/ 1428480 w 9144000"/>
              <a:gd name="textAreaRight" fmla="*/ 8001000 w 9144000"/>
              <a:gd name="textAreaTop" fmla="*/ 231840 h 927000"/>
              <a:gd name="textAreaBottom" fmla="*/ 695520 h 927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>
              <a:alpha val="70000"/>
            </a:srgbClr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05280" y="4562640"/>
            <a:ext cx="3620880" cy="1590480"/>
          </a:xfrm>
          <a:custGeom>
            <a:avLst/>
            <a:gdLst>
              <a:gd name="textAreaLeft" fmla="*/ 0 w 3620880"/>
              <a:gd name="textAreaRight" fmla="*/ 3621240 w 3620880"/>
              <a:gd name="textAreaTop" fmla="*/ 0 h 1590480"/>
              <a:gd name="textAreaBottom" fmla="*/ 1590840 h 15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29292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440" y="181440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82040" y="1857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1149480"/>
            <a:ext cx="82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ercorso di formazione fro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1120" y="4745160"/>
            <a:ext cx="2222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rasmissione /erog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n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440" y="569880"/>
            <a:ext cx="44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odello di Formazione tradi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09720" y="2022480"/>
            <a:ext cx="3687840" cy="2193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16120" y="4987800"/>
            <a:ext cx="22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22720" y="1946160"/>
            <a:ext cx="4727520" cy="2367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1905120"/>
            <a:ext cx="5638680" cy="23619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209680"/>
            <a:ext cx="495324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Puntoedu  è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Ambiente di app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non erogativo ma basato sull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a50021"/>
                </a:solidFill>
                <a:latin typeface="Arial"/>
              </a:rPr>
              <a:t> circolazione di competenze e conosc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5400000">
            <a:off x="3175920" y="1649880"/>
            <a:ext cx="2782800" cy="43718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8f8f8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84120" y="3054240"/>
            <a:ext cx="9951840" cy="1522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61000" y="3156120"/>
            <a:ext cx="2112840" cy="12556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22920" y="3222720"/>
            <a:ext cx="1981080" cy="1131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47760" y="3164040"/>
            <a:ext cx="2113200" cy="12556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31960" y="5014800"/>
            <a:ext cx="2006640" cy="140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89200" y="5062680"/>
            <a:ext cx="1893960" cy="1298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13240" y="5027760"/>
            <a:ext cx="2006640" cy="1401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369040" y="5086440"/>
            <a:ext cx="1888920" cy="127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62720" y="990720"/>
            <a:ext cx="2006640" cy="14014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5715000" y="1066680"/>
            <a:ext cx="1803240" cy="1255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971800" y="914400"/>
            <a:ext cx="2006640" cy="140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3048120" y="990720"/>
            <a:ext cx="1800000" cy="1197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1752480"/>
            <a:ext cx="188748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708840" y="1010160"/>
            <a:ext cx="1936800" cy="140184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1085760" y="820800"/>
            <a:ext cx="1181160" cy="177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66680" y="1728720"/>
            <a:ext cx="1252800" cy="6476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ate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di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905120"/>
            <a:ext cx="188748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Attività individ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57880" y="5883120"/>
            <a:ext cx="195264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contri in pres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76240" y="5870520"/>
            <a:ext cx="195264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lasse vi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238480" y="3247920"/>
            <a:ext cx="1922400" cy="1076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3600" y="3846600"/>
            <a:ext cx="207180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76840" y="3838680"/>
            <a:ext cx="2071800" cy="325440"/>
          </a:xfrm>
          <a:prstGeom prst="rect">
            <a:avLst/>
          </a:prstGeom>
          <a:solidFill>
            <a:srgbClr val="f8f8f8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CORS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152280" y="327672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Gli strumenti a disposizione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Arial"/>
              </a:rPr>
              <a:t>Area metodologico-didattica: evid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362320"/>
            <a:ext cx="83059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Soddisfazione verso il modello blended propos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Questionario finale e-tutor: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l’80,95%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risponde “6=completamente soddisfatto, 5, 4”,il 19,04% “3, 2, 1=per nulla soddisfatt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Questionario finale corsisti: il 73,2% indica “6, 5, 4”, il 26,8% sui valori “3, 2, 1”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600"/>
            </a:b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Alta soddisfazione verso il percor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Questionario finale corsisti: l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18,75%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ha risposto “6= completamente soddisfatto”, i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35,69%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“5”, i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30,42%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“4”, il 10,42% “3”, il 4,03% “2”, lo 0,69% “1= per nulla soddisfatto”.</a:t>
            </a:r>
            <a:br>
              <a:rPr sz="1600"/>
            </a:b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AutoNum type="arabicPeriod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Chiarezza rispetto alla distinzione tra i due percor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Questionario iniziale e-tutor: i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75%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dichiara 6 “distinzione completamente chiara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242424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Questionario aspettative corsisti: è necessario lavorare sull’informazione ai corsisti. Il 51,68% dichiara “distinzione completamente chiara”, il 22,61% “5”, 17,06% “4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rcRect l="0" t="0" r="0" b="3756"/>
          <a:stretch/>
        </p:blipFill>
        <p:spPr>
          <a:xfrm>
            <a:off x="152280" y="1143000"/>
            <a:ext cx="3907080" cy="5410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191120" y="2230560"/>
            <a:ext cx="4952880" cy="3865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094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riticità: scostamento dal mod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280" y="7621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riticità: uso dei forum e classe virt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7652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Basso uso degli strumenti di comunicazione/collabo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99"/>
                </a:solidFill>
                <a:uFillTx/>
                <a:latin typeface="Arial"/>
              </a:rPr>
              <a:t>L’opinione dei corsisti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Classe virtuale utilizzata solo dal 37,82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Posta elettronica dal 27,8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Risorsa esterna a Punto Edu: 7,5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Il </a:t>
            </a:r>
            <a:r>
              <a:rPr b="1" lang="it-IT" sz="1600" spc="-1" strike="noStrike">
                <a:solidFill>
                  <a:srgbClr val="003399"/>
                </a:solidFill>
                <a:latin typeface="Arial"/>
              </a:rPr>
              <a:t>19,89% non ha fatto ricorso a alcuno strumento di comunicazione on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99"/>
                </a:solidFill>
                <a:uFillTx/>
                <a:latin typeface="Arial"/>
              </a:rPr>
              <a:t>L’opinione dei tutor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Lo strumento di comunicazione maggiormente integrato nel modo di lavorare degli e-tutor è la posta elettronic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- Il forum fa “abbastanza” parte del proprio modo di lavorare (33,33%); il 30,67% lo utilizza solo in caso di necessità; il 20,67% non lo usa. Solo il 15,33% ha integrato l’uso dello strumento nella pratica di lavoro e comunicazione in ambito didat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51240" y="3124080"/>
            <a:ext cx="78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voluzione del modello: area metodologico 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rcRect l="10798" t="19240" r="11717" b="6684"/>
          <a:stretch/>
        </p:blipFill>
        <p:spPr>
          <a:xfrm>
            <a:off x="466560" y="692280"/>
            <a:ext cx="8209080" cy="5884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896920" y="1522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’ac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8538600">
            <a:off x="5363640" y="4220280"/>
            <a:ext cx="2376720" cy="1009800"/>
          </a:xfrm>
          <a:custGeom>
            <a:avLst/>
            <a:gdLst>
              <a:gd name="textAreaLeft" fmla="*/ 371160 w 2376720"/>
              <a:gd name="textAreaRight" fmla="*/ 2079720 w 2376720"/>
              <a:gd name="textAreaTop" fmla="*/ 252360 h 1009800"/>
              <a:gd name="textAreaBottom" fmla="*/ 757440 h 1009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2060640"/>
            <a:ext cx="3887640" cy="4392720"/>
          </a:xfrm>
          <a:prstGeom prst="rect">
            <a:avLst/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2133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663480"/>
            <a:ext cx="9144000" cy="5830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22720" y="1946160"/>
            <a:ext cx="4727520" cy="2367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4400" y="2025720"/>
            <a:ext cx="4284720" cy="21826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UTTI i corsisti devono essere iscritti e partecipare al MONITORAGGIO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l momento online ci SOLO attività riservate ai corsisti con competenz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76800" y="4529160"/>
            <a:ext cx="1928880" cy="831960"/>
          </a:xfrm>
          <a:prstGeom prst="leftArrow">
            <a:avLst>
              <a:gd name="adj1" fmla="val 50000"/>
              <a:gd name="adj2" fmla="val 5796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20600" y="15228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 nuclei fond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rcRect l="-192" t="5710" r="3127" b="12586"/>
          <a:stretch/>
        </p:blipFill>
        <p:spPr>
          <a:xfrm>
            <a:off x="685800" y="909720"/>
            <a:ext cx="8001000" cy="525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95640" y="1989000"/>
            <a:ext cx="6948360" cy="44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2060640"/>
            <a:ext cx="5545080" cy="647640"/>
          </a:xfrm>
          <a:prstGeom prst="rect">
            <a:avLst/>
          </a:prstGeom>
          <a:solidFill>
            <a:srgbClr val="d6f6d9"/>
          </a:solidFill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quisizione e appr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40720" y="2060640"/>
            <a:ext cx="647640" cy="647640"/>
          </a:xfrm>
          <a:prstGeom prst="rect">
            <a:avLst/>
          </a:prstGeom>
          <a:noFill/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812000" y="2133720"/>
            <a:ext cx="233280" cy="214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7740720" y="2060280"/>
            <a:ext cx="647640" cy="647640"/>
          </a:xfrm>
          <a:prstGeom prst="line">
            <a:avLst/>
          </a:prstGeom>
          <a:ln w="3168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5640" y="2781360"/>
            <a:ext cx="5545080" cy="647640"/>
          </a:xfrm>
          <a:prstGeom prst="rect">
            <a:avLst/>
          </a:prstGeom>
          <a:solidFill>
            <a:srgbClr val="d6f6d9"/>
          </a:solidFill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idattica li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2781360"/>
            <a:ext cx="647640" cy="647640"/>
          </a:xfrm>
          <a:prstGeom prst="rect">
            <a:avLst/>
          </a:prstGeom>
          <a:noFill/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812000" y="2854440"/>
            <a:ext cx="233280" cy="214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>
            <a:off x="7740720" y="2781000"/>
            <a:ext cx="647640" cy="647640"/>
          </a:xfrm>
          <a:prstGeom prst="line">
            <a:avLst/>
          </a:prstGeom>
          <a:ln w="3168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3500280"/>
            <a:ext cx="5545080" cy="648000"/>
          </a:xfrm>
          <a:prstGeom prst="rect">
            <a:avLst/>
          </a:prstGeom>
          <a:solidFill>
            <a:srgbClr val="d6f6d9"/>
          </a:solidFill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 C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ettazione didattica e ver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3500280"/>
            <a:ext cx="647640" cy="648000"/>
          </a:xfrm>
          <a:prstGeom prst="rect">
            <a:avLst/>
          </a:prstGeom>
          <a:noFill/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812000" y="3573360"/>
            <a:ext cx="233280" cy="21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V="1">
            <a:off x="7740720" y="3500280"/>
            <a:ext cx="647640" cy="648000"/>
          </a:xfrm>
          <a:prstGeom prst="line">
            <a:avLst/>
          </a:prstGeom>
          <a:ln w="3168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4221000"/>
            <a:ext cx="5545080" cy="648000"/>
          </a:xfrm>
          <a:prstGeom prst="rect">
            <a:avLst/>
          </a:prstGeom>
          <a:solidFill>
            <a:srgbClr val="d6f6d9"/>
          </a:solidFill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ingua e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40720" y="4221000"/>
            <a:ext cx="647640" cy="648000"/>
          </a:xfrm>
          <a:prstGeom prst="rect">
            <a:avLst/>
          </a:prstGeom>
          <a:noFill/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7812000" y="4294080"/>
            <a:ext cx="233280" cy="214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7740720" y="4221000"/>
            <a:ext cx="647640" cy="648000"/>
          </a:xfrm>
          <a:prstGeom prst="line">
            <a:avLst/>
          </a:prstGeom>
          <a:ln w="3168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4941720"/>
            <a:ext cx="5545080" cy="648000"/>
          </a:xfrm>
          <a:prstGeom prst="rect">
            <a:avLst/>
          </a:prstGeom>
          <a:solidFill>
            <a:srgbClr val="d6f6d9"/>
          </a:solidFill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ecnologie e mate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40720" y="4941720"/>
            <a:ext cx="647640" cy="648000"/>
          </a:xfrm>
          <a:prstGeom prst="rect">
            <a:avLst/>
          </a:prstGeom>
          <a:noFill/>
          <a:ln w="3492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7812000" y="5014800"/>
            <a:ext cx="233280" cy="214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V="1">
            <a:off x="7740720" y="4941720"/>
            <a:ext cx="647640" cy="648000"/>
          </a:xfrm>
          <a:prstGeom prst="line">
            <a:avLst/>
          </a:prstGeom>
          <a:ln w="31680">
            <a:solidFill>
              <a:srgbClr val="b7c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5410080"/>
            <a:ext cx="3276720" cy="12240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638680"/>
            <a:ext cx="31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modulo ha una micro offerta formativa consigl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1" idx="1"/>
            <a:endCxn id="212" idx="0"/>
          </p:cNvCxnSpPr>
          <p:nvPr/>
        </p:nvCxnSpPr>
        <p:spPr>
          <a:xfrm flipH="1" rot="10800000">
            <a:off x="2176920" y="4923720"/>
            <a:ext cx="5887080" cy="342000"/>
          </a:xfrm>
          <a:prstGeom prst="bentConnector4">
            <a:avLst>
              <a:gd name="adj1" fmla="val -3583"/>
              <a:gd name="adj2" fmla="val 16185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506760" y="1522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l tu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0" t="4050" r="70760" b="0"/>
          <a:stretch/>
        </p:blipFill>
        <p:spPr>
          <a:xfrm>
            <a:off x="-36360" y="907920"/>
            <a:ext cx="2736720" cy="554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29243" t="4050" r="26128" b="51096"/>
          <a:stretch/>
        </p:blipFill>
        <p:spPr>
          <a:xfrm>
            <a:off x="2700360" y="90792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rcRect l="28465" t="47672" r="25364" b="26153"/>
          <a:stretch/>
        </p:blipFill>
        <p:spPr>
          <a:xfrm>
            <a:off x="2627280" y="4940280"/>
            <a:ext cx="4321080" cy="151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rcRect l="73875" t="4050" r="1905" b="44859"/>
          <a:stretch/>
        </p:blipFill>
        <p:spPr>
          <a:xfrm>
            <a:off x="6877080" y="907920"/>
            <a:ext cx="2266920" cy="2952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rcRect l="73875" t="55146" r="1905" b="26180"/>
          <a:stretch/>
        </p:blipFill>
        <p:spPr>
          <a:xfrm>
            <a:off x="6877080" y="5300640"/>
            <a:ext cx="2266920" cy="107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rcRect l="73875" t="93768" r="1905" b="0"/>
          <a:stretch/>
        </p:blipFill>
        <p:spPr>
          <a:xfrm>
            <a:off x="6877080" y="4940280"/>
            <a:ext cx="2266920" cy="360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rcRect l="29243" t="45172" r="26128" b="51096"/>
          <a:stretch/>
        </p:blipFill>
        <p:spPr>
          <a:xfrm>
            <a:off x="2700360" y="3429000"/>
            <a:ext cx="4176720" cy="216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rcRect l="29243" t="45172" r="26128" b="51096"/>
          <a:stretch/>
        </p:blipFill>
        <p:spPr>
          <a:xfrm>
            <a:off x="2700360" y="3573360"/>
            <a:ext cx="4176720" cy="21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rcRect l="29243" t="45172" r="26128" b="51096"/>
          <a:stretch/>
        </p:blipFill>
        <p:spPr>
          <a:xfrm>
            <a:off x="2700360" y="3716280"/>
            <a:ext cx="4176720" cy="21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rot="10528800">
            <a:off x="6587640" y="3715920"/>
            <a:ext cx="792360" cy="576360"/>
          </a:xfrm>
          <a:custGeom>
            <a:avLst/>
            <a:gdLst>
              <a:gd name="textAreaLeft" fmla="*/ 0 w 792360"/>
              <a:gd name="textAreaRight" fmla="*/ 79272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7c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0528800">
            <a:off x="6587640" y="6237000"/>
            <a:ext cx="792360" cy="576360"/>
          </a:xfrm>
          <a:custGeom>
            <a:avLst/>
            <a:gdLst>
              <a:gd name="textAreaLeft" fmla="*/ 0 w 792360"/>
              <a:gd name="textAreaRight" fmla="*/ 792720 w 7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545c54"/>
              </a:gs>
              <a:gs pos="100000">
                <a:srgbClr val="b7c9b8"/>
              </a:gs>
            </a:gsLst>
            <a:lin ang="1647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7621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l monitoraggio: fin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3716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’adeguatezza dell’impianto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progettuale rispetto al target di riferim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a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rrispondenza delle propost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rispetto ai reali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sogni formativ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dei docen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li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mpianti organizzativ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implementati a livello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gional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’emersione dei punti di forza e di debolezza dell’impian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teriali e le attività onlin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proposte per i docenti che aderiscono all’opzione “fino al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0% del monte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ore da svolgere online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li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sit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formativi (livelli di competenza linguistica maturat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’andamento degli abbandoni/trasferimenti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 e l’analisi delle relative motivazion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 rapporti costi/benefi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105520" y="4191120"/>
            <a:ext cx="1904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0666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l monitoraggio quanti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nterviste a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Osservazione delle attività in sinc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nterviste a campione ai partecipanti delle attività in sinc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Interviste ai moderatori di sincr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Arial"/>
              </a:rPr>
              <a:t>Analisi della messaggistica scambiata nei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21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l monitoraggio: strumenti qualit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a50021"/>
                </a:solidFill>
                <a:latin typeface="Arial"/>
              </a:rPr>
              <a:t>Step del monitor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43000" y="2133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3000" y="76212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e fasi dell’area linguistico comunica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607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43000" y="21337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90720" y="1905120"/>
            <a:ext cx="7162560" cy="4275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9907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87631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320" y="106668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e fasi dell’area metodologico didat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rtatil</cp:lastModifiedBy>
  <dcterms:modified xsi:type="dcterms:W3CDTF">2007-09-18T06:57:40Z</dcterms:modified>
  <cp:revision>3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